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DDB-479A-473E-8931-E4F76A24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F30-0EC8-4279-80B7-5FFAC1EC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124-C196-4F14-B54A-3CEB4305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8AB-2823-4ED8-A456-536C15A9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6FA-6FF0-4653-BD01-86005280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E1F0-938C-4B81-94F7-FA877D84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63C2-7DB1-444C-99D3-2C4B4704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CB0D-0473-4068-814C-6158E1F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A5F-D093-43B0-8592-BF59C31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569-41E9-41FE-A0E1-B28174F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261E-178A-49A8-80E0-FFCD8B8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797-0F6A-484B-BF25-FC53789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B4C1-72C3-48D9-90ED-B3BB244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416E-F2D7-4AD9-BE38-F467E20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64A9-13AB-40D9-A3C1-48D738F3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8B4B-C3D2-4389-9024-235B706B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E345-8ACC-4E8E-96DC-89C9BA95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5C6-CF3C-403D-91D3-D1BBA0A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887-9346-4820-90F9-176A35B5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C77-8303-41EA-ADFE-AEA7517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79C-B837-4A7A-9505-88EAA957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D9C-C414-42CA-9193-0BA59FF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76C-ECC7-4DDB-81D5-2444298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FA4-450B-4548-8D8C-94C7FF2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19F2-2269-45D1-B726-B6220B4746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6BC-F0CA-48D4-8AA7-10461D536A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parama.lt/es_parama_pletra/failai/fm/teises_aktai/Stebesenos_komiteto_nutarimai/VP1-2009-05-18-1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3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Lietuvos 2007–2013 m. ES struktūrinės paramos panaudojimo strategija ir veiksmų programo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6666"/>
                </a:solidFill>
                <a:latin typeface="Arial"/>
              </a:rPr>
              <a:t>Kas yra ES struktūrinė parama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uropos Sąjungos struktūrinė parama nuosekliai mažina socialinius ir ekonominius skirtumus tarp ES šalių narių ar atskirų regionų. 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Jos pamatin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ė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s vertyb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ė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s– „solidarumas“ ir „sanglauda“.</a:t>
            </a:r>
            <a:r>
              <a:rPr b="0" lang="pt-PT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4100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Atestuota</a:t>
            </a: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 inžinierė Vilma Mockaitienė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Tel. 8-620-2970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v.mockaitiene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@gmail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04960" y="9572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ES struktūrinės paramos panaudojimo tikslas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parčiai gerinti sąlygas investuoti, dirbti ir gyventi Lietuvoj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d ūkio augimo teikiama nauda pasiektų visus Lietuvos gyventoj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urti patrauklią aplinką gyventi ir dirbti kaimo vietovės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906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Fondų paramos prioritetinės temo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1) Produktyvūs žmogiškieji ištekliai žinių visuomen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2) Konkurencinga ekonom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3) Gyvenimo kokybė ir sanglau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Žmogiškųjų išteklių plėtros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irta visų darbingo amžiaus Lietuvos gyventojų mobilizavimui, nes investicijos į Lietuvos žmonių žinias, gebėjimus, aktyvumą, verslumą patikimai garantuoja ilgalaikį ūkio augim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Ekonomikos augimo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umatoma skirti didžiausią paramos lėšų dalį. Net 10 proc. lėšų numatoma skiri ūkio konkurencingumui ir ekonomikos augimui skirtiems moksliniams tyrimams ir technologinei plėtra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Sanglaudos skatinimo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ri įgyvendinti viziją apie darnesnę visuomenę. Taigi gyvenimo aplinkos ir kokybės gerinimui, mažinant atskirų regionų skirtum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Techninės paramos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pecialioji, papildoma  veiksmų programa, skirta administruoti teminėms veiksmų programo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04960" y="9572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www.esparama.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1517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as</cp:lastModifiedBy>
  <dcterms:modified xsi:type="dcterms:W3CDTF">2011-01-09T12:31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