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928225" cy="6778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1C8-3AEE-437B-BE97-2F93E86E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038-8F52-4408-AB3B-855A048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3A0-17E5-45D2-B54F-9676D3E6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34F-8067-4A91-9B2E-1BDB5799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DFC-4AA1-41FF-805C-58EE5EB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608-AB7F-45CB-96E1-E73B6D65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80A-30A1-4EE0-ABDB-23F63CE4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F29-6A3B-452C-BA33-21AEBCF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CF3-32E5-4381-9949-9C45D20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703-156B-4B43-B744-2D3DAC4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808-8EC4-44E2-A335-08B28DB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60E-BFE8-40AF-B4D8-651E088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FF49-3C12-44EA-81FB-9BE6BC400300}" type="datetime3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31 d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6EA-F94D-44D1-89E1-B0C7C854F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773360"/>
            <a:ext cx="8569440" cy="30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KLAUSYTOJĄ/AUDITORIJĄ ORIENTUOTOS VIEŠOSIOS KALBOS PARENGIMAS IR REALIZAVI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ktorius doc. dr. Artūras Blinstru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889-FA47-4B0B-B1FC-8FF16B062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1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jūs toks? (prisistatymas kaip patyrimo ir išmanymo patvirtini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e KĄ ketinate kalbė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DA baig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aš turėčiau klausytis arba KAS man iš 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P jūs ketinate sudominti šia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27664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atsakymas į auditorijai natūraliai kylančius klausim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5D4-5362-4C6B-8730-C59302D99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2):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INĖ D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7854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nį apsprendžia kalbos rūšis: informavimo, įtikinimo, progi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itelkti į du ar tris pagrindinius kalbos komponen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akyti ir parodyti bei pademonstru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aikytis aiškios struktūros. Naudoti per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ėt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lausytoju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o n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kaitytoj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205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išdėstyti temą ir išlaikyti auditorijos dėmes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BD5-BE83-451C-A7B3-524570078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3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BAIG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isa gerai, kas gerai baigias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umpas, originalus pakartojimas-apibendrinimas to kas kalbėt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frazės-šablonai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baigiant, apibendrinant, reziumuojan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spektyvos atvėrimas, paskatinimas veik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tsakymas į auditorijai kirbantį klausimą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as man iš to?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ai-atsaky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ro galutinio įspūdžio pali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27664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klausytojo psichologinio poreikio pabaigai patenkin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4ED-784E-4D31-9B56-E192D52505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4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ĖJIMAI</a:t>
            </a:r>
            <a:br>
              <a:rPr sz="3200"/>
            </a:b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erėjimai - tai “klijai” laikantys visas kalbos dal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sekliai, rūpestingai vesti klausytojus nuo vienos idėjos ar dalies prie k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ziumuoti, pateikti tarpines išvadas, trumpus ano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 būti panaudoti dėmesiui atkreip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gali tarnauti ne tik kaip stimulai, skelbiantys auditorijai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ji buvo a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dabar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bet ir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link eis toliau)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27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erėjimų funkcij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DA5-B679-4B36-8677-29395E925F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628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149720"/>
            <a:ext cx="676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 AUDITORIJĄ ORIENTUOTO PRANEŠĖJO ATRIBUTAI (dalyko išmanymas, baimės įveikimas, sugebėjimas pelnyti auditorijos pasitikėjimą, aprang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ALBOS STILIAUS ASPEKTAI (balsas, akių kontaktas, mimika, poza, gestai, manieros, hum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17C-779E-4464-90B3-43A73DECC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1)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ote gerai nusimanyti apie tai, ką kal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išmanyti viešojo kalbėjimo pagri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suprasti svarbiausius psichoedukacinius suaugusiųjų auditorijos ypatumu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37000"/>
            <a:ext cx="619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9D3-8DE7-44C1-B39E-A3DFD7EE3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3349800"/>
            <a:ext cx="860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dėl bijome kalbėti...? Kas mums darosi kai nerimaujame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ktikavimasis ir repetav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kymasis tinkamai kvėpuo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kofeino ir niko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Įžanga “be popieriaus”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349360"/>
            <a:ext cx="8064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Nerimo ir auditorijos baimės valdymas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Blogai yra ne nervai – blogai yra nesugebėti jų tramdy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440-FCE3-4C13-B3C9-94732EA1AD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6058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dėl pasitikėjimas neretai prilygsta įtikėjim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sitikėjimas kyla ne iš kalbėtojo, o iš klausyt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niai pasitikėjimo kalbėtoju aspek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0BA-FF4D-430A-B7DC-212431E29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6058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sminiai veiksniai, lemiantys pasitikėjim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arakteris (sąžiningumas, nuoširdumas, patikimu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man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amu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aig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veikas ekstravertiškum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293-611B-4DB9-B4DD-8492A8254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5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880" y="3429000"/>
            <a:ext cx="8947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ranga – pranešimo dalis. Ji turi įsilieti į kalbą, o ne išsiskir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iškumas, konservatyvumas, patogumas, tvarkingu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dėmesį atitraukiančių papuošalų, daiktais “išpūstų” kišeni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endras reikalavimas aprangai – vienu laipteliu aukščiau nei vyraujanti auditorijoj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828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Apranga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Žmonės daro visų rūšių sprendimus, žiūrėdami į aprang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FDA-6E44-4136-B881-813ADA0630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708280"/>
            <a:ext cx="86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augusiųjų auditorijos specif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engimas praneši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ešimo struktū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izdinės priemon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SKAITOS DA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F55-035A-48CC-A889-2E2EFD28A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1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6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eitis. Kalbėjimo tempo derinimas su balso ritmu ir stipr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rsumas ir jo kaitaliojimas. Monoton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tikuliacija ir jos lav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uz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Bals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78B-3C9F-46E4-B4FB-838A193DEF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461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esminis pasitikėjimo veiks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oficiali bendravimo pradž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pagrindinė auditorijos būklės diagnostikos ir kalbos korekcijos priemo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ūk “paieškos prožektorius”, o ne “lazer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ir skait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Akių kontakt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497-AFD5-4057-AFA6-A2C61D136C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4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mikos reikšmė. Šypsena ir jos “dozav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a: stovėsena, sėdė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nkami ir netinkami ges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nieros. Klausytoją erzinantys įpro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verbalinis auditorijos elges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Kūno kalba: mimika, poza, gestai, maniero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D71-4B15-4076-AF30-E275C602AD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84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os paįvairinimas sąmojais - labai subtilu, situatyvu ir individu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aipykitės iš savęs, o ne iš auditor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etninio, rasinio, seksualinio, vulgaraus humoro, sarkaz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iai nutikimai – puiki medžiaga humor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Humora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DC5-6E78-454D-9387-9BE64BB865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773360"/>
            <a:ext cx="856944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5013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IŠVA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2. DEMON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C6C-7407-41AC-B462-3C8789ECA7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VAIZD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880" y="2924280"/>
            <a:ext cx="894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žiūrim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formatyv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ast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izdų-žodžių santykio optimal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ptimalus teksto kiekis (nuo 4x4 iki... 7x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ejimas su pranešimu. Skaidrės - ne skaitiniai. Jos turi atspindėti pagrindinį eskiz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993-E329-4AB2-9892-FCE96E1414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MONSTRAV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880" y="3141720"/>
            <a:ext cx="894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ankstinis pasireng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idrių skaičiaus optimal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avimasis į klausytoją, o ne į priemo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monstravimo skland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B90-C951-408E-BE3D-3C32BAB519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Literatūra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7678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Collins, J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aip įtaigiai kalbėti ir veikti auditoriją: tobulesnio mąstymo ir darbo būtinasis vadov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Knygų spekt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Kushner, M. (1999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Tobula kalba žaliem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Smaltijos leidyk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Nauckūnaitė, Z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Iškalbos mokym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. Švi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akšienė, V., Gutauskienė, A. (2001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Debatai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Šviesa.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as, A. (2003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Dajal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čiulis, Ž. (2004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Efektyvi komunikacij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ersus aure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Spies, S. (2006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a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лди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(2001)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сихология влия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Перевод с англ. – Санкт-Петербург: Пи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42C-732D-4755-9A82-7585E0949C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773360"/>
            <a:ext cx="856944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AUGUSIŲJŲ AUDITORIJOS SPECIFIK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81C-D6C6-49AB-B6B5-1D5E2B352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aiškų tikslą (...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o aš čia sėdžiu?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rangina sav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uoti į problemų sprendi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sta patirti sėkmę, būti pastebėti, pripaž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patirtį, kuri padeda arba... truk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etai yra skeptiški, ypač naujos informacijos atžvil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a... 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EC9-C225-48B7-B38B-449AA1BE9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ėjas įvertins ir sugebės pasinaudoti dalyvių sukaupta gyvenimo patirti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i ryšiai (sąveika) tarp dalyvių bei tarp pranešimo informacinio turinio ir dalyvių profesinės veiklos, interes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iamą informaciją dalyviai galės įgyvendinti praktiko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lyviai turės galimybę įtakoti pranešimo eigą ar mokymosi proces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a saugumo, pagarbos ir komforto atmosfe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darytos sąlygos dalyviams patirti sėkm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2050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ranešimas, mokymai suaugusiesiems bus sėkmingesni jei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B84-C4AB-4B80-B148-D2E504CE08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2421000"/>
            <a:ext cx="8569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ENGIMAS KAL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7A2-0CE2-4C80-8D07-6A466DA6B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dalyvau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ą jie nori išgir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kalbėsiu ir ką noriu pasaky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ek la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 ir kokiomis sąlygo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kiomis priemonė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lausimai į kuriuos reikia atsaky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2AF-E26F-4070-B877-C00B60BA86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v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pie objektus, įvykius, procesus, sąvokas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ikin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atriotinės, politinės, moralinės etinės, justicinės, komercinė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inė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ristatymas, apdovanojimas, padėka, sveikinimas, tostas, pramoginė kal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albų rūš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A8E-4B26-4B1A-8C24-8676CCC21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628640"/>
            <a:ext cx="856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LBOS STRUKTŪ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Jūs lakūnas, o Jūsų kalba – lėktuvo pilotavimas PAKYLANT..., SKRENDANT... ir NUSILEIDŽIANT..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508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IDURINĖ (PAGRINDINĖ) 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B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ERĖJI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760-FB1D-48BD-8F06-765AAAE25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2:29:57Z</dcterms:created>
  <dc:creator>Audrius</dc:creator>
  <dc:description/>
  <dc:language>en-US</dc:language>
  <cp:lastModifiedBy>Vartotojas</cp:lastModifiedBy>
  <dcterms:modified xsi:type="dcterms:W3CDTF">2011-01-19T13:19:46Z</dcterms:modified>
  <cp:revision>221</cp:revision>
  <dc:subject/>
  <dc:title>Slide 1</dc:title>
</cp:coreProperties>
</file>