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244AB-BFBA-4103-B830-E4893AD89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0EC71-47B6-47EA-B303-E24847DAB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FD417-4FED-4091-9166-6E246AC68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BFDA7-F443-4A8F-974C-AC24D4BCE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D90A2-2D85-4863-B84E-DA1523CD0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71E41-F9E2-4D0F-B50F-973D7C709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C6D6B-5A2C-4B39-AFEF-BCD65BBF3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C8A3C-96B9-4F08-AEC3-4261E94EB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C758A-4A7B-457F-A89B-647B155D2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3F795-4B7F-4CEF-97AF-EBCC7495A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19B5C-C3CB-4528-A5EC-D23F7565D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EA1CD-27DC-44F3-8B8A-4631C51D4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A7D00-8DD7-462A-9C93-995EEA6A4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E8617-0909-4198-9B9B-D13BBB3BB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F6ED2-73CF-4FB5-8EC6-2DA514A5A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5E69E-B900-477C-B1DE-3148E7366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5AFCB-5398-4206-98C6-916C44B6B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3BF35-47F5-41D8-9980-964FD1F95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284CF-B879-4D38-B90C-E7B037C50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7997B-19B8-4137-9526-A94A5A9D2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C090C-AE0A-4B05-8AAC-9E676C161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CF0EC-160E-43BC-9DA8-72300CF78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FBCAB-7748-4F36-874E-8E53EE0EC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58928-A42C-4B8D-ACFD-D4146FDD8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 name=""/>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 name=""/>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 name=""/>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 name=""/>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 name=""/>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 name=""/>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 name=""/>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 name=""/>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 name=""/>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 name=""/>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 name=""/>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 name=""/>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 name=""/>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 name=""/>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 name=""/>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 name=""/>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 name=""/>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 name=""/>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 name=""/>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 name=""/>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 name=""/>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 name=""/>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 name=""/>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 name=""/>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 name=""/>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 name=""/>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 name=""/>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 name=""/>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 name=""/>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 name=""/>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 name=""/>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 name=""/>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 name=""/>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 name=""/>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 name=""/>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 name=""/>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 name=""/>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 name=""/>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6" name=""/>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 name=""/>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 name=""/>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 name=""/>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 name=""/>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 name=""/>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 name=""/>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 name=""/>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 name=""/>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 name=""/>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 name=""/>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 name=""/>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9" name=""/>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 name=""/>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 name=""/>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 name=""/>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 name=""/>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 name=""/>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 name=""/>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 name=""/>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 name=""/>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 name=""/>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 name=""/>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 name=""/>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 name=""/>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 name=""/>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 name=""/>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 name=""/>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 name=""/>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0" name=""/>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 name=""/>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 name=""/>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 name=""/>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4" name=""/>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5" name=""/>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6" name=""/>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7" name=""/>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8" name=""/>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9" name=""/>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1" name=""/>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6" name=""/>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9" name=""/>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6" name=""/>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dbdac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dbdac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46" name=""/>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d3d2bc"/>
                  </a:gs>
                  <a:gs pos="100000">
                    <a:srgbClr val="dbdac3"/>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rot="19915200">
                <a:off x="469800" y="4836600"/>
                <a:ext cx="351000" cy="276480"/>
              </a:xfrm>
              <a:prstGeom prst="ellipse">
                <a:avLst/>
              </a:prstGeom>
              <a:gradFill rotWithShape="0">
                <a:gsLst>
                  <a:gs pos="0">
                    <a:srgbClr val="c6c5b0"/>
                  </a:gs>
                  <a:gs pos="50000">
                    <a:srgbClr val="dbdac3"/>
                  </a:gs>
                  <a:gs pos="100000">
                    <a:srgbClr val="c6c5b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934b"/>
                </a:solidFill>
                <a:latin typeface="Tahoma"/>
              </a:rPr>
              <a:t>Click to edit the title text format</a:t>
            </a:r>
            <a:endParaRPr b="0" lang="en-US" sz="4400" spc="-1" strike="noStrike">
              <a:solidFill>
                <a:srgbClr val="95934b"/>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A861-00AB-4AAB-BA6F-2222303B6D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9" name=""/>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1" name=""/>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2" name=""/>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9" name=""/>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0" name=""/>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1" name=""/>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2" name=""/>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3" name=""/>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4" name=""/>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5" name=""/>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7" name=""/>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8" name=""/>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0" name=""/>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1" name=""/>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2" name=""/>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3" name=""/>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4" name=""/>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5" name=""/>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6" name=""/>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7" name=""/>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8" name=""/>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9" name=""/>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 name=""/>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1" name=""/>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2" name=""/>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3" name=""/>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4" name=""/>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5" name=""/>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6" name=""/>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7" name=""/>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48" name=""/>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9" name=""/>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0" name=""/>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2" name=""/>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4" name=""/>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5" name=""/>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6" name=""/>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7" name=""/>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8" name=""/>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9" name=""/>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0" name=""/>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1" name=""/>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2" name=""/>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3" name=""/>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4" name=""/>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5" name=""/>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6" name=""/>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7" name=""/>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8" name=""/>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9" name=""/>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0" name=""/>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3" name=""/>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4" name=""/>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5" name=""/>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6" name=""/>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9" name=""/>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0" name=""/>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1" name=""/>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2" name=""/>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 name=""/>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4" name=""/>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 name=""/>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6" name=""/>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 name=""/>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8" name=""/>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9" name=""/>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0" name=""/>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1" name=""/>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3" name=""/>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4" name=""/>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8" name=""/>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1" name=""/>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8" name=""/>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dbdac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dbdac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8" name=""/>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d3d2bc"/>
                  </a:gs>
                  <a:gs pos="100000">
                    <a:srgbClr val="dbdac3"/>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2" name=""/>
              <p:cNvSpPr/>
              <p:nvPr/>
            </p:nvSpPr>
            <p:spPr>
              <a:xfrm rot="19915200">
                <a:off x="469800" y="4836600"/>
                <a:ext cx="351000" cy="276480"/>
              </a:xfrm>
              <a:prstGeom prst="ellipse">
                <a:avLst/>
              </a:prstGeom>
              <a:gradFill rotWithShape="0">
                <a:gsLst>
                  <a:gs pos="0">
                    <a:srgbClr val="c6c5b0"/>
                  </a:gs>
                  <a:gs pos="50000">
                    <a:srgbClr val="dbdac3"/>
                  </a:gs>
                  <a:gs pos="100000">
                    <a:srgbClr val="c6c5b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5934b"/>
                </a:solidFill>
                <a:latin typeface="Tahoma"/>
              </a:rPr>
              <a:t>Click to edit the title text format</a:t>
            </a:r>
            <a:endParaRPr b="0" lang="en-US" sz="5400" spc="-1" strike="noStrike">
              <a:solidFill>
                <a:srgbClr val="95934b"/>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2557-C5EE-41BC-B81F-AA58473B7DD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hyperlink" Target="mailto:v.mockaitiene@gmail.com" TargetMode="External"/><Relationship Id="rId2" Type="http://schemas.openxmlformats.org/officeDocument/2006/relationships/hyperlink" Target="mailto:v.mockaitiene@gmail.com" TargetMode="External"/><Relationship Id="rId3" Type="http://schemas.openxmlformats.org/officeDocument/2006/relationships/hyperlink" Target="mailto:v.mockaitiene@gmail.com"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040" y="228600"/>
            <a:ext cx="7792920" cy="17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5934b"/>
                </a:solidFill>
                <a:latin typeface="Arial"/>
              </a:rPr>
              <a:t>KAIMO ATNAUJINIMO PROJEKTŲ TECHNINĖS PROJEKTO DALIES RENGIMAS</a:t>
            </a:r>
            <a:endParaRPr b="0" lang="en-US" sz="3200" spc="-1" strike="noStrike">
              <a:solidFill>
                <a:srgbClr val="95934b"/>
              </a:solidFill>
              <a:latin typeface="Tahoma"/>
            </a:endParaRPr>
          </a:p>
        </p:txBody>
      </p:sp>
      <p:sp>
        <p:nvSpPr>
          <p:cNvPr id="384" name="PlaceHolder 2"/>
          <p:cNvSpPr>
            <a:spLocks noGrp="1"/>
          </p:cNvSpPr>
          <p:nvPr>
            <p:ph/>
          </p:nvPr>
        </p:nvSpPr>
        <p:spPr>
          <a:xfrm>
            <a:off x="301680" y="2053800"/>
            <a:ext cx="8540640" cy="4498920"/>
          </a:xfrm>
          <a:prstGeom prst="rect">
            <a:avLst/>
          </a:prstGeom>
          <a:noFill/>
          <a:ln w="0">
            <a:noFill/>
          </a:ln>
        </p:spPr>
        <p:txBody>
          <a:bodyPr lIns="90000" rIns="90000" tIns="46800" bIns="46800" anchor="t">
            <a:normAutofit fontScale="99000"/>
          </a:bodyPr>
          <a:p>
            <a:pPr marL="33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3394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inio projektavimo sąlygų sąvadas</a:t>
            </a:r>
            <a:r>
              <a:rPr b="0" lang="en-US" sz="2400" spc="-1" strike="noStrike">
                <a:solidFill>
                  <a:srgbClr val="000000"/>
                </a:solidFill>
                <a:latin typeface="Tahoma"/>
              </a:rPr>
              <a:t> / </a:t>
            </a:r>
            <a:r>
              <a:rPr b="0" lang="lt-LT" sz="2400" spc="-1" strike="noStrike">
                <a:solidFill>
                  <a:srgbClr val="000000"/>
                </a:solidFill>
                <a:latin typeface="Tahoma"/>
              </a:rPr>
              <a:t>Statinio projektavimas</a:t>
            </a:r>
            <a:r>
              <a:rPr b="0" lang="en-US"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ybos leidimas</a:t>
            </a:r>
            <a:r>
              <a:rPr b="0" lang="en-US" sz="2400" spc="-1" strike="noStrike">
                <a:solidFill>
                  <a:srgbClr val="000000"/>
                </a:solidFill>
                <a:latin typeface="Tahoma"/>
              </a:rPr>
              <a:t> / </a:t>
            </a:r>
            <a:r>
              <a:rPr b="0" lang="lt-LT" sz="2400" spc="-1" strike="noStrike" u="sng">
                <a:solidFill>
                  <a:srgbClr val="000000"/>
                </a:solidFill>
                <a:uFillTx/>
                <a:latin typeface="Tahoma"/>
              </a:rPr>
              <a:t>Statinio projekto ekspertizė ir statinio ekspertizė</a:t>
            </a:r>
            <a:endParaRPr b="0" lang="en-US" sz="2400" spc="-1" strike="noStrike">
              <a:solidFill>
                <a:srgbClr val="000000"/>
              </a:solidFill>
              <a:latin typeface="Tahoma"/>
            </a:endParaRPr>
          </a:p>
          <a:p>
            <a:pPr marL="339480" indent="-3394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nio projekto vykdymo priežiūra / </a:t>
            </a:r>
            <a:r>
              <a:rPr b="0" lang="en-US" sz="2400" spc="-1" strike="noStrike" u="sng">
                <a:solidFill>
                  <a:srgbClr val="000000"/>
                </a:solidFill>
                <a:uFillTx/>
                <a:latin typeface="Tahoma"/>
              </a:rPr>
              <a:t>Statinio statybos techninė priežiūra / </a:t>
            </a:r>
            <a:r>
              <a:rPr b="0" lang="lt-LT" sz="2400" spc="-1" strike="noStrike">
                <a:solidFill>
                  <a:srgbClr val="000000"/>
                </a:solidFill>
                <a:latin typeface="Tahoma"/>
              </a:rPr>
              <a:t>Saugos ir sveikatos taisyklės statyboje </a:t>
            </a:r>
            <a:r>
              <a:rPr b="0" lang="en-US" sz="2400" spc="-1" strike="noStrike">
                <a:solidFill>
                  <a:srgbClr val="000000"/>
                </a:solidFill>
                <a:latin typeface="Tahoma"/>
              </a:rPr>
              <a:t>/ </a:t>
            </a:r>
            <a:r>
              <a:rPr b="0" lang="lt-LT" sz="2400" spc="-1" strike="noStrike">
                <a:solidFill>
                  <a:srgbClr val="000000"/>
                </a:solidFill>
                <a:latin typeface="Tahoma"/>
              </a:rPr>
              <a:t>Pastatų energinis naudingumas.     Energinio     naudingumo sertifikavimas</a:t>
            </a:r>
            <a:endParaRPr b="0" lang="en-US" sz="2400" spc="-1" strike="noStrike">
              <a:solidFill>
                <a:srgbClr val="000000"/>
              </a:solidFill>
              <a:latin typeface="Tahoma"/>
            </a:endParaRPr>
          </a:p>
          <a:p>
            <a:pPr marL="339480" indent="-3394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inių pripažinimo tinkamais naudoti tvarka</a:t>
            </a:r>
            <a:r>
              <a:rPr b="0" lang="en-US" sz="2400" spc="-1" strike="noStrike">
                <a:solidFill>
                  <a:srgbClr val="000000"/>
                </a:solidFill>
                <a:latin typeface="Tahoma"/>
              </a:rPr>
              <a:t> / </a:t>
            </a:r>
            <a:r>
              <a:rPr b="0" lang="lt-LT" sz="2400" spc="-1" strike="noStrike">
                <a:solidFill>
                  <a:srgbClr val="000000"/>
                </a:solidFill>
                <a:latin typeface="Tahoma"/>
              </a:rPr>
              <a:t>Žemės darbai / Pagrindinių terminų ir sąlygų pakartojimas / </a:t>
            </a:r>
            <a:r>
              <a:rPr b="0" lang="lt-LT" sz="2400" spc="-1" strike="noStrike">
                <a:solidFill>
                  <a:srgbClr val="000000"/>
                </a:solidFill>
                <a:latin typeface="Times New Roman"/>
              </a:rPr>
              <a:t>Darbo su asbestu taisyklės</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2" name="PlaceHolder 2"/>
          <p:cNvSpPr>
            <a:spLocks noGrp="1"/>
          </p:cNvSpPr>
          <p:nvPr>
            <p:ph/>
          </p:nvPr>
        </p:nvSpPr>
        <p:spPr>
          <a:xfrm>
            <a:off x="301680" y="1219320"/>
            <a:ext cx="854064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statybos valdymas</a:t>
            </a:r>
            <a:r>
              <a:rPr b="0" lang="lt-LT" sz="2800" spc="-1" strike="noStrike">
                <a:solidFill>
                  <a:srgbClr val="000000"/>
                </a:solidFill>
                <a:latin typeface="Tahoma"/>
              </a:rPr>
              <a:t> – statinio statybos organizavimo būdas, kai statybą ir su ja susijusių kitų statybos techninės veiklos pagrindinių sričių darbus organizuoja statinio statybos valdytojas pavedimo sutarties tarp įgaliotojo – statytojo (užsakovo) ir įgaliotinio – statinio statybos valdytojo pagrindu.</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ba ūkio būdu</a:t>
            </a:r>
            <a:r>
              <a:rPr b="0" lang="lt-LT" sz="2800" spc="-1" strike="noStrike">
                <a:solidFill>
                  <a:srgbClr val="000000"/>
                </a:solidFill>
                <a:latin typeface="Tahoma"/>
              </a:rPr>
              <a:t> – statybos organizavimo būdas, kai statybos darbai atliekami ir tinkamas naudoti statinys sukuriamas statytojo rizika, nesudarius rangos sutarties, naudojant statytojo darbo jėgą, jam priklausančius statybos produktus, įrengini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NESUDĖTINGI STATINIAI</a:t>
            </a:r>
            <a:r>
              <a:rPr b="0" lang="en-US" sz="4400" spc="-1" strike="noStrike">
                <a:solidFill>
                  <a:srgbClr val="95934b"/>
                </a:solidFill>
                <a:latin typeface="Tahoma"/>
              </a:rPr>
              <a:t> </a:t>
            </a:r>
            <a:endParaRPr b="0" lang="en-US" sz="4400" spc="-1" strike="noStrike">
              <a:solidFill>
                <a:srgbClr val="95934b"/>
              </a:solidFill>
              <a:latin typeface="Tahoma"/>
            </a:endParaRPr>
          </a:p>
        </p:txBody>
      </p:sp>
      <p:sp>
        <p:nvSpPr>
          <p:cNvPr id="583"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fontScale="98000"/>
          </a:bodyPr>
          <a:p>
            <a:pPr marL="335880" indent="-3358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I grupės nesudėtingiems statiniams</a:t>
            </a:r>
            <a:r>
              <a:rPr b="0" lang="lt-LT" sz="2800" spc="-1" strike="noStrike">
                <a:solidFill>
                  <a:srgbClr val="000000"/>
                </a:solidFill>
                <a:latin typeface="Tahoma"/>
              </a:rPr>
              <a: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privalomas statinio projektas;</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reikalingas statybos leidimas;</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privaloma skirti (pasamdyti) statybos vadovą;</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privaloma statinio statybos techninė priežiūr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reikalingas statybos leidimas statinį griauti;</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privaloma atlikti: statinio kadastrinius matavimus, statinio pripažinimą tinkamu naudoti ir statinio registravimą Nekilnojamojo turto registre;</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NESUDĖTINGI STATINIAI</a:t>
            </a:r>
            <a:endParaRPr b="0" lang="en-US" sz="4400" spc="-1" strike="noStrike">
              <a:solidFill>
                <a:srgbClr val="95934b"/>
              </a:solidFill>
              <a:latin typeface="Tahoma"/>
            </a:endParaRPr>
          </a:p>
        </p:txBody>
      </p:sp>
      <p:sp>
        <p:nvSpPr>
          <p:cNvPr id="585"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ahoma"/>
              </a:rPr>
              <a:t>II grupės nesudėtingiems statiniams:</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statybos sklypo inžinerinius tinklus, statinio inžinerines sistemas prijungiant prie už sklypo ribų esančių inžinerinių tinklų ar sklypo vidaus susisiekimo komunikacijas prijungiant prie už sklypo ribų esančių susisiekimo komunikacijų – viešųjų kelių (gatvių), vietoj statinio projektavimo sąlygų sąvado reikalingas šių tinklų ar komunikacijų savininkų raštiškas sutikimas, nustatant prijungimo sąlygas;</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rengiamas supaprastintas statinio projektas, kurį patikrina savivaldybės administracijos valstybės tarnautojas, įgaliotas nustatyti statinio architektūros ir statybos sklypo tvarkymo urbanistinius reikalavimus;</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reikalingas statybos leidimas. Vietoj jo reikalingas raštiškas valstybės tarnautojo pritarimas;</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privaloma statinio projekto vykdymo priežiūra;</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privaloma statinio statybos techninė priežiūra;</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reikalingas statybos leidimas statinį griauti;</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sudėtingiems laikiniems statiniams pripažinimo tinkamais naudoti procedūros neatliekam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NESUDĖTINGI STATINIAI</a:t>
            </a:r>
            <a:endParaRPr b="0" lang="en-US" sz="4400" spc="-1" strike="noStrike">
              <a:solidFill>
                <a:srgbClr val="95934b"/>
              </a:solidFill>
              <a:latin typeface="Tahoma"/>
            </a:endParaRPr>
          </a:p>
        </p:txBody>
      </p:sp>
      <p:sp>
        <p:nvSpPr>
          <p:cNvPr id="5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ojektuojant ir statant nesudėtingus statinius, draustis privalomuoju statinio projektuotojo ir rangovo civilinės atsakomybės draudimu nebūtina.</a:t>
            </a:r>
            <a:endParaRPr b="0" lang="en-US" sz="2800" spc="-1" strike="noStrike">
              <a:solidFill>
                <a:srgbClr val="000000"/>
              </a:solidFill>
              <a:latin typeface="Tahoma"/>
            </a:endParaRPr>
          </a:p>
          <a:p>
            <a:pPr marL="322200" indent="-32220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Pastaba.</a:t>
            </a:r>
            <a:r>
              <a:rPr b="0" lang="lt-LT" sz="2800" spc="-1" strike="noStrike">
                <a:solidFill>
                  <a:srgbClr val="000000"/>
                </a:solidFill>
                <a:latin typeface="Tahoma"/>
              </a:rPr>
              <a:t> Minimalūs atstumai nuo pastatų iki kaimynų sklypo ribos turi būti 3 m.</a:t>
            </a:r>
            <a:r>
              <a:rPr b="0" lang="en-US" sz="2800" spc="-1" strike="noStrike">
                <a:solidFill>
                  <a:srgbClr val="000000"/>
                </a:solidFill>
                <a:latin typeface="Tahoma"/>
              </a:rPr>
              <a:t> </a:t>
            </a:r>
            <a:r>
              <a:rPr b="0" lang="lt-LT" sz="2800" spc="-1" strike="noStrike">
                <a:solidFill>
                  <a:srgbClr val="000000"/>
                </a:solidFill>
                <a:latin typeface="Tahoma"/>
              </a:rPr>
              <a:t>Mažinant pastatų atstumą iki kaimyninio žemės sklypo ribos arba blokuojant gretimų žemės sklypų pastatus, turi būti išlaikomi gaisrinės saugos reikalavimai ir gautas kaimyninio žemės sklypo savininko (naudotojo) sutikimas rašt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NESUDĖTINGI STATINIAI</a:t>
            </a:r>
            <a:endParaRPr b="0" lang="en-US" sz="4400" spc="-1" strike="noStrike">
              <a:solidFill>
                <a:srgbClr val="95934b"/>
              </a:solidFill>
              <a:latin typeface="Tahoma"/>
            </a:endParaRPr>
          </a:p>
        </p:txBody>
      </p:sp>
      <p:sp>
        <p:nvSpPr>
          <p:cNvPr id="589" name="PlaceHolder 2"/>
          <p:cNvSpPr>
            <a:spLocks noGrp="1"/>
          </p:cNvSpPr>
          <p:nvPr>
            <p:ph/>
          </p:nvPr>
        </p:nvSpPr>
        <p:spPr>
          <a:xfrm>
            <a:off x="301680" y="1218960"/>
            <a:ext cx="8540640" cy="5257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upaprastintą statinio projektą rengti ir šio projekto vykdymo priežiūrą atlikti, vadovauti statybai ir atlikti statybos techninę priežiūrą gali:</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statytojas, kai supaprastintas statinio projektas rengiamas pasinaudojant kito tokio pat statinio supaprastinto projekto sprendiniais; šiuo atveju valstybės tarnautojams pateikiamas ir statinio supaprastintas projektas, kurio sprendiniais yra pasinaudot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ytojas, turintis statybos ar architektūros aukštąjį ar aukštesnįjį išsilavinimą;</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statybos ar architektūros aukštąjį ar aukštesnįjį išsilavinimą turintis fizinis asmuo, savo veiklą įteisinęs teisės aktų nustatyta tvark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fiziniai ir juridiniai asmenys, turintys teisę rengti neypatingų ar ypatingų statinių projektus, statyti tokius statinius ir atlikti jų statybos techninę priežiūrą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01680" y="22824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ŽEMĖS DARBAI</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91" name="PlaceHolder 2"/>
          <p:cNvSpPr>
            <a:spLocks noGrp="1"/>
          </p:cNvSpPr>
          <p:nvPr>
            <p:ph/>
          </p:nvPr>
        </p:nvSpPr>
        <p:spPr>
          <a:xfrm>
            <a:off x="301680" y="990720"/>
            <a:ext cx="8540640" cy="51084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žemės darbai</a:t>
            </a:r>
            <a:r>
              <a:rPr b="0" lang="lt-LT" sz="2400" spc="-1" strike="noStrike">
                <a:solidFill>
                  <a:srgbClr val="000000"/>
                </a:solidFill>
                <a:latin typeface="Tahoma"/>
              </a:rPr>
              <a:t> – viena iš statinio statybos bendrųjų darbų rūšių, kai statybos reikmėms kasamas gruntas, pilamas atvežtinis gruntas ar atliekami požeminiai darbai;</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apsaugos zona</a:t>
            </a:r>
            <a:r>
              <a:rPr b="0" lang="lt-LT" sz="2400" spc="-1" strike="noStrike">
                <a:solidFill>
                  <a:srgbClr val="000000"/>
                </a:solidFill>
                <a:latin typeface="Tahoma"/>
              </a:rPr>
              <a:t> – teisės aktais nustatyti žemės plotai (ruožai), kuriuose ribojamas grunto (žemės) kasimas</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Šis Reglamentas privalomas statant naujus, taip pat rekonstruojant, kapitaliai remontuojant ar griaunant (toliau – statant) esamus statinius, kai statybvietei (žemės darbų vykdymo vietai) yra nustatytos specialiosios žemės naudojimo sąlygos.</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Atskiras leidimas žemės darbams vykdyti neišduodam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ŽEMĖS DARBAI</a:t>
            </a:r>
            <a:endParaRPr b="0" lang="en-US" sz="4400" spc="-1" strike="noStrike">
              <a:solidFill>
                <a:srgbClr val="95934b"/>
              </a:solidFill>
              <a:latin typeface="Tahoma"/>
            </a:endParaRPr>
          </a:p>
        </p:txBody>
      </p:sp>
      <p:sp>
        <p:nvSpPr>
          <p:cNvPr id="593"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Žemės darbai teritorijoje, kuriai yra nustatytos specialiosios žemės naudojimo sąlygos, atliekami tik:</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gavus statinio statybos leidimą arba įgaliotų savivaldybės ir valstybės tarnautojų pritarimus – kai šie dokumentai yra privalom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gavus žemės savininko arba valdytojo raštiškus pritarimus (sutikimus, sutartis) (kai jie yra reikaling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turint su žemės darbų vykdymo vietoje esančių požeminių statinių, susisiekimo komunikacijų ir žemės savininkais (naudotojais, valdytojais) suderintą žemės darbų vykdymo aprašą ir schemą – kai nereikalingas statinio projek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ŽEMĖS DARBAI</a:t>
            </a:r>
            <a:endParaRPr b="0" lang="en-US" sz="4000" spc="-1" strike="noStrike">
              <a:solidFill>
                <a:srgbClr val="95934b"/>
              </a:solidFill>
              <a:latin typeface="Tahoma"/>
            </a:endParaRPr>
          </a:p>
        </p:txBody>
      </p:sp>
      <p:sp>
        <p:nvSpPr>
          <p:cNvPr id="595" name="PlaceHolder 2"/>
          <p:cNvSpPr>
            <a:spLocks noGrp="1"/>
          </p:cNvSpPr>
          <p:nvPr>
            <p:ph/>
          </p:nvPr>
        </p:nvSpPr>
        <p:spPr>
          <a:xfrm>
            <a:off x="301680" y="990720"/>
            <a:ext cx="8540640" cy="5108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Už inžinerinių tinklų, kitų inžinerinių statinių ar archeologinio paveldo sugadinimą, saugomų augalų rūšių ir bendrijų radviečių ar augaviečių sunaikinimą ar sugadinimą vykdant žemės darbus atsako statinio statybos rangovas ar Statantis ūkio būdu statytojas (užsakovas) teisės aktų nustatyta tvarka, jeigu įstatymai ir kiti teisės aktai nenumato kitaip.</a:t>
            </a:r>
            <a:endParaRPr b="0" lang="en-US" sz="2400" spc="-1" strike="noStrike">
              <a:solidFill>
                <a:srgbClr val="000000"/>
              </a:solidFill>
              <a:latin typeface="Tahoma"/>
            </a:endParaRPr>
          </a:p>
          <a:p>
            <a:pPr marL="335880" indent="-3358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elio ženklai ir jų išdėstymas turi atitikti standartų reikalavimus ir schemas, nustatyta tvarka suderintas su teritorinės policijos įstaiga.</a:t>
            </a:r>
            <a:endParaRPr b="0" lang="en-US" sz="2400" spc="-1" strike="noStrike">
              <a:solidFill>
                <a:srgbClr val="000000"/>
              </a:solidFill>
              <a:latin typeface="Tahoma"/>
            </a:endParaRPr>
          </a:p>
          <a:p>
            <a:pPr marL="335880" indent="-3358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elio ženklus pagal suderintą su teritorinės policijos įstaiga schemą sukomplektuoja ir pastato žemės darbus vykdantis statinio statybos rangovas, subrangovas ar Statantis ūkio būdu statytojas (užsakovas) (toliau – Rangov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ŽEMĖS DARBAI</a:t>
            </a:r>
            <a:endParaRPr b="0" lang="en-US" sz="4000" spc="-1" strike="noStrike">
              <a:solidFill>
                <a:srgbClr val="95934b"/>
              </a:solidFill>
              <a:latin typeface="Tahoma"/>
            </a:endParaRPr>
          </a:p>
        </p:txBody>
      </p:sp>
      <p:sp>
        <p:nvSpPr>
          <p:cNvPr id="597"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Jei dėl žemės darbų būtina keisti visuomeninio transporto maršrutus, papildomas išlaidas dėl jų pakeitimo transporto įmonėms sumoka statytojas (užsakovas). Kai kelio savininkas (naudotojas) laikinai apriboja, nutraukia eismą ar uždaro kelią dėl žemės darbų, vykdomų kelio statybos (tiesimo), rekonstravimo, remonto, griovimo ar priežiūros darbų metu, atsiradę nuostoliai eismo dalyviams neatlyginami.</a:t>
            </a:r>
            <a:endParaRPr b="0" lang="en-US" sz="2400" spc="-1" strike="noStrike">
              <a:solidFill>
                <a:srgbClr val="000000"/>
              </a:solidFill>
              <a:latin typeface="Tahoma"/>
            </a:endParaRPr>
          </a:p>
          <a:p>
            <a:pPr marL="339480" indent="-3394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Prireikus išardyti atramines sienutes, laiptus, mažosios architektūros ar kitus statinius, statinio statybos vadovas iškviečia savininkus (naudotojus, valdytojus) ar jų atstovus. Ardymo darbai vykdomi šiems savininkams (naudotojams, valdytojams) ar atstovams kontroliuojant pagal jų nurodym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ŽEMĖS DARBAI</a:t>
            </a:r>
            <a:endParaRPr b="0" lang="en-US" sz="4400" spc="-1" strike="noStrike">
              <a:solidFill>
                <a:srgbClr val="95934b"/>
              </a:solidFill>
              <a:latin typeface="Tahoma"/>
            </a:endParaRPr>
          </a:p>
        </p:txBody>
      </p:sp>
      <p:sp>
        <p:nvSpPr>
          <p:cNvPr id="599"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Žemės darbus kelio (gatvės) juostoje ar kelio (gatvės) apsaugos zonoje (išskyrus žemės ūkio, melioracijos, miškų tvarkymo darbus, dirbamus nepažeidžiant kelio (gatvės) sankasos bei kitų kelio (gatvės) įrenginių) galima pradėti tik:</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1. statytojui (užsakovui) gavus žemės savininkų (naudotojų, valdytojų) ir kelio (gatvės) savininko (valdytojo) raštiškus sutikimus – vykdant žemės darbus kelio (gatvės) apsaugos zonoj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2. statytojui (užsakovui) gavus kelio (gatvės) savininko (valdytojo) raštišką sutikimą – vykdant žemės darbus kelio (gatvės) juostoj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ŽEMĖS DARBAI</a:t>
            </a:r>
            <a:endParaRPr b="0" lang="en-US" sz="4400" spc="-1" strike="noStrike">
              <a:solidFill>
                <a:srgbClr val="95934b"/>
              </a:solidFill>
              <a:latin typeface="Tahoma"/>
            </a:endParaRPr>
          </a:p>
        </p:txBody>
      </p:sp>
      <p:sp>
        <p:nvSpPr>
          <p:cNvPr id="601"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Raštiškuose sutikimuose gali būti nustatytos šios sąlygos (reikalavimai):</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1. iki žemės darbų pradžios užtikrinti normalias eismo sąlygas apylanka (kai darbai vykdomi eismo vietos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2. žemės darbų terminas ir įpareigojimas pranešti apie žemės darbų pradžią prieš 2 dienas iki jų pradžios sutikimą davusiam asmeniui;</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3. atstatyti kelio (gatvės) dangą pagal projekto ir normatyvinių statybos techninių dokumentų reikalavimus iki nurodytos dato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4. leidžiami naudoti mechanizmai, įrenginiai ir pa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bos darbai</a:t>
            </a:r>
            <a:r>
              <a:rPr b="0" lang="lt-LT" sz="2800" spc="-1" strike="noStrike">
                <a:solidFill>
                  <a:srgbClr val="000000"/>
                </a:solidFill>
                <a:latin typeface="Tahoma"/>
              </a:rPr>
              <a:t> – visi darbai, atliekami statant arba griaunant statinį: </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bendrieji statybos darbai</a:t>
            </a:r>
            <a:r>
              <a:rPr b="0" lang="lt-LT" sz="2800" spc="-1" strike="noStrike">
                <a:solidFill>
                  <a:srgbClr val="000000"/>
                </a:solidFill>
                <a:latin typeface="Tahoma"/>
              </a:rPr>
              <a:t> -</a:t>
            </a:r>
            <a:r>
              <a:rPr b="1" lang="lt-LT" sz="2800" spc="-1" strike="noStrike">
                <a:solidFill>
                  <a:srgbClr val="000000"/>
                </a:solidFill>
                <a:latin typeface="Tahoma"/>
              </a:rPr>
              <a:t> </a:t>
            </a:r>
            <a:r>
              <a:rPr b="0" lang="lt-LT" sz="2800" spc="-1" strike="noStrike">
                <a:solidFill>
                  <a:srgbClr val="000000"/>
                </a:solidFill>
                <a:latin typeface="Tahoma"/>
              </a:rPr>
              <a:t>žemės darbai, statybinių konstrukcijų statybos ir montavimo darbai,</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1" lang="lt-LT" sz="2800" spc="-1" strike="noStrike">
                <a:solidFill>
                  <a:srgbClr val="000000"/>
                </a:solidFill>
                <a:latin typeface="Tahoma"/>
              </a:rPr>
              <a:t>specialieji statybos darbai - </a:t>
            </a:r>
            <a:r>
              <a:rPr b="0" lang="lt-LT" sz="2800" spc="-1" strike="noStrike">
                <a:solidFill>
                  <a:srgbClr val="000000"/>
                </a:solidFill>
                <a:latin typeface="Tahoma"/>
              </a:rPr>
              <a:t>kiti statybos darbai (vandentiekio, elektros, vėdinimo ir kt.). Specialiųjų darbų rūšys nustatomos normatyviniuose statybos techniniuose dokumentuo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ŽEMĖS DARBAI</a:t>
            </a:r>
            <a:endParaRPr b="0" lang="en-US" sz="4000" spc="-1" strike="noStrike">
              <a:solidFill>
                <a:srgbClr val="95934b"/>
              </a:solidFill>
              <a:latin typeface="Tahoma"/>
            </a:endParaRPr>
          </a:p>
        </p:txBody>
      </p:sp>
      <p:sp>
        <p:nvSpPr>
          <p:cNvPr id="6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Už žemės savininkų (naudotojų, valdytojų) ir kelio (gatvės) savininko (valdytojo) raštiškame sutikime nurodytose sąlygose numatytus darbus (kelio atkūrimą, aplinkos sutvarkymą, žemės rekultivavimą ir t. t.) </a:t>
            </a:r>
            <a:r>
              <a:rPr b="0" lang="lt-LT" sz="2800" spc="-1" strike="noStrike" u="sng">
                <a:solidFill>
                  <a:srgbClr val="000000"/>
                </a:solidFill>
                <a:uFillTx/>
                <a:latin typeface="Tahoma"/>
              </a:rPr>
              <a:t>apmoka statytojas (užsakovas).</a:t>
            </a:r>
            <a:endParaRPr b="0" lang="en-US" sz="2800" spc="-1" strike="noStrike">
              <a:solidFill>
                <a:srgbClr val="000000"/>
              </a:solidFill>
              <a:latin typeface="Tahoma"/>
            </a:endParaRPr>
          </a:p>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uo gruodžio 1 d. iki balandžio 15 d. draudžiama vykdyti kelių (gatvių) perkasimo ir kitus žemės darbus esamų kelių (gatvių) juostose, taip pat ardyti asfalto dangą 5 metus po jos įrengimo arba atnaujinimo, išskyrus jų rekonstravimo ar remonto darb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ASBESTAS – KENKSMINGA, VĖŽĮ SUKELIANTI MEDŽIAGA</a:t>
            </a:r>
            <a:endParaRPr b="0" lang="en-US" sz="4000" spc="-1" strike="noStrike">
              <a:solidFill>
                <a:srgbClr val="95934b"/>
              </a:solidFill>
              <a:latin typeface="Tahoma"/>
            </a:endParaRPr>
          </a:p>
        </p:txBody>
      </p:sp>
      <p:sp>
        <p:nvSpPr>
          <p:cNvPr id="6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ol asbesto turintys statiniai, konstrukcijos ar gaminiai neliečiami, ši medžiaga didesnio pavojaus sveikatai nekelia. Jis atsiranda tuos statinius, konstrukcijas ir gaminius </a:t>
            </a:r>
            <a:r>
              <a:rPr b="1" lang="lt-LT" sz="2000" spc="-1" strike="noStrike">
                <a:solidFill>
                  <a:srgbClr val="000000"/>
                </a:solidFill>
                <a:latin typeface="Times New Roman"/>
              </a:rPr>
              <a:t>laužant, ardant ar apdorojant</a:t>
            </a:r>
            <a:r>
              <a:rPr b="0" lang="lt-LT" sz="2000" spc="-1" strike="noStrike">
                <a:solidFill>
                  <a:srgbClr val="000000"/>
                </a:solidFill>
                <a:latin typeface="Times New Roman"/>
              </a:rPr>
              <a:t>, kai į aplinką išsiskiria dulkių su asbesto plaušeliais.</a:t>
            </a:r>
            <a:endParaRPr b="0" lang="en-US" sz="2000" spc="-1" strike="noStrike">
              <a:solidFill>
                <a:srgbClr val="000000"/>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raeito amžiaus septintajame dešimtmetyje įsitikinta asbesto kenksmingumu, todėl 1976m. jis įrašytas į Tarptautinio vėžio tyrimo centro kancerogeninių veiksnių sąrašą. </a:t>
            </a:r>
            <a:r>
              <a:rPr b="1" lang="lt-LT" sz="2000" spc="-1" strike="noStrike">
                <a:solidFill>
                  <a:srgbClr val="000000"/>
                </a:solidFill>
                <a:latin typeface="Times New Roman"/>
              </a:rPr>
              <a:t>Nustatyta, kad asbestas gali sukelti plaučių asbestozę, taip pat plaučių, kiek rečiau skrandžio ir žarnyno vėžį. Rūkant pavojus susirgti daug didesnis.</a:t>
            </a:r>
            <a:endParaRPr b="0" lang="en-US" sz="2000" spc="-1" strike="noStrike">
              <a:solidFill>
                <a:srgbClr val="000000"/>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ulkės su asbesto plaušeliais yra biologiškai agresyvios. Didesni asbesto plaušeliai sugaunami nosyje, gerklėje ar bronchuose, o plonesni gali patekti į atokiausius plaučių išsišakojimus ir ten tvirtai įsmigti. Kai kurie jų patenka į kraują ir su juo nukeliauja į bet kurį vidaus organą.</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ASBESTAS – KENKSMINGA, VĖŽĮ SUKELIANTI MEDŽIAGA</a:t>
            </a:r>
            <a:endParaRPr b="0" lang="en-US" sz="4000" spc="-1" strike="noStrike">
              <a:solidFill>
                <a:srgbClr val="95934b"/>
              </a:solidFill>
              <a:latin typeface="Tahoma"/>
            </a:endParaRPr>
          </a:p>
        </p:txBody>
      </p:sp>
      <p:sp>
        <p:nvSpPr>
          <p:cNvPr id="6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adovaujantis Europos Sąjungos teisės aktais, </a:t>
            </a:r>
            <a:r>
              <a:rPr b="1" lang="lt-LT" sz="2000" spc="-1" strike="noStrike">
                <a:solidFill>
                  <a:srgbClr val="000000"/>
                </a:solidFill>
                <a:latin typeface="Times New Roman"/>
              </a:rPr>
              <a:t>nuo 2005 m. sausio 1 d. Lietuvoje</a:t>
            </a:r>
            <a:r>
              <a:rPr b="0" lang="lt-LT" sz="2000" spc="-1" strike="noStrike">
                <a:solidFill>
                  <a:srgbClr val="000000"/>
                </a:solidFill>
                <a:latin typeface="Times New Roman"/>
              </a:rPr>
              <a:t>, kaip ir visose Europos Sąjungos šalyse, naudoti asbestą ir kitus jo turinčius gaminius yra </a:t>
            </a:r>
            <a:r>
              <a:rPr b="1" lang="lt-LT" sz="2000" spc="-1" strike="noStrike">
                <a:solidFill>
                  <a:srgbClr val="000000"/>
                </a:solidFill>
                <a:latin typeface="Times New Roman"/>
              </a:rPr>
              <a:t>uždrausta</a:t>
            </a:r>
            <a:endParaRPr b="0" lang="en-US" sz="20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dobe Myungjo Std M"/>
              </a:rPr>
              <a:t>Darbus su asbestu gali atlikti tik </a:t>
            </a:r>
            <a:r>
              <a:rPr b="1" lang="lt-LT" sz="2400" spc="-1" strike="noStrike">
                <a:solidFill>
                  <a:srgbClr val="000000"/>
                </a:solidFill>
                <a:latin typeface="Adobe Myungjo Std M"/>
              </a:rPr>
              <a:t>įmonės</a:t>
            </a:r>
            <a:r>
              <a:rPr b="0" lang="lt-LT" sz="2400" spc="-1" strike="noStrike">
                <a:solidFill>
                  <a:srgbClr val="000000"/>
                </a:solidFill>
                <a:latin typeface="Adobe Myungjo Std M"/>
              </a:rPr>
              <a:t>, </a:t>
            </a:r>
            <a:r>
              <a:rPr b="1" lang="lt-LT" sz="2400" spc="-1" strike="noStrike">
                <a:solidFill>
                  <a:srgbClr val="000000"/>
                </a:solidFill>
                <a:latin typeface="Adobe Myungjo Std M"/>
              </a:rPr>
              <a:t>atestuotos</a:t>
            </a:r>
            <a:r>
              <a:rPr b="0" lang="lt-LT" sz="2400" spc="-1" strike="noStrike">
                <a:solidFill>
                  <a:srgbClr val="000000"/>
                </a:solidFill>
                <a:latin typeface="Adobe Myungjo Std M"/>
              </a:rPr>
              <a:t> atlikti tokius darbus.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dobe Myungjo Std M"/>
              </a:rPr>
              <a:t>Prieš pradedant dirbti, turi būti </a:t>
            </a:r>
            <a:r>
              <a:rPr b="1" lang="lt-LT" sz="2400" spc="-1" strike="noStrike">
                <a:solidFill>
                  <a:srgbClr val="000000"/>
                </a:solidFill>
                <a:latin typeface="Adobe Myungjo Std M"/>
              </a:rPr>
              <a:t>pranešta Valstybinei darbo inspekcijai</a:t>
            </a:r>
            <a:r>
              <a:rPr b="0" lang="lt-LT" sz="3200" spc="-1" strike="noStrike">
                <a:solidFill>
                  <a:srgbClr val="000000"/>
                </a:solidFill>
                <a:latin typeface="Adobe Myungjo Std M"/>
              </a:rPr>
              <a:t>.</a:t>
            </a:r>
            <a:r>
              <a:rPr b="0" lang="lt-LT" sz="3600" spc="-1" strike="noStrike">
                <a:solidFill>
                  <a:srgbClr val="000000"/>
                </a:solidFill>
                <a:latin typeface="Adobe Myungjo Std M"/>
              </a:rPr>
              <a:t> </a:t>
            </a:r>
            <a:r>
              <a:rPr b="0" lang="lt-LT" sz="2400" spc="-1" strike="noStrike">
                <a:solidFill>
                  <a:srgbClr val="000000"/>
                </a:solidFill>
                <a:latin typeface="Adobe Myungjo Std M"/>
              </a:rPr>
              <a:t>Kai pavojaus įvertinimas parodo, kad galimas poveikis yra pavienis ir nedidelio intensyvumo, </a:t>
            </a:r>
            <a:r>
              <a:rPr b="0" lang="lt-LT" sz="2400" spc="-1" strike="noStrike" u="sng">
                <a:solidFill>
                  <a:srgbClr val="000000"/>
                </a:solidFill>
                <a:uFillTx/>
                <a:latin typeface="Adobe Myungjo Std M"/>
              </a:rPr>
              <a:t>tada apie darbus pranešti nereikia</a:t>
            </a:r>
            <a:r>
              <a:rPr b="0" lang="lt-LT" sz="2400" spc="-1" strike="noStrike">
                <a:solidFill>
                  <a:srgbClr val="000000"/>
                </a:solidFill>
                <a:latin typeface="Adobe Myungjo Std M"/>
              </a:rPr>
              <a:t>. Tačiau darbdavys vis tiek turės nustatyti saugos priemones, kad būtų sumažintas asbesto plaušelių poveikis, ir </a:t>
            </a:r>
            <a:r>
              <a:rPr b="1" lang="lt-LT" sz="2400" spc="-1" strike="noStrike">
                <a:solidFill>
                  <a:srgbClr val="000000"/>
                </a:solidFill>
                <a:latin typeface="Adobe Myungjo Std M"/>
              </a:rPr>
              <a:t>garantuoti, kad tų priemonių būtų imtasi.</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ASBESTAS – KENKSMINGA, VĖŽĮ SUKELIANTI MEDŽIAGA</a:t>
            </a:r>
            <a:endParaRPr b="0" lang="en-US" sz="4000" spc="-1" strike="noStrike">
              <a:solidFill>
                <a:srgbClr val="95934b"/>
              </a:solidFill>
              <a:latin typeface="Tahoma"/>
            </a:endParaRPr>
          </a:p>
        </p:txBody>
      </p:sp>
      <p:sp>
        <p:nvSpPr>
          <p:cNvPr id="6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dobe Myungjo Std M"/>
              </a:rPr>
              <a:t>Informacijos surinkimas ir apdorojimas. </a:t>
            </a:r>
            <a:r>
              <a:rPr b="0" lang="lt-LT" sz="2400" spc="-1" strike="noStrike">
                <a:solidFill>
                  <a:srgbClr val="000000"/>
                </a:solidFill>
                <a:latin typeface="Adobe Myungjo Std M"/>
              </a:rPr>
              <a:t>Prieš pradėdami griovimo arba priežiūros darbus, darbdaviai turi surinkti visą įmanomą informaciją iš pastatų savininkų arba naudotojų (taip pat ir imant mėginius), kad būtų galima nustatyti tas medžiagas, kuriose gali būti asbesto. Kitu atveju jie turi daryti prielaidą, kad asbesto gali būti, ir atitinkamai dirbti. Darbdavys privalo užtikrinti, kad nė vienas darbuotojas nebūtų veikiamas asbesto dulkių (plaušelių) koncentracijos ore, viršijančios </a:t>
            </a:r>
            <a:r>
              <a:rPr b="1" lang="lt-LT" sz="2400" spc="-1" strike="noStrike">
                <a:solidFill>
                  <a:srgbClr val="000000"/>
                </a:solidFill>
                <a:latin typeface="Adobe Myungjo Std M"/>
              </a:rPr>
              <a:t>0,1 plaušelį/cm3</a:t>
            </a:r>
            <a:r>
              <a:rPr b="0" lang="lt-LT" sz="2400" spc="-1" strike="noStrike">
                <a:solidFill>
                  <a:srgbClr val="000000"/>
                </a:solidFill>
                <a:latin typeface="Adobe Myungjo Std M"/>
              </a:rPr>
              <a:t>, išmatuotos ar apskaičiuotos per 8 valandų pamatinį laikotarpį.</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ASBESTAS – KENKSMINGA, VĖŽĮ SUKELIANTI MEDŽIAGA</a:t>
            </a:r>
            <a:endParaRPr b="0" lang="en-US" sz="4000" spc="-1" strike="noStrike">
              <a:solidFill>
                <a:srgbClr val="95934b"/>
              </a:solidFill>
              <a:latin typeface="Tahoma"/>
            </a:endParaRPr>
          </a:p>
        </p:txBody>
      </p:sp>
      <p:sp>
        <p:nvSpPr>
          <p:cNvPr id="6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dobe Myungjo Std M"/>
              </a:rPr>
              <a:t>Pradedant griovimo arba šalinimo darbus būtina </a:t>
            </a:r>
            <a:r>
              <a:rPr b="1" lang="lt-LT" sz="3600" spc="-1" strike="noStrike">
                <a:solidFill>
                  <a:srgbClr val="000000"/>
                </a:solidFill>
                <a:latin typeface="Adobe Myungjo Std M"/>
              </a:rPr>
              <a:t>parengti darbų planą.</a:t>
            </a:r>
            <a:r>
              <a:rPr b="0" lang="lt-LT" sz="3600" spc="-1" strike="noStrike">
                <a:solidFill>
                  <a:srgbClr val="000000"/>
                </a:solidFill>
                <a:latin typeface="Adobe Myungjo Std M"/>
              </a:rPr>
              <a:t>  Planas turi būti kuriamas atsižvelgiant į būsimų darbų pavojaus įvertinimo išvadas. Plane turi būti nurodoma asbesto poveikio darbuotojams ir kitiems asmenims poveikio rūšis ir mastas.</a:t>
            </a:r>
            <a:endParaRPr b="0" lang="en-US" sz="3600" spc="-1" strike="noStrike">
              <a:solidFill>
                <a:srgbClr val="000000"/>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Atestuota inžinierė, </a:t>
            </a:r>
            <a:endParaRPr b="0" lang="en-US" sz="3200" spc="-1" strike="noStrike">
              <a:solidFill>
                <a:srgbClr val="000000"/>
              </a:solidFill>
              <a:latin typeface="Tahoma"/>
            </a:endParaRPr>
          </a:p>
          <a:p>
            <a:pPr marL="339480" indent="-3394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Energinio naudingumo sertifikavimo ekspertė,</a:t>
            </a:r>
            <a:endParaRPr b="0" lang="en-US" sz="3200" spc="-1" strike="noStrike">
              <a:solidFill>
                <a:srgbClr val="000000"/>
              </a:solidFill>
              <a:latin typeface="Tahoma"/>
            </a:endParaRPr>
          </a:p>
          <a:p>
            <a:pPr marL="339480" indent="-3394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Auditorė</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             </a:t>
            </a:r>
            <a:r>
              <a:rPr b="0" lang="lt-LT" sz="3200" spc="-1" strike="noStrike">
                <a:solidFill>
                  <a:srgbClr val="000000"/>
                </a:solidFill>
                <a:latin typeface="Tahoma"/>
              </a:rPr>
              <a:t>Vilma Mockaitienė</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Tel. 8-620-29 707</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El.p.: </a:t>
            </a:r>
            <a:r>
              <a:rPr b="0" lang="lt-LT" sz="3200" spc="-1" strike="noStrike" u="sng">
                <a:solidFill>
                  <a:srgbClr val="009900"/>
                </a:solidFill>
                <a:uFillTx/>
                <a:latin typeface="Tahoma"/>
                <a:hlinkClick r:id="rId1"/>
              </a:rPr>
              <a:t>v.</a:t>
            </a:r>
            <a:r>
              <a:rPr b="0" lang="lt-LT" sz="3200" spc="-1" strike="noStrike" u="sng">
                <a:solidFill>
                  <a:srgbClr val="009900"/>
                </a:solidFill>
                <a:uFillTx/>
                <a:latin typeface="Tahoma"/>
                <a:hlinkClick r:id="rId2"/>
              </a:rPr>
              <a:t>mockaitiene</a:t>
            </a:r>
            <a:r>
              <a:rPr b="0" lang="en-US" sz="3200" spc="-1" strike="noStrike" u="sng">
                <a:solidFill>
                  <a:srgbClr val="009900"/>
                </a:solidFill>
                <a:uFillTx/>
                <a:latin typeface="Tahoma"/>
                <a:hlinkClick r:id="rId3"/>
              </a:rPr>
              <a:t>@gmail.com</a:t>
            </a:r>
            <a:endParaRPr b="0" lang="en-US" sz="3200" spc="-1" strike="noStrike">
              <a:solidFill>
                <a:srgbClr val="000000"/>
              </a:solidFill>
              <a:latin typeface="Tahoma"/>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10-05-13</a:t>
            </a:r>
            <a:endParaRPr b="0" lang="en-US" sz="2400" spc="-1" strike="noStrike">
              <a:solidFill>
                <a:srgbClr val="000000"/>
              </a:solidFill>
              <a:latin typeface="Tahoma"/>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Š</a:t>
            </a:r>
            <a:r>
              <a:rPr b="0" lang="en-US" sz="2400" spc="-1" strike="noStrike">
                <a:solidFill>
                  <a:srgbClr val="000000"/>
                </a:solidFill>
                <a:latin typeface="Tahoma"/>
              </a:rPr>
              <a:t>iauli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Naujo statinio statyba</a:t>
            </a:r>
            <a:r>
              <a:rPr b="0" lang="lt-LT" sz="2800" spc="-1" strike="noStrike">
                <a:solidFill>
                  <a:srgbClr val="000000"/>
                </a:solidFill>
                <a:latin typeface="Tahoma"/>
              </a:rPr>
              <a:t> – statybos rūšis, kai yra tikslas statybos sklype, kuriame yra ar nėra statinių, pastatyti naują statinį; pastatyti esamo statinio antžeminį ar požeminį priestatą, neatsižvelgiant į tai, ar jie savo paskirtimi bus susiję, ar ne (išskyrus priestatų statybą, kuri pagal šio straipsnio 18 dalį priskirta statinio rekonstravimui); atstatyti buvusį (sugriuvusį, sunaikintą, nugriautą) statin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8" name="PlaceHolder 2"/>
          <p:cNvSpPr>
            <a:spLocks noGrp="1"/>
          </p:cNvSpPr>
          <p:nvPr>
            <p:ph/>
          </p:nvPr>
        </p:nvSpPr>
        <p:spPr>
          <a:xfrm>
            <a:off x="301680" y="990360"/>
            <a:ext cx="854064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rekonstravimas</a:t>
            </a:r>
            <a:r>
              <a:rPr b="0" lang="lt-LT" sz="2400" spc="-1" strike="noStrike">
                <a:solidFill>
                  <a:srgbClr val="000000"/>
                </a:solidFill>
                <a:latin typeface="Tahoma"/>
              </a:rPr>
              <a:t> – kai yra tikslas </a:t>
            </a:r>
            <a:r>
              <a:rPr b="0" lang="lt-LT" sz="2400" spc="-1" strike="noStrike" u="sng">
                <a:solidFill>
                  <a:srgbClr val="000000"/>
                </a:solidFill>
                <a:uFillTx/>
                <a:latin typeface="Tahoma"/>
              </a:rPr>
              <a:t>iš esmės pertvarkyti</a:t>
            </a:r>
            <a:r>
              <a:rPr b="0" lang="lt-LT" sz="2400" spc="-1" strike="noStrike">
                <a:solidFill>
                  <a:srgbClr val="000000"/>
                </a:solidFill>
                <a:latin typeface="Tahoma"/>
              </a:rPr>
              <a:t> esamą statinį, sukurti jo naują kokybę: pastatyti naujus aukštus ar nugriauti dalį esamų; pristatyti priestatą</a:t>
            </a:r>
            <a:r>
              <a:rPr b="0" lang="lt-LT" sz="2600" spc="-1" strike="noStrike">
                <a:solidFill>
                  <a:srgbClr val="000000"/>
                </a:solidFill>
                <a:latin typeface="Tahoma"/>
              </a:rPr>
              <a:t>,</a:t>
            </a:r>
            <a:r>
              <a:rPr b="0" lang="lt-LT" sz="2800" spc="-1" strike="noStrike">
                <a:solidFill>
                  <a:srgbClr val="000000"/>
                </a:solidFill>
                <a:latin typeface="Tahoma"/>
              </a:rPr>
              <a:t> </a:t>
            </a:r>
            <a:r>
              <a:rPr b="0" lang="lt-LT" sz="2000" spc="-1" strike="noStrike">
                <a:solidFill>
                  <a:srgbClr val="000000"/>
                </a:solidFill>
                <a:latin typeface="Tahoma"/>
              </a:rPr>
              <a:t>kurio visų aukštų, taip pat rūsio (pusrūsio), antstatų, pastogės patalpų plotų suma nebūtų didesnė </a:t>
            </a:r>
            <a:r>
              <a:rPr b="0" i="1" lang="lt-LT" sz="2000" spc="-1" strike="noStrike">
                <a:solidFill>
                  <a:srgbClr val="000000"/>
                </a:solidFill>
                <a:latin typeface="Tahoma"/>
              </a:rPr>
              <a:t>kaip 10 procentų</a:t>
            </a:r>
            <a:r>
              <a:rPr b="0" lang="lt-LT" sz="2000" spc="-1" strike="noStrike">
                <a:solidFill>
                  <a:srgbClr val="000000"/>
                </a:solidFill>
                <a:latin typeface="Tahoma"/>
              </a:rPr>
              <a:t> už statinio, prie kurio priestatas pristatomas, plotų sumą;</a:t>
            </a:r>
            <a:r>
              <a:rPr b="0" lang="lt-LT" sz="2800" spc="-1" strike="noStrike">
                <a:solidFill>
                  <a:srgbClr val="000000"/>
                </a:solidFill>
                <a:latin typeface="Tahoma"/>
              </a:rPr>
              <a:t> </a:t>
            </a:r>
            <a:r>
              <a:rPr b="0" lang="lt-LT" sz="2600" spc="-1" strike="noStrike" u="sng">
                <a:solidFill>
                  <a:srgbClr val="000000"/>
                </a:solidFill>
                <a:uFillTx/>
                <a:latin typeface="Tahoma"/>
              </a:rPr>
              <a:t>iš </a:t>
            </a:r>
            <a:r>
              <a:rPr b="0" lang="lt-LT" sz="2400" spc="-1" strike="noStrike" u="sng">
                <a:solidFill>
                  <a:srgbClr val="000000"/>
                </a:solidFill>
                <a:uFillTx/>
                <a:latin typeface="Tahoma"/>
              </a:rPr>
              <a:t>esmės keisti fasadų išvaizdą</a:t>
            </a:r>
            <a:r>
              <a:rPr b="0" lang="lt-LT" sz="2800" spc="-1" strike="noStrike">
                <a:solidFill>
                  <a:srgbClr val="000000"/>
                </a:solidFill>
                <a:latin typeface="Tahoma"/>
              </a:rPr>
              <a:t> </a:t>
            </a:r>
            <a:r>
              <a:rPr b="0" lang="lt-LT" sz="2000" spc="-1" strike="noStrike">
                <a:solidFill>
                  <a:srgbClr val="000000"/>
                </a:solidFill>
                <a:latin typeface="Tahoma"/>
              </a:rPr>
              <a:t>(keičiant apdailą, įrengiant naujus statinio elementus, duris, langus, architektūros detales, keičiant šių statinio elementų matmenis, tipą, išdėstymą ar juos pašalinant);</a:t>
            </a:r>
            <a:r>
              <a:rPr b="0" lang="lt-LT" sz="2800" spc="-1" strike="noStrike">
                <a:solidFill>
                  <a:srgbClr val="000000"/>
                </a:solidFill>
                <a:latin typeface="Tahoma"/>
              </a:rPr>
              <a:t> </a:t>
            </a:r>
            <a:r>
              <a:rPr b="0" lang="lt-LT" sz="2400" spc="-1" strike="noStrike">
                <a:solidFill>
                  <a:srgbClr val="000000"/>
                </a:solidFill>
                <a:latin typeface="Tahoma"/>
              </a:rPr>
              <a:t>keisti (pašalinti nereikalingas) bet kurias </a:t>
            </a:r>
            <a:r>
              <a:rPr b="0" lang="lt-LT" sz="2400" spc="-1" strike="noStrike" u="sng">
                <a:solidFill>
                  <a:srgbClr val="000000"/>
                </a:solidFill>
                <a:uFillTx/>
                <a:latin typeface="Tahoma"/>
              </a:rPr>
              <a:t>laikančiąsias konstrukcijas</a:t>
            </a:r>
            <a:r>
              <a:rPr b="0" lang="lt-LT" sz="2400" spc="-1" strike="noStrike">
                <a:solidFill>
                  <a:srgbClr val="000000"/>
                </a:solidFill>
                <a:latin typeface="Tahoma"/>
              </a:rPr>
              <a:t> kito tipo konstrukcijomis; iš esmės keisti </a:t>
            </a:r>
            <a:r>
              <a:rPr b="0" lang="lt-LT" sz="2400" spc="-1" strike="noStrike" u="sng">
                <a:solidFill>
                  <a:srgbClr val="000000"/>
                </a:solidFill>
                <a:uFillTx/>
                <a:latin typeface="Tahoma"/>
              </a:rPr>
              <a:t>patalpų planą pertvarkant laikančiąsias konstrukcijas</a:t>
            </a:r>
            <a:r>
              <a:rPr b="0" lang="lt-LT" sz="2400" spc="-1" strike="noStrike">
                <a:solidFill>
                  <a:srgbClr val="000000"/>
                </a:solidFill>
                <a:latin typeface="Tahoma"/>
              </a:rPr>
              <a:t>; apšiltinti išorines atitvaras;</a:t>
            </a:r>
            <a:r>
              <a:rPr b="0" lang="lt-LT" sz="2800" spc="-1" strike="noStrike">
                <a:solidFill>
                  <a:srgbClr val="000000"/>
                </a:solidFill>
                <a:latin typeface="Tahoma"/>
              </a:rPr>
              <a:t> </a:t>
            </a:r>
            <a:r>
              <a:rPr b="0" lang="lt-LT" sz="2000" spc="-1" strike="noStrike">
                <a:solidFill>
                  <a:srgbClr val="000000"/>
                </a:solidFill>
                <a:latin typeface="Tahoma"/>
              </a:rPr>
              <a:t>atlikti kapitalinio remonto darbus, jei šie darbai atliekami kartu su statinio rekonstravimu;</a:t>
            </a:r>
            <a:r>
              <a:rPr b="0" lang="lt-LT" sz="2800" spc="-1" strike="noStrike">
                <a:solidFill>
                  <a:srgbClr val="000000"/>
                </a:solidFill>
                <a:latin typeface="Tahoma"/>
              </a:rPr>
              <a:t> </a:t>
            </a:r>
            <a:r>
              <a:rPr b="0" lang="lt-LT" sz="2400" spc="-1" strike="noStrike">
                <a:solidFill>
                  <a:srgbClr val="000000"/>
                </a:solidFill>
                <a:latin typeface="Tahoma"/>
              </a:rPr>
              <a:t>pertvarkyti bendrąsias inžinerines sistemas </a:t>
            </a:r>
            <a:r>
              <a:rPr b="0" lang="lt-LT" sz="2400" spc="-1" strike="noStrike" u="sng">
                <a:solidFill>
                  <a:srgbClr val="000000"/>
                </a:solidFill>
                <a:uFillTx/>
                <a:latin typeface="Tahoma"/>
              </a:rPr>
              <a:t>keičiant jų tipą, pralaidumą</a:t>
            </a:r>
            <a:r>
              <a:rPr b="0" lang="lt-LT" sz="2400" spc="-1" strike="noStrike">
                <a:solidFill>
                  <a:srgbClr val="000000"/>
                </a:solidFill>
                <a:latin typeface="Tahoma"/>
              </a:rPr>
              <a:t>; </a:t>
            </a:r>
            <a:r>
              <a:rPr b="0" lang="lt-LT" sz="2400" spc="-1" strike="noStrike" u="sng">
                <a:solidFill>
                  <a:srgbClr val="000000"/>
                </a:solidFill>
                <a:uFillTx/>
                <a:latin typeface="Tahoma"/>
              </a:rPr>
              <a:t>pritaikyti statinį naujai paskirčiai</a:t>
            </a:r>
            <a:r>
              <a:rPr b="0" lang="lt-LT" sz="2400" spc="-1" strike="noStrike">
                <a:solidFill>
                  <a:srgbClr val="000000"/>
                </a:solidFill>
                <a:latin typeface="Tahoma"/>
              </a:rPr>
              <a:t>,</a:t>
            </a:r>
            <a:r>
              <a:rPr b="0" lang="lt-LT" sz="2800" spc="-1" strike="noStrike">
                <a:solidFill>
                  <a:srgbClr val="000000"/>
                </a:solidFill>
                <a:latin typeface="Tahoma"/>
              </a:rPr>
              <a:t> </a:t>
            </a:r>
            <a:r>
              <a:rPr b="0" lang="lt-LT" sz="2000" spc="-1" strike="noStrike">
                <a:solidFill>
                  <a:srgbClr val="000000"/>
                </a:solidFill>
                <a:latin typeface="Tahoma"/>
              </a:rPr>
              <a:t>kai nustatyti naujos paskirties reikalavimai yra griežtesni negu buvusios ir kai šių reikalavimų negalima laikytis atliekant paprastąjį ar kapitalinį remontą.</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remontas</a:t>
            </a:r>
            <a:r>
              <a:rPr b="0" lang="lt-LT" sz="2800" spc="-1" strike="noStrike">
                <a:solidFill>
                  <a:srgbClr val="000000"/>
                </a:solidFill>
                <a:latin typeface="Tahoma"/>
              </a:rPr>
              <a:t> – statybos rūšis, kai yra tikslas iš dalies arba visiškai </a:t>
            </a:r>
            <a:r>
              <a:rPr b="0" lang="lt-LT" sz="2800" spc="-1" strike="noStrike" u="sng">
                <a:solidFill>
                  <a:srgbClr val="000000"/>
                </a:solidFill>
                <a:uFillTx/>
                <a:latin typeface="Tahoma"/>
              </a:rPr>
              <a:t>atkurti</a:t>
            </a:r>
            <a:r>
              <a:rPr b="0" lang="lt-LT" sz="2800" spc="-1" strike="noStrike">
                <a:solidFill>
                  <a:srgbClr val="000000"/>
                </a:solidFill>
                <a:latin typeface="Tahoma"/>
              </a:rPr>
              <a:t> normatyvinių statybos techninių dokumentų nustatytas statinio ar jo dalies savybes, pablogėjusias dėl statinio naudojimo, arba jas </a:t>
            </a:r>
            <a:r>
              <a:rPr b="0" lang="lt-LT" sz="2800" spc="-1" strike="noStrike" u="sng">
                <a:solidFill>
                  <a:srgbClr val="000000"/>
                </a:solidFill>
                <a:uFillTx/>
                <a:latin typeface="Tahoma"/>
              </a:rPr>
              <a:t>pagerinti</a:t>
            </a:r>
            <a:r>
              <a:rPr b="0" lang="lt-LT" sz="2800" spc="-1" strike="noStrike">
                <a:solidFill>
                  <a:srgbClr val="000000"/>
                </a:solidFill>
                <a:latin typeface="Tahoma"/>
              </a:rPr>
              <a:t>. Statinio remontas skirstomas į statinio </a:t>
            </a:r>
            <a:r>
              <a:rPr b="1" lang="lt-LT" sz="2800" spc="-1" strike="noStrike">
                <a:solidFill>
                  <a:srgbClr val="000000"/>
                </a:solidFill>
                <a:latin typeface="Tahoma"/>
              </a:rPr>
              <a:t>kapitalinį </a:t>
            </a:r>
            <a:r>
              <a:rPr b="0" lang="lt-LT" sz="2800" spc="-1" strike="noStrike">
                <a:solidFill>
                  <a:srgbClr val="000000"/>
                </a:solidFill>
                <a:latin typeface="Tahoma"/>
              </a:rPr>
              <a:t>remontą ir statinio </a:t>
            </a:r>
            <a:r>
              <a:rPr b="1" lang="lt-LT" sz="2800" spc="-1" strike="noStrike">
                <a:solidFill>
                  <a:srgbClr val="000000"/>
                </a:solidFill>
                <a:latin typeface="Tahoma"/>
              </a:rPr>
              <a:t>paprastąjį </a:t>
            </a:r>
            <a:r>
              <a:rPr b="0" lang="lt-LT" sz="2800" spc="-1" strike="noStrike">
                <a:solidFill>
                  <a:srgbClr val="000000"/>
                </a:solidFill>
                <a:latin typeface="Tahoma"/>
              </a:rPr>
              <a:t>remontą.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2" name="PlaceHolder 2"/>
          <p:cNvSpPr>
            <a:spLocks noGrp="1"/>
          </p:cNvSpPr>
          <p:nvPr>
            <p:ph/>
          </p:nvPr>
        </p:nvSpPr>
        <p:spPr>
          <a:xfrm>
            <a:off x="301680" y="1219320"/>
            <a:ext cx="8540640" cy="5333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kapitalinis remontas</a:t>
            </a:r>
            <a:r>
              <a:rPr b="0" lang="lt-LT" sz="2800" spc="-1" strike="noStrike">
                <a:solidFill>
                  <a:srgbClr val="000000"/>
                </a:solidFill>
                <a:latin typeface="Tahoma"/>
              </a:rPr>
              <a:t> – susidėvėjusios laikančiosios konstrukcijos </a:t>
            </a:r>
            <a:r>
              <a:rPr b="0" lang="lt-LT" sz="2000" spc="-1" strike="noStrike">
                <a:solidFill>
                  <a:srgbClr val="000000"/>
                </a:solidFill>
                <a:latin typeface="Tahoma"/>
              </a:rPr>
              <a:t>(išskyrus laikančiąsias sienas, karkasą ir pamatus, kurie tik stiprinami)</a:t>
            </a:r>
            <a:r>
              <a:rPr b="0" lang="lt-LT" sz="2800" spc="-1" strike="noStrike">
                <a:solidFill>
                  <a:srgbClr val="000000"/>
                </a:solidFill>
                <a:latin typeface="Tahoma"/>
              </a:rPr>
              <a:t> </a:t>
            </a:r>
            <a:r>
              <a:rPr b="0" lang="lt-LT" sz="2800" spc="-1" strike="noStrike" u="sng">
                <a:solidFill>
                  <a:srgbClr val="000000"/>
                </a:solidFill>
                <a:uFillTx/>
                <a:latin typeface="Tahoma"/>
              </a:rPr>
              <a:t>keičiamos į tokias pat</a:t>
            </a:r>
            <a:r>
              <a:rPr b="0" lang="lt-LT" sz="2800" spc="-1" strike="noStrike">
                <a:solidFill>
                  <a:srgbClr val="000000"/>
                </a:solidFill>
                <a:latin typeface="Tahoma"/>
              </a:rPr>
              <a:t> ar ilgaamžiškesnes bei geresnes naudojimo savybes turinčias laikančiąsias konstrukcijas ar esamos laikančiosios konstrukcijos </a:t>
            </a:r>
            <a:r>
              <a:rPr b="0" lang="lt-LT" sz="2800" spc="-1" strike="noStrike" u="sng">
                <a:solidFill>
                  <a:srgbClr val="000000"/>
                </a:solidFill>
                <a:uFillTx/>
                <a:latin typeface="Tahoma"/>
              </a:rPr>
              <a:t>stiprinamos</a:t>
            </a:r>
            <a:r>
              <a:rPr b="0" lang="lt-LT" sz="2800" spc="-1" strike="noStrike">
                <a:solidFill>
                  <a:srgbClr val="000000"/>
                </a:solidFill>
                <a:latin typeface="Tahoma"/>
              </a:rPr>
              <a:t>; </a:t>
            </a:r>
            <a:r>
              <a:rPr b="0" lang="lt-LT" sz="2800" spc="-1" strike="noStrike" u="sng">
                <a:solidFill>
                  <a:srgbClr val="000000"/>
                </a:solidFill>
                <a:uFillTx/>
                <a:latin typeface="Tahoma"/>
              </a:rPr>
              <a:t>iš dalies keičiama</a:t>
            </a:r>
            <a:r>
              <a:rPr b="0" lang="lt-LT" sz="2800" spc="-1" strike="noStrike">
                <a:solidFill>
                  <a:srgbClr val="000000"/>
                </a:solidFill>
                <a:latin typeface="Tahoma"/>
              </a:rPr>
              <a:t> fasadų išvaizda </a:t>
            </a:r>
            <a:r>
              <a:rPr b="0" lang="lt-LT" sz="2000" spc="-1" strike="noStrike">
                <a:solidFill>
                  <a:srgbClr val="000000"/>
                </a:solidFill>
                <a:latin typeface="Tahoma"/>
              </a:rPr>
              <a:t>(keičiama dalis fasado elementų ar įrengiami papildomai nauji elementai – balkonai, durys, langai, architektūros detalės, keičiama susidėvėjusi statinio išorės apdaila į tokio pat tipo kaip buvusi ar į kitą apdailą);</a:t>
            </a:r>
            <a:r>
              <a:rPr b="0" lang="lt-LT" sz="2800" spc="-1" strike="noStrike">
                <a:solidFill>
                  <a:srgbClr val="000000"/>
                </a:solidFill>
                <a:latin typeface="Tahoma"/>
              </a:rPr>
              <a:t> </a:t>
            </a:r>
            <a:r>
              <a:rPr b="0" lang="lt-LT" sz="2400" spc="-1" strike="noStrike">
                <a:solidFill>
                  <a:srgbClr val="000000"/>
                </a:solidFill>
                <a:latin typeface="Tahoma"/>
              </a:rPr>
              <a:t>įrengiamos atskirosios statinio inžinerinės sistemos; </a:t>
            </a:r>
            <a:r>
              <a:rPr b="0" lang="lt-LT" sz="2800" spc="-1" strike="noStrike">
                <a:solidFill>
                  <a:srgbClr val="000000"/>
                </a:solidFill>
                <a:latin typeface="Tahoma"/>
              </a:rPr>
              <a:t>keičiamos susidėvėjusios bendrosios inžinerinės sistemos ar jų elementai </a:t>
            </a:r>
            <a:r>
              <a:rPr b="0" lang="lt-LT" sz="2800" spc="-1" strike="noStrike" u="sng">
                <a:solidFill>
                  <a:srgbClr val="000000"/>
                </a:solidFill>
                <a:uFillTx/>
                <a:latin typeface="Tahoma"/>
              </a:rPr>
              <a:t>į kitas tokio pat tipo sistemas</a:t>
            </a:r>
            <a:r>
              <a:rPr b="0" lang="lt-LT" sz="2800" spc="-1" strike="noStrike">
                <a:solidFill>
                  <a:srgbClr val="000000"/>
                </a:solidFill>
                <a:latin typeface="Tahoma"/>
              </a:rPr>
              <a:t> (elementus) nedidinant jų pralaidum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4" name="PlaceHolder 2"/>
          <p:cNvSpPr>
            <a:spLocks noGrp="1"/>
          </p:cNvSpPr>
          <p:nvPr>
            <p:ph/>
          </p:nvPr>
        </p:nvSpPr>
        <p:spPr>
          <a:xfrm>
            <a:off x="301680" y="1599840"/>
            <a:ext cx="8540640" cy="47242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paprastasis remontas</a:t>
            </a:r>
            <a:r>
              <a:rPr b="0" lang="lt-LT" sz="2800" spc="-1" strike="noStrike">
                <a:solidFill>
                  <a:srgbClr val="000000"/>
                </a:solidFill>
                <a:latin typeface="Tahoma"/>
              </a:rPr>
              <a:t> </a:t>
            </a:r>
            <a:r>
              <a:rPr b="0" lang="lt-LT" sz="2000" spc="-1" strike="noStrike">
                <a:solidFill>
                  <a:srgbClr val="000000"/>
                </a:solidFill>
                <a:latin typeface="Tahoma"/>
              </a:rPr>
              <a:t>(atitinka CK sąvoką „einamasis remontas“)</a:t>
            </a:r>
            <a:r>
              <a:rPr b="0" lang="lt-LT" sz="2800" spc="-1" strike="noStrike">
                <a:solidFill>
                  <a:srgbClr val="000000"/>
                </a:solidFill>
                <a:latin typeface="Tahoma"/>
              </a:rPr>
              <a:t> –atliekami išorės ir vidaus konstrukcijų remonto darbai </a:t>
            </a:r>
            <a:r>
              <a:rPr b="0" lang="lt-LT" sz="2000" spc="-1" strike="noStrike">
                <a:solidFill>
                  <a:srgbClr val="000000"/>
                </a:solidFill>
                <a:latin typeface="Tahoma"/>
              </a:rPr>
              <a:t>(šalinami defektai nekeičiant ir nestiprinant laikančiųjų konstrukcijų, bet keičiant ar stiprinant kitas konstrukcijas bei elementus);</a:t>
            </a:r>
            <a:r>
              <a:rPr b="0" lang="lt-LT" sz="2800" spc="-1" strike="noStrike">
                <a:solidFill>
                  <a:srgbClr val="000000"/>
                </a:solidFill>
                <a:latin typeface="Tahoma"/>
              </a:rPr>
              <a:t> keičiamos pertvarų vietos; nežymiai keičiamas statinio fasadas </a:t>
            </a:r>
            <a:r>
              <a:rPr b="0" lang="lt-LT" sz="2000" spc="-1" strike="noStrike">
                <a:solidFill>
                  <a:srgbClr val="000000"/>
                </a:solidFill>
                <a:latin typeface="Tahoma"/>
              </a:rPr>
              <a:t>(atnaujinama fasado apdaila, įstiklinamos gyvenamojo namo atskirų butų lodžijos, balkonai, pakeičiami butų ar kitų patalpų langai, durys, vėdinimo angos nekeičiant kiekvieno iš jų matmenų daugiau kaip 10 procentų);</a:t>
            </a:r>
            <a:r>
              <a:rPr b="0" lang="lt-LT" sz="2800" spc="-1" strike="noStrike">
                <a:solidFill>
                  <a:srgbClr val="000000"/>
                </a:solidFill>
                <a:latin typeface="Tahoma"/>
              </a:rPr>
              <a:t> keičiamos atskirosios statinio inžinerinės sistemos </a:t>
            </a:r>
            <a:r>
              <a:rPr b="0" lang="lt-LT" sz="2000" spc="-1" strike="noStrike">
                <a:solidFill>
                  <a:srgbClr val="000000"/>
                </a:solidFill>
                <a:latin typeface="Tahoma"/>
              </a:rPr>
              <a:t>(jų tipas, pralaidumas) ar šalinami jų defektai;</a:t>
            </a:r>
            <a:r>
              <a:rPr b="0" lang="lt-LT" sz="2800" spc="-1" strike="noStrike">
                <a:solidFill>
                  <a:srgbClr val="000000"/>
                </a:solidFill>
                <a:latin typeface="Tahoma"/>
              </a:rPr>
              <a:t> šalinami bendrųjų inžinerinių sistemų defektai; atliekamas bendrųjų inžinerinių sistemų dalių, kurios skirtos tik butų ar kitų patalpų reikmėms, remont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bvietė </a:t>
            </a:r>
            <a:r>
              <a:rPr b="0" lang="lt-LT" sz="2800" spc="-1" strike="noStrike">
                <a:solidFill>
                  <a:srgbClr val="000000"/>
                </a:solidFill>
                <a:latin typeface="Tahoma"/>
              </a:rPr>
              <a:t>– statinio statybos darbų vieta (teritorija, kurios ribos nustatomos statinio projekte atsižvelgiant į vykdomus statybos darbus, kuri gali sutapti ar nesutapti su statybos sklypo ribomis). Nesutapimo atveju statybvietės dalimi taip pat laikomas žemės plotas, kurio statytojas nevaldo nuosavybės teise arba nevaldo ir nenaudoja kitais Lietuvos Respublikos įstatymų nustatytais pagrindais ir kurio ribas nustato statytojo ir šio žemės ploto savininko (ar asmens, disponuojančio žeme) sutartis; statinys – kai visi statybos darbai atliekami statinio viduj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garantinis terminas</a:t>
            </a:r>
            <a:r>
              <a:rPr b="0" lang="lt-LT" sz="2400" spc="-1" strike="noStrike">
                <a:solidFill>
                  <a:srgbClr val="000000"/>
                </a:solidFill>
                <a:latin typeface="Tahoma"/>
              </a:rPr>
              <a:t> nustatomas statinio projektavimo, rangos ir statinio statybos techninės priežiūros sutartyse. Šis terminas negali būti trumpesnis </a:t>
            </a:r>
            <a:r>
              <a:rPr b="0" lang="lt-LT" sz="2000" spc="-1" strike="noStrike">
                <a:solidFill>
                  <a:srgbClr val="000000"/>
                </a:solidFill>
                <a:latin typeface="Tahoma"/>
              </a:rPr>
              <a:t>(skaičiuojant nuo statinio pripažinimo tinkamu naudoti dienos)</a:t>
            </a:r>
            <a:r>
              <a:rPr b="0" lang="lt-LT" sz="2400" spc="-1" strike="noStrike">
                <a:solidFill>
                  <a:srgbClr val="000000"/>
                </a:solidFill>
                <a:latin typeface="Tahoma"/>
              </a:rPr>
              <a:t> kaip 5 metai, paslėptų statinio elementų </a:t>
            </a:r>
            <a:r>
              <a:rPr b="0" lang="lt-LT" sz="2000" spc="-1" strike="noStrike">
                <a:solidFill>
                  <a:srgbClr val="000000"/>
                </a:solidFill>
                <a:latin typeface="Tahoma"/>
              </a:rPr>
              <a:t>(konstrukcijų, vamzdynų ir kt.)</a:t>
            </a:r>
            <a:r>
              <a:rPr b="0" lang="lt-LT" sz="2400" spc="-1" strike="noStrike">
                <a:solidFill>
                  <a:srgbClr val="000000"/>
                </a:solidFill>
                <a:latin typeface="Tahoma"/>
              </a:rPr>
              <a:t> – 10 metų, o jeigu buvo nustatyta šiuose elementuose tyčia paslėptų defektų, – 20 metų.</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Garantinis terminas sustabdomas tam laikui, kurį statinys negalėjo būti naudojamas dėl nustatytų defektų, už kuriuos atsako rangov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r>
              <a:rPr b="0" lang="en-US" sz="4000" spc="-1" strike="noStrike">
                <a:solidFill>
                  <a:srgbClr val="95934b"/>
                </a:solidFill>
                <a:latin typeface="Tahoma"/>
              </a:rPr>
              <a:t> </a:t>
            </a:r>
            <a:r>
              <a:rPr b="0" lang="lt-LT" sz="1800" spc="-1" strike="noStrike">
                <a:solidFill>
                  <a:srgbClr val="95934b"/>
                </a:solidFill>
                <a:latin typeface="Tahoma"/>
              </a:rPr>
              <a:t>(2010-01-25 redakcija)</a:t>
            </a:r>
            <a:endParaRPr b="0" lang="en-US" sz="1800" spc="-1" strike="noStrike">
              <a:solidFill>
                <a:srgbClr val="95934b"/>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projektavimo sąlygų sąvadas </a:t>
            </a:r>
            <a:r>
              <a:rPr b="0" lang="lt-LT" sz="2800" spc="-1" strike="noStrike">
                <a:solidFill>
                  <a:srgbClr val="000000"/>
                </a:solidFill>
                <a:latin typeface="Tahoma"/>
              </a:rPr>
              <a:t>–</a:t>
            </a:r>
            <a:r>
              <a:rPr b="1" lang="lt-LT" sz="2800" spc="-1" strike="noStrike">
                <a:solidFill>
                  <a:srgbClr val="000000"/>
                </a:solidFill>
                <a:latin typeface="Tahoma"/>
              </a:rPr>
              <a:t> </a:t>
            </a:r>
            <a:r>
              <a:rPr b="0" lang="lt-LT" sz="2800" spc="-1" strike="noStrike">
                <a:solidFill>
                  <a:srgbClr val="000000"/>
                </a:solidFill>
                <a:latin typeface="Tahoma"/>
              </a:rPr>
              <a:t>savivaldybės administracijos direktoriaus </a:t>
            </a:r>
            <a:r>
              <a:rPr b="0" lang="lt-LT" sz="2400" spc="-1" strike="noStrike">
                <a:solidFill>
                  <a:srgbClr val="000000"/>
                </a:solidFill>
                <a:latin typeface="Tahoma"/>
              </a:rPr>
              <a:t>(jo įgalioto savivaldybės administracijos valstybės tarnautojo)</a:t>
            </a:r>
            <a:r>
              <a:rPr b="0" lang="lt-LT" sz="2800" spc="-1" strike="noStrike">
                <a:solidFill>
                  <a:srgbClr val="000000"/>
                </a:solidFill>
                <a:latin typeface="Tahoma"/>
              </a:rPr>
              <a:t> patvirtintas konkrečiam statiniui nustatytų projektavimo sąlygų, nustatančių statinio architektūros ir statybos sklypo urbanistinius reikalavimus, bendrasis dokumenta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86"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Lietuvos Respublikos statybos įstatymas  (Žin., 1996, Nr. 32-788; 2001, Nr. 101-3597; 2002-07-01);</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R 1.05.07:2002 „Statinio projektavimo sąlygų sąvadas“  (Žin., 2002, Nr. 54-2153);</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R 1.05.06:2005 „Statinio projektavimas“ (Žin., 2005, Nr. 4-80);</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R 1.07.01:2002 „Statybos leidimas“</a:t>
            </a:r>
            <a:r>
              <a:rPr b="0" lang="en-US" sz="2800" spc="-1" strike="noStrike">
                <a:solidFill>
                  <a:srgbClr val="000000"/>
                </a:solidFill>
                <a:latin typeface="Tahoma"/>
              </a:rPr>
              <a:t> </a:t>
            </a:r>
            <a:r>
              <a:rPr b="0" lang="lt-LT" sz="2800" spc="-1" strike="noStrike">
                <a:solidFill>
                  <a:srgbClr val="000000"/>
                </a:solidFill>
                <a:latin typeface="Tahoma"/>
              </a:rPr>
              <a:t> (Žin., 2002, Nr. 55-2203)</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R 1.06.03:2002 „Statinio projekto ekspertizė ir statinio ekspertizė“ (Žin., 2002, Nr. 55-2200)</a:t>
            </a:r>
            <a:r>
              <a:rPr b="0" lang="en-US" sz="2800" spc="-1" strike="noStrike" u="sng">
                <a:solidFill>
                  <a:srgbClr val="000000"/>
                </a:solidFill>
                <a:uFillTx/>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tojas pateikia prašymą ir dokumentus</a:t>
            </a:r>
            <a:r>
              <a:rPr b="0" lang="lt-LT" sz="2800" spc="-1" strike="noStrike">
                <a:solidFill>
                  <a:srgbClr val="000000"/>
                </a:solidFill>
                <a:latin typeface="Tahoma"/>
              </a:rPr>
              <a:t>:</a:t>
            </a:r>
            <a:r>
              <a:rPr b="0" lang="lt-LT"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duomenis apie statinį;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žemės klypo nuosavybės teisę ar naudojimo teisę įrodančius dokumentus (nereikia, kai statyba vykdoma savivaldybės valdomoje patikėjimo teise teritorijoj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žemės/statinio bendraturčių sutikimai;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projektinius, pasiūlymus jei jie rengiami;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tipinį projektą atnaujinamam (modernizuojamam) pastatui.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avivaldybės administracijos direktorius, gavęs išvardytus dokumentus, </a:t>
            </a:r>
            <a:r>
              <a:rPr b="0" lang="lt-LT" sz="2800" spc="-1" strike="noStrike" u="sng">
                <a:solidFill>
                  <a:srgbClr val="000000"/>
                </a:solidFill>
                <a:uFillTx/>
                <a:latin typeface="Tahoma"/>
              </a:rPr>
              <a:t>per 3 darbo dienas</a:t>
            </a:r>
            <a:r>
              <a:rPr b="0" lang="lt-LT" sz="2800" spc="-1" strike="noStrike">
                <a:solidFill>
                  <a:srgbClr val="000000"/>
                </a:solidFill>
                <a:latin typeface="Tahoma"/>
              </a:rPr>
              <a:t> pateikia paraišką statinio projektavimo sąlygoms parengti</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ojektavimo sąlygos parengiamos per 10  darbo dienų nuo savivaldybės administracijos direktoriaus paraiškos gavim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išduoda statytojui </a:t>
            </a:r>
            <a:r>
              <a:rPr b="0" lang="lt-LT" sz="2800" spc="-1" strike="noStrike" u="sng">
                <a:solidFill>
                  <a:srgbClr val="000000"/>
                </a:solidFill>
                <a:uFillTx/>
                <a:latin typeface="Tahoma"/>
              </a:rPr>
              <a:t>ne vėliau kaip per 20 darbo dienų nuo </a:t>
            </a:r>
            <a:r>
              <a:rPr b="0" i="1" lang="lt-LT" sz="2800" spc="-1" strike="noStrike" u="sng">
                <a:solidFill>
                  <a:srgbClr val="000000"/>
                </a:solidFill>
                <a:uFillTx/>
                <a:latin typeface="Tahoma"/>
              </a:rPr>
              <a:t>jo prašymo gavimo</a:t>
            </a:r>
            <a:r>
              <a:rPr b="0" lang="lt-LT" sz="2800" spc="-1" strike="noStrike">
                <a:solidFill>
                  <a:srgbClr val="000000"/>
                </a:solidFill>
                <a:latin typeface="Tahoma"/>
              </a:rPr>
              <a:t> arba per 15 darbo dienų raštu praneša motyvus, dėl kurių projektavimo sąlygų sąvadas neišduodama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Jei dėl suprojektuoto statinio būtina išplėsti esamus ar nutiesti naujus inžinerinius tinklus, susisiekimo komunikacijas, sudaroma inžinerinių tinklų savininko ar naudotojo ir statytojo (užsakovo) sutartis. Joje nurodoma inžinerinių tinklų, susisiekimo komunikacijų statybos finansavimo ir naudojimo tvarka bei nuosavybės teisės (užbaigus statybą). Ši sutartis pridedama prie statinio projektavimo sąlygų sąvad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projektavimo sąlygų sąvadas galioja tol, kol galioja statybos leidimas. Jei per 3 metus nuo statinio projektavimo sąlygų sąvado gavimo minėtas leidimas nebuvo išduotas, savivaldybės administracijos direktorius projektavimo sąlygų sąvadą tvirtina iš naujo </a:t>
            </a:r>
            <a:r>
              <a:rPr b="0" lang="lt-LT" sz="2400" spc="-1" strike="noStrike">
                <a:solidFill>
                  <a:srgbClr val="000000"/>
                </a:solidFill>
                <a:latin typeface="Tahoma"/>
              </a:rPr>
              <a:t>(projektavimo sąlygos paliekamos tos pačios arba pakeičiamos).</a:t>
            </a:r>
            <a:endParaRPr b="0" lang="en-US" sz="2400" spc="-1" strike="noStrike">
              <a:solidFill>
                <a:srgbClr val="000000"/>
              </a:solidFill>
              <a:latin typeface="Tahoma"/>
            </a:endParaRPr>
          </a:p>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ahoma"/>
              </a:rPr>
              <a:t>Nesudėtingo statinio, kuriam statybos leidimas neprivalomas, statinio projektavimo sąlygų sąvadas galioja 3 metus</a:t>
            </a:r>
            <a:r>
              <a:rPr b="0" lang="lt-LT" sz="2800" spc="-1" strike="noStrike">
                <a:solidFill>
                  <a:srgbClr val="000000"/>
                </a:solidFill>
                <a:latin typeface="Tahoma"/>
              </a:rPr>
              <a:t>. </a:t>
            </a:r>
            <a:r>
              <a:rPr b="0" lang="lt-LT" sz="2400" spc="-1" strike="noStrike">
                <a:solidFill>
                  <a:srgbClr val="000000"/>
                </a:solidFill>
                <a:latin typeface="Tahoma"/>
              </a:rPr>
              <a:t>Šiam terminui pasibaigus, jei statyba nepradėta, projektavimo sąlygų sąvadas tvirtinamas iš nauj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30"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Reglamento nurodytų dokumentų nereikia:</a:t>
            </a:r>
            <a:endParaRPr b="0" lang="en-US" sz="2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400" spc="-1" strike="noStrike">
                <a:solidFill>
                  <a:srgbClr val="000000"/>
                </a:solidFill>
                <a:latin typeface="Tahoma"/>
              </a:rPr>
              <a:t>kai numatoma rekonstruoti ar kapitališkai remontuoti savivaldybėms nuosavybės teise priklausančius statinius</a:t>
            </a:r>
            <a:r>
              <a:rPr b="0" lang="lt-LT" sz="1800" spc="-1" strike="noStrike">
                <a:solidFill>
                  <a:srgbClr val="000000"/>
                </a:solidFill>
                <a:latin typeface="Tahoma"/>
              </a:rPr>
              <a:t>, arba statinius, kurie pagal Valstybės turto perdavimo savivaldybių nuosavybėn įstatymą priskirti savivaldybių nuosavybei, </a:t>
            </a:r>
            <a:r>
              <a:rPr b="0" lang="lt-LT" sz="2000" spc="-1" strike="noStrike">
                <a:solidFill>
                  <a:srgbClr val="000000"/>
                </a:solidFill>
                <a:latin typeface="Tahoma"/>
              </a:rPr>
              <a:t>bet neįforminti visi būtini dokumentai,</a:t>
            </a:r>
            <a:r>
              <a:rPr b="0" lang="lt-LT" sz="1800" spc="-1" strike="noStrike">
                <a:solidFill>
                  <a:srgbClr val="000000"/>
                </a:solidFill>
                <a:latin typeface="Tahoma"/>
              </a:rPr>
              <a:t> – jei nekeičiamas šių statinių užimamas žemės plota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  </a:t>
            </a:r>
            <a:r>
              <a:rPr b="0" lang="lt-LT" sz="2400" spc="-1" strike="noStrike">
                <a:solidFill>
                  <a:srgbClr val="000000"/>
                </a:solidFill>
                <a:latin typeface="Tahoma"/>
              </a:rPr>
              <a:t>kai valstybės žemėje numatoma statyti susisiekimo komunikacijas</a:t>
            </a:r>
            <a:r>
              <a:rPr b="0" lang="lt-LT" sz="1800" spc="-1" strike="noStrike">
                <a:solidFill>
                  <a:srgbClr val="000000"/>
                </a:solidFill>
                <a:latin typeface="Tahoma"/>
              </a:rPr>
              <a:t> ar inžinerinius tinklus ir jų funkcionavimui būtinus kitus statinius, – gavus apskrities viršininko ar jo įgaliotos institucijos raštišką sutikimą;</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 </a:t>
            </a:r>
            <a:r>
              <a:rPr b="0" lang="lt-LT" sz="2400" spc="-1" strike="noStrike">
                <a:solidFill>
                  <a:srgbClr val="000000"/>
                </a:solidFill>
                <a:latin typeface="Tahoma"/>
              </a:rPr>
              <a:t>kai numatoma rekonstruoti ar kapitališkai remontuoti daugiabutį namą</a:t>
            </a:r>
            <a:r>
              <a:rPr b="0" lang="lt-LT" sz="1800" spc="-1" strike="noStrike">
                <a:solidFill>
                  <a:srgbClr val="000000"/>
                </a:solidFill>
                <a:latin typeface="Tahoma"/>
              </a:rPr>
              <a:t>, kuriam nėra priskirtas žemės sklypas ir neįforminti žemės naudojimo dokumentai – jei nekeičiamas namo užimamas žemės plotas (išskyrus įėjimo laiptelius, pandusus, liftus ar keltuvus), aukštis ir tūris ar pagrindinė naudojimo paskirtis...</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32"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ahoma"/>
              </a:rPr>
              <a:t>Statinio projektavimo sąlygos</a:t>
            </a:r>
            <a:r>
              <a:rPr b="0" lang="lt-LT" sz="2800" spc="-1" strike="noStrike">
                <a:solidFill>
                  <a:srgbClr val="000000"/>
                </a:solidFill>
                <a:latin typeface="Tahoma"/>
              </a:rPr>
              <a:t>, </a:t>
            </a:r>
            <a:r>
              <a:rPr b="0" lang="lt-LT" sz="2800" spc="-1" strike="noStrike" u="sng">
                <a:solidFill>
                  <a:srgbClr val="000000"/>
                </a:solidFill>
                <a:uFillTx/>
                <a:latin typeface="Tahoma"/>
              </a:rPr>
              <a:t>privalomos</a:t>
            </a:r>
            <a:r>
              <a:rPr b="0" lang="lt-LT" sz="2000" spc="-1" strike="noStrike" u="sng">
                <a:solidFill>
                  <a:srgbClr val="000000"/>
                </a:solidFill>
                <a:uFillTx/>
                <a:latin typeface="Tahoma"/>
              </a:rPr>
              <a:t>:</a:t>
            </a:r>
            <a:endParaRPr b="0" lang="en-US" sz="20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ahoma"/>
              </a:rPr>
              <a:t>1. </a:t>
            </a:r>
            <a:r>
              <a:rPr b="0" lang="lt-LT" sz="2400" spc="-1" strike="noStrike">
                <a:solidFill>
                  <a:srgbClr val="000000"/>
                </a:solidFill>
                <a:latin typeface="Tahoma"/>
              </a:rPr>
              <a:t>naujai statomiems statiniams</a:t>
            </a:r>
            <a:r>
              <a:rPr b="0" lang="lt-LT" sz="1800" spc="-1" strike="noStrike">
                <a:solidFill>
                  <a:srgbClr val="000000"/>
                </a:solidFill>
                <a:latin typeface="Tahoma"/>
              </a:rPr>
              <a:t>, išskyrus nesudėtingus (tarp jų – laikinus);</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2. </a:t>
            </a:r>
            <a:r>
              <a:rPr b="0" lang="lt-LT" sz="2400" spc="-1" strike="noStrike">
                <a:solidFill>
                  <a:srgbClr val="000000"/>
                </a:solidFill>
                <a:latin typeface="Tahoma"/>
              </a:rPr>
              <a:t>rekonstruojamiems statiniams</a:t>
            </a:r>
            <a:r>
              <a:rPr b="0" lang="lt-LT" sz="1800" spc="-1" strike="noStrike">
                <a:solidFill>
                  <a:srgbClr val="000000"/>
                </a:solidFill>
                <a:latin typeface="Tahoma"/>
              </a:rPr>
              <a:t>, kai statomi nauji aukštai, priestatai (nustatyto dydžio), iš esmės keičiama statinio fasadų išvaizda;</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3. </a:t>
            </a:r>
            <a:r>
              <a:rPr b="0" lang="lt-LT" sz="2400" spc="-1" strike="noStrike">
                <a:solidFill>
                  <a:srgbClr val="000000"/>
                </a:solidFill>
                <a:latin typeface="Tahoma"/>
              </a:rPr>
              <a:t>kapitališkai remontuojamiems statiniams</a:t>
            </a:r>
            <a:r>
              <a:rPr b="0" lang="lt-LT" sz="1800" spc="-1" strike="noStrike">
                <a:solidFill>
                  <a:srgbClr val="000000"/>
                </a:solidFill>
                <a:latin typeface="Tahoma"/>
              </a:rPr>
              <a:t>, kai iš dalies keičiama statinio fasadų išvaizda (išskyrus atvejus, kai keičiama statinio išorės apdaila į tokio pat tipo, kaip buvusi apdaila);</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4. </a:t>
            </a:r>
            <a:r>
              <a:rPr b="0" lang="lt-LT" sz="2400" spc="-1" strike="noStrike">
                <a:solidFill>
                  <a:srgbClr val="000000"/>
                </a:solidFill>
                <a:latin typeface="Tahoma"/>
              </a:rPr>
              <a:t>daugiabučio</a:t>
            </a:r>
            <a:r>
              <a:rPr b="0" lang="lt-LT" sz="1800" spc="-1" strike="noStrike">
                <a:solidFill>
                  <a:srgbClr val="000000"/>
                </a:solidFill>
                <a:latin typeface="Tahoma"/>
              </a:rPr>
              <a:t> gyvenamojo namo gyvenamųjų patalpų paskirties keitimo;</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5.daugiabučio gyvenamojo namo bendro naudojimo objektų (bendro naudojimo patalpų, pagrindinių namo konstrukcijų, bendro naudojimo mechaninės, elektros, sanitarinės-techninės įrangos ir kitokios įrangos) </a:t>
            </a:r>
            <a:r>
              <a:rPr b="0" lang="lt-LT" sz="2400" spc="-1" strike="noStrike">
                <a:solidFill>
                  <a:srgbClr val="000000"/>
                </a:solidFill>
                <a:latin typeface="Tahoma"/>
              </a:rPr>
              <a:t>rekonstravimo</a:t>
            </a:r>
            <a:r>
              <a:rPr b="0" lang="lt-LT" sz="1800" spc="-1" strike="noStrike">
                <a:solidFill>
                  <a:srgbClr val="000000"/>
                </a:solidFill>
                <a:latin typeface="Tahoma"/>
              </a:rPr>
              <a:t>;</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6. daugiabučio gyvenamojo namo </a:t>
            </a:r>
            <a:r>
              <a:rPr b="0" lang="lt-LT" sz="2400" spc="-1" strike="noStrike">
                <a:solidFill>
                  <a:srgbClr val="000000"/>
                </a:solidFill>
                <a:latin typeface="Tahoma"/>
              </a:rPr>
              <a:t>dalinio rekonstravimo atveju</a:t>
            </a:r>
            <a:r>
              <a:rPr b="0" lang="lt-LT" sz="1800" spc="-1" strike="noStrike">
                <a:solidFill>
                  <a:srgbClr val="000000"/>
                </a:solidFill>
                <a:latin typeface="Tahoma"/>
              </a:rPr>
              <a:t>, kai iš bendro naudojimo objektų Civilinio kodekso nustatyta tvarka atidalijamos iš bendrosios dalinės nuosavybės patalpos, kurios gali būti naudojamos kaip atskiri daikta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r>
              <a:rPr b="0" lang="en-US" sz="4400" spc="-1" strike="noStrike">
                <a:solidFill>
                  <a:srgbClr val="95934b"/>
                </a:solidFill>
                <a:latin typeface="Tahoma"/>
              </a:rPr>
              <a:t> </a:t>
            </a:r>
            <a:r>
              <a:rPr b="0" lang="lt-LT" sz="1800" spc="-1" strike="noStrike">
                <a:solidFill>
                  <a:srgbClr val="95934b"/>
                </a:solidFill>
                <a:latin typeface="Tahoma"/>
              </a:rPr>
              <a:t>2010 m. sausio 27 d redakcija</a:t>
            </a:r>
            <a:endParaRPr b="0" lang="en-US" sz="1800" spc="-1" strike="noStrike">
              <a:solidFill>
                <a:srgbClr val="95934b"/>
              </a:solidFill>
              <a:latin typeface="Tahoma"/>
            </a:endParaRPr>
          </a:p>
        </p:txBody>
      </p:sp>
      <p:sp>
        <p:nvSpPr>
          <p:cNvPr id="4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projektavimo pradžia laikoma statinio projektavimo sąlygų sąvado patvirtinimo diena, o jei šis sąvadas neprivalomas, – projektavimo darbų rangos sutarties pasirašymo diena.</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ivalomuosius Projekto rengimo dokumentus </a:t>
            </a:r>
            <a:r>
              <a:rPr b="0" lang="lt-LT" sz="2800" spc="-1" strike="noStrike" u="sng">
                <a:solidFill>
                  <a:srgbClr val="000000"/>
                </a:solidFill>
                <a:uFillTx/>
                <a:latin typeface="Tahoma"/>
              </a:rPr>
              <a:t>Projektuotojui pateikia Statytojas</a:t>
            </a:r>
            <a:r>
              <a:rPr b="0" lang="lt-LT" sz="2800" spc="-1" strike="noStrike">
                <a:solidFill>
                  <a:srgbClr val="000000"/>
                </a:solidFill>
                <a:latin typeface="Tahoma"/>
              </a:rPr>
              <a:t>. Statytojas parengti ar gauti Privalomuosius dokumentus gali sutartimi įgalioti Projektuotoją arba fizinį ar juridinį asmen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36"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as, prieš pradėdamas projektuoti visuomenei svarbų statinį, privalo apie tai informuoti visuomenę. </a:t>
            </a:r>
            <a:r>
              <a:rPr b="1" lang="lt-LT" sz="2800" spc="-1" strike="noStrike">
                <a:solidFill>
                  <a:srgbClr val="000000"/>
                </a:solidFill>
                <a:latin typeface="Tahoma"/>
              </a:rPr>
              <a:t>Informavimo tikslas</a:t>
            </a:r>
            <a:r>
              <a:rPr b="0" lang="lt-LT" sz="2800" spc="-1" strike="noStrike">
                <a:solidFill>
                  <a:srgbClr val="000000"/>
                </a:solidFill>
                <a:latin typeface="Tahoma"/>
              </a:rPr>
              <a:t> – sudaryti sąlygas visuomenei patikrinti, ar rengiant Projektą vykdomi teritorijų planavimo dokumentų sprendiniai, susiję su Projektu.</a:t>
            </a:r>
            <a:endParaRPr b="0" lang="en-US" sz="2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ytojas iki statinio projektavimo pradžios privalo patalpinti seniūnijos skelbimų lentoje (stende), vietinėje spaudoje bei savivaldybės ar seniūnijos Interneto puslapyje pranešimą. </a:t>
            </a:r>
            <a:r>
              <a:rPr b="1" lang="lt-LT" sz="2000" spc="-1" strike="noStrike">
                <a:solidFill>
                  <a:srgbClr val="000000"/>
                </a:solidFill>
                <a:latin typeface="Tahoma"/>
              </a:rPr>
              <a:t>Pranešime turi būti nurodyta</a:t>
            </a:r>
            <a:r>
              <a:rPr b="0" lang="lt-LT" sz="2000" spc="-1" strike="noStrike">
                <a:solidFill>
                  <a:srgbClr val="000000"/>
                </a:solidFill>
                <a:latin typeface="Tahoma"/>
              </a:rPr>
              <a:t>: numatomo projektuoti statinio statybvietės adresas; statinio paskirtis; teritorijų planavimo dokumentas ir jo patvirtinimo data; žemės sklypo plano schema 1:2000 masteliu su išdėstytais esamais bei projektuojamais statiniais; planuojama statinio projektavimo ir statybos pradžia bei pabaiga; projektuotojo pavadinimas ir jo būstinės adres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projektas </a:t>
            </a:r>
            <a:r>
              <a:rPr b="0" lang="lt-LT" sz="2800" spc="-1" strike="noStrike">
                <a:solidFill>
                  <a:srgbClr val="000000"/>
                </a:solidFill>
                <a:latin typeface="Tahoma"/>
              </a:rPr>
              <a:t>–nustatytos sudėties dokumentų, </a:t>
            </a:r>
            <a:r>
              <a:rPr b="0" lang="lt-LT" sz="2400" spc="-1" strike="noStrike">
                <a:solidFill>
                  <a:srgbClr val="000000"/>
                </a:solidFill>
                <a:latin typeface="Tahoma"/>
              </a:rPr>
              <a:t>kuriuose pateikiami Statytojo sumanyto statyti statinio sprendiniai pagal Projekto dalis,</a:t>
            </a:r>
            <a:r>
              <a:rPr b="0" lang="lt-LT" sz="2800" spc="-1" strike="noStrike">
                <a:solidFill>
                  <a:srgbClr val="000000"/>
                </a:solidFill>
                <a:latin typeface="Tahoma"/>
              </a:rPr>
              <a:t> skirtų statinio statybai įteisinti ir vykdyti, visuma:</a:t>
            </a:r>
            <a:endParaRPr b="0" lang="en-US" sz="28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a:t>
            </a:r>
            <a:r>
              <a:rPr b="0" lang="lt-LT" sz="2800" spc="-1" strike="noStrike">
                <a:solidFill>
                  <a:srgbClr val="000000"/>
                </a:solidFill>
                <a:latin typeface="Tahoma"/>
              </a:rPr>
              <a:t> </a:t>
            </a:r>
            <a:r>
              <a:rPr b="1" lang="lt-LT" sz="2800" spc="-1" strike="noStrike">
                <a:solidFill>
                  <a:srgbClr val="000000"/>
                </a:solidFill>
                <a:latin typeface="Tahoma"/>
              </a:rPr>
              <a:t>techninis projektas </a:t>
            </a:r>
            <a:r>
              <a:rPr b="0" lang="lt-LT" sz="2800" spc="-1" strike="noStrike">
                <a:solidFill>
                  <a:srgbClr val="000000"/>
                </a:solidFill>
                <a:latin typeface="Tahoma"/>
              </a:rPr>
              <a:t>– Projekto pirmasis ir pagrindinis etapas, kurio sprendiniai detalizuojami darbo projekte. </a:t>
            </a:r>
            <a:r>
              <a:rPr b="0" lang="lt-LT" sz="2400" spc="-1" strike="noStrike">
                <a:solidFill>
                  <a:srgbClr val="000000"/>
                </a:solidFill>
                <a:latin typeface="Tahoma"/>
              </a:rPr>
              <a:t>Techninis projektas rengiamas kaip vientisas dokumentas, nustatantis projektuojamo statinio esminius, funkcinius (paskirties), architektūros (estetinius), technologijos, techninius, ekonominius, kokybės reikalavimus, bei kitus jo rodiklius ir charakteristik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0" name="PlaceHolder 2"/>
          <p:cNvSpPr>
            <a:spLocks noGrp="1"/>
          </p:cNvSpPr>
          <p:nvPr>
            <p:ph/>
          </p:nvPr>
        </p:nvSpPr>
        <p:spPr>
          <a:xfrm>
            <a:off x="301680" y="1218960"/>
            <a:ext cx="8540640" cy="5181480"/>
          </a:xfrm>
          <a:prstGeom prst="rect">
            <a:avLst/>
          </a:prstGeom>
          <a:noFill/>
          <a:ln w="0">
            <a:noFill/>
          </a:ln>
        </p:spPr>
        <p:txBody>
          <a:bodyPr lIns="90000" rIns="90000" tIns="46800" bIns="46800" anchor="t">
            <a:normAutofit/>
          </a:bodyPr>
          <a:p>
            <a:pPr marL="343080" indent="-343080">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darbo projektas</a:t>
            </a:r>
            <a:r>
              <a:rPr b="0" lang="lt-LT" sz="2800" spc="-1" strike="noStrike">
                <a:solidFill>
                  <a:srgbClr val="000000"/>
                </a:solidFill>
                <a:latin typeface="Tahoma"/>
              </a:rPr>
              <a:t> – Projekto antrasis etapas, Techninio projekto tąsa, kuriame detalizuojami Techninio projekto sprendiniai ir pagal kurį atliekami statybos darbai.</a:t>
            </a:r>
            <a:r>
              <a:rPr b="0" lang="lt-LT" sz="2400" spc="-1" strike="noStrike">
                <a:solidFill>
                  <a:srgbClr val="000000"/>
                </a:solidFill>
                <a:latin typeface="Tahoma"/>
              </a:rPr>
              <a:t> </a:t>
            </a:r>
            <a:r>
              <a:rPr b="0" lang="lt-LT" sz="2000" spc="-1" strike="noStrike">
                <a:solidFill>
                  <a:srgbClr val="000000"/>
                </a:solidFill>
                <a:latin typeface="Tahoma"/>
              </a:rPr>
              <a:t>Darbo projektas gali būti rengiamas kaip vientisas dokumentas vienu metu arba atskirais sprendinių dokumentais;</a:t>
            </a:r>
            <a:endParaRPr b="0" lang="en-US" sz="2000" spc="-1" strike="noStrike">
              <a:solidFill>
                <a:srgbClr val="000000"/>
              </a:solidFill>
              <a:latin typeface="Tahoma"/>
            </a:endParaRPr>
          </a:p>
          <a:p>
            <a:pPr marL="343080" indent="-3430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techninis darbo projektas</a:t>
            </a:r>
            <a:r>
              <a:rPr b="0" lang="lt-LT" sz="2400" spc="-1" strike="noStrike">
                <a:solidFill>
                  <a:srgbClr val="000000"/>
                </a:solidFill>
                <a:latin typeface="Tahoma"/>
              </a:rPr>
              <a:t> – Projektas, apjungiantis Techninį projektą ir Darbo projektą;</a:t>
            </a:r>
            <a:endParaRPr b="0" lang="en-US" sz="24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upaprastintas</a:t>
            </a:r>
            <a:r>
              <a:rPr b="0" lang="lt-LT" sz="2800" spc="-1" strike="noStrike">
                <a:solidFill>
                  <a:srgbClr val="000000"/>
                </a:solidFill>
                <a:latin typeface="Tahoma"/>
              </a:rPr>
              <a:t> </a:t>
            </a:r>
            <a:r>
              <a:rPr b="1" lang="lt-LT" sz="2800" spc="-1" strike="noStrike">
                <a:solidFill>
                  <a:srgbClr val="000000"/>
                </a:solidFill>
                <a:latin typeface="Tahoma"/>
              </a:rPr>
              <a:t>statinio projektas </a:t>
            </a:r>
            <a:r>
              <a:rPr b="0" lang="lt-LT" sz="2800" spc="-1" strike="noStrike">
                <a:solidFill>
                  <a:srgbClr val="000000"/>
                </a:solidFill>
                <a:latin typeface="Tahoma"/>
              </a:rPr>
              <a:t>– sumažintos apimties Projektas, skirtas nesudėtingam statiniui statyti, kai jis šios kategorijos statiniui yra privaloma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88"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 1.096.04:2007 „Statinio projekto vykdymo priežiūra“  (Žin., 2007, Nr.112-4588);</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 1.09.05:2002 „Statinio statybos techninė priežiūra“  (Žin., 2002, Nr.43-1638);</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11.01:2002 „Statinių pripažinimo tinkamais naudoti tvarka“ (Žin., 2002, Nr. 60-2475)</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a:t>
            </a:r>
            <a:r>
              <a:rPr b="0" lang="lt-LT" sz="2400" spc="-1" strike="noStrike">
                <a:solidFill>
                  <a:srgbClr val="000000"/>
                </a:solidFill>
                <a:latin typeface="Tahoma"/>
              </a:rPr>
              <a:t>Saugos ir sveikatos taisyklės statyboje  </a:t>
            </a:r>
            <a:r>
              <a:rPr b="0" lang="en-US" sz="2400" spc="-1" strike="noStrike">
                <a:solidFill>
                  <a:srgbClr val="000000"/>
                </a:solidFill>
                <a:latin typeface="Tahoma"/>
              </a:rPr>
              <a:t>DT</a:t>
            </a:r>
            <a:r>
              <a:rPr b="0" lang="lt-LT" sz="2400" spc="-1" strike="noStrike">
                <a:solidFill>
                  <a:srgbClr val="000000"/>
                </a:solidFill>
                <a:latin typeface="Tahoma"/>
              </a:rPr>
              <a:t> 5-00“ (patvirtinta LR vyriausiojo valstybinio darbo inspektoriaus 2000 12 22 įsakymu Nr. 346) [2]</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2.01.09:2005    </a:t>
            </a:r>
            <a:r>
              <a:rPr b="0" lang="en-US" sz="2400" spc="-1" strike="noStrike">
                <a:solidFill>
                  <a:srgbClr val="000000"/>
                </a:solidFill>
                <a:latin typeface="Tahoma"/>
              </a:rPr>
              <a:t>“</a:t>
            </a:r>
            <a:r>
              <a:rPr b="0" lang="lt-LT" sz="2400" spc="-1" strike="noStrike">
                <a:solidFill>
                  <a:srgbClr val="000000"/>
                </a:solidFill>
                <a:latin typeface="Tahoma"/>
              </a:rPr>
              <a:t>Pastatų energinis naudingumas.     Energinio     naudingumo sertifikavimas</a:t>
            </a:r>
            <a:r>
              <a:rPr b="0" lang="en-US" sz="2400" spc="-1" strike="noStrike">
                <a:solidFill>
                  <a:srgbClr val="000000"/>
                </a:solidFill>
                <a:latin typeface="Tahoma"/>
              </a:rPr>
              <a:t>”</a:t>
            </a:r>
            <a:r>
              <a:rPr b="0" lang="lt-LT" sz="2400" spc="-1" strike="noStrike">
                <a:solidFill>
                  <a:srgbClr val="000000"/>
                </a:solidFill>
                <a:latin typeface="Tahoma"/>
              </a:rPr>
              <a:t> (patvirtinta Lietuvos Respublikos aplinkos      ministro 2005 m. gruodžio 20 d. įsakymu Nr. D1-624</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2" name="PlaceHolder 2"/>
          <p:cNvSpPr>
            <a:spLocks noGrp="1"/>
          </p:cNvSpPr>
          <p:nvPr>
            <p:ph/>
          </p:nvPr>
        </p:nvSpPr>
        <p:spPr>
          <a:xfrm>
            <a:off x="301680" y="1295280"/>
            <a:ext cx="8540640" cy="51818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projektavimo užduotis</a:t>
            </a:r>
            <a:r>
              <a:rPr b="0" lang="lt-LT" sz="2800" spc="-1" strike="noStrike">
                <a:solidFill>
                  <a:srgbClr val="000000"/>
                </a:solidFill>
                <a:latin typeface="Tahoma"/>
              </a:rPr>
              <a:t> – paslaugų apimtis ir projektavimo techninė užduotis su Statytojo reikalavimais (Statytojo technine specifikacija). Tai Statytojo patvirtintas dokumentas, kuriame pateikiama paslaugų apimtis ir sumanyto statyti statinio pagrindiniai funkciniai, architektūriniai, techniniai, kokybiniai, ekonominiai bei kiti rodikliai ir reikalavimai, kuriais būtina vadovautis rengiant Projektą.</a:t>
            </a:r>
            <a:endParaRPr b="0" lang="en-US" sz="2800" spc="-1" strike="noStrike">
              <a:solidFill>
                <a:srgbClr val="000000"/>
              </a:solidFill>
              <a:latin typeface="Tahoma"/>
            </a:endParaRPr>
          </a:p>
          <a:p>
            <a:pPr marL="335880" indent="-3358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echninė užduotis yra neatskiriama projektavimo darbų rangos sutarties dalis. </a:t>
            </a:r>
            <a:r>
              <a:rPr b="0" lang="lt-LT" sz="2800" spc="-1" strike="noStrike" u="sng">
                <a:solidFill>
                  <a:srgbClr val="000000"/>
                </a:solidFill>
                <a:uFillTx/>
                <a:latin typeface="Tahoma"/>
              </a:rPr>
              <a:t>Techninės užduoties rodikliai ir reikalavimai turi atitikti statinio projektavimo sąlygų sąvade nurodytus rodiklius bei reikalavim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4" name="PlaceHolder 2"/>
          <p:cNvSpPr>
            <a:spLocks noGrp="1"/>
          </p:cNvSpPr>
          <p:nvPr>
            <p:ph/>
          </p:nvPr>
        </p:nvSpPr>
        <p:spPr>
          <a:xfrm>
            <a:off x="301680" y="1295280"/>
            <a:ext cx="8540640" cy="51818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ojektavimo darbų rangos (autorinė) sutartis gali būti sudaroma viena abiem etapams</a:t>
            </a:r>
            <a:r>
              <a:rPr b="0" lang="lt-LT" sz="2400" spc="-1" strike="noStrike">
                <a:solidFill>
                  <a:srgbClr val="000000"/>
                </a:solidFill>
                <a:latin typeface="Tahoma"/>
              </a:rPr>
              <a:t> (Techniniam projektui ir Darbo projektui, Techniniam darbo projektui, Supaprastintam projektui) </a:t>
            </a:r>
            <a:r>
              <a:rPr b="0" lang="lt-LT" sz="2800" spc="-1" strike="noStrike">
                <a:solidFill>
                  <a:srgbClr val="000000"/>
                </a:solidFill>
                <a:latin typeface="Tahoma"/>
              </a:rPr>
              <a:t>arba atskirai kiekvienam statinio projektavimo etapui</a:t>
            </a:r>
            <a:r>
              <a:rPr b="0" lang="lt-LT" sz="2400" spc="-1" strike="noStrike">
                <a:solidFill>
                  <a:srgbClr val="000000"/>
                </a:solidFill>
                <a:latin typeface="Tahoma"/>
              </a:rPr>
              <a:t> (Techniniam projektui, Darbo projektui).</a:t>
            </a:r>
            <a:endParaRPr b="0" lang="en-US" sz="2400" spc="-1" strike="noStrike">
              <a:solidFill>
                <a:srgbClr val="000000"/>
              </a:solidFill>
              <a:latin typeface="Tahoma"/>
            </a:endParaRPr>
          </a:p>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Projektavimo darbų rangos sutartis </a:t>
            </a:r>
            <a:r>
              <a:rPr b="0" lang="lt-LT" sz="2800" spc="-1" strike="noStrike">
                <a:solidFill>
                  <a:srgbClr val="000000"/>
                </a:solidFill>
                <a:latin typeface="Tahoma"/>
              </a:rPr>
              <a:t>sudaroma su vienu Projektuotoju visam Projektui parengti ar su keliais skirtingais Projektuotojais tam tikroms Projekto dalims ar tam tikrų statinių Projektams parengti</a:t>
            </a:r>
            <a:r>
              <a:rPr b="0" lang="lt-LT" sz="2400" spc="-1" strike="noStrike">
                <a:solidFill>
                  <a:srgbClr val="000000"/>
                </a:solidFill>
                <a:latin typeface="Tahoma"/>
              </a:rPr>
              <a:t>. Pastaruoju atveju sutartyse nurodoma, kuris iš Projektuotojų yra pagrindinis Projektuotojas. Jei tai nenurodyta, pagrindiniu Projektuotoju laikomas tas Projektuotojas, kuris yra paskyręs (pasamdęs) viso </a:t>
            </a:r>
            <a:r>
              <a:rPr b="0" lang="lt-LT" sz="2400" spc="-1" strike="noStrike" u="sng">
                <a:solidFill>
                  <a:srgbClr val="000000"/>
                </a:solidFill>
                <a:uFillTx/>
                <a:latin typeface="Tahoma"/>
              </a:rPr>
              <a:t>Projekto vadovą</a:t>
            </a:r>
            <a:r>
              <a:rPr b="0" lang="lt-LT"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6" name="PlaceHolder 2"/>
          <p:cNvSpPr>
            <a:spLocks noGrp="1"/>
          </p:cNvSpPr>
          <p:nvPr>
            <p:ph/>
          </p:nvPr>
        </p:nvSpPr>
        <p:spPr>
          <a:xfrm>
            <a:off x="301680" y="1218960"/>
            <a:ext cx="854064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ahoma"/>
              </a:rPr>
              <a:t>Privalomųjų dokumentų sudėtis</a:t>
            </a:r>
            <a:r>
              <a:rPr b="1" lang="lt-LT" sz="2400" spc="-1" strike="noStrike" u="sng">
                <a:solidFill>
                  <a:srgbClr val="000000"/>
                </a:solidFill>
                <a:uFillTx/>
                <a:latin typeface="Tahoma"/>
              </a:rPr>
              <a:t> </a:t>
            </a:r>
            <a:r>
              <a:rPr b="1" lang="lt-LT" sz="2800" spc="-1" strike="noStrike" u="sng">
                <a:solidFill>
                  <a:srgbClr val="000000"/>
                </a:solidFill>
                <a:uFillTx/>
                <a:latin typeface="Tahoma"/>
              </a:rPr>
              <a:t>bendruoju atveju</a:t>
            </a:r>
            <a:r>
              <a:rPr b="0" lang="lt-LT" sz="2800" spc="-1" strike="noStrike" u="sng">
                <a:solidFill>
                  <a:srgbClr val="000000"/>
                </a:solidFill>
                <a:uFillTx/>
                <a:latin typeface="Tahoma"/>
              </a:rPr>
              <a:t>:</a:t>
            </a:r>
            <a:endParaRPr b="0" lang="en-US" sz="2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1. </a:t>
            </a:r>
            <a:r>
              <a:rPr b="1" lang="lt-LT" sz="2800" spc="-1" strike="noStrike">
                <a:solidFill>
                  <a:srgbClr val="000000"/>
                </a:solidFill>
                <a:latin typeface="Tahoma"/>
              </a:rPr>
              <a:t>detalusis planas</a:t>
            </a:r>
            <a:r>
              <a:rPr b="1" lang="lt-LT" sz="1800" spc="-1" strike="noStrike">
                <a:solidFill>
                  <a:srgbClr val="000000"/>
                </a:solidFill>
                <a:latin typeface="Tahoma"/>
              </a:rPr>
              <a:t> </a:t>
            </a:r>
            <a:r>
              <a:rPr b="0" lang="lt-LT" sz="1800" spc="-1" strike="noStrike">
                <a:solidFill>
                  <a:srgbClr val="000000"/>
                </a:solidFill>
                <a:latin typeface="Tahoma"/>
              </a:rPr>
              <a:t>–</a:t>
            </a:r>
            <a:r>
              <a:rPr b="1" lang="lt-LT" sz="1800" spc="-1" strike="noStrike">
                <a:solidFill>
                  <a:srgbClr val="000000"/>
                </a:solidFill>
                <a:latin typeface="Tahoma"/>
              </a:rPr>
              <a:t> </a:t>
            </a:r>
            <a:r>
              <a:rPr b="0" lang="lt-LT" sz="1800" spc="-1" strike="noStrike">
                <a:solidFill>
                  <a:srgbClr val="000000"/>
                </a:solidFill>
                <a:latin typeface="Tahoma"/>
              </a:rPr>
              <a:t>privalomas Teritorijų planavimo įstatymo nustatytais atvejais ir rengiamas šio įstatymo pagrindu priimtų teisės aktų nustatyta tvarka ir nustatytos sudėtie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2.</a:t>
            </a:r>
            <a:r>
              <a:rPr b="1" lang="lt-LT" sz="1800" spc="-1" strike="noStrike">
                <a:solidFill>
                  <a:srgbClr val="000000"/>
                </a:solidFill>
                <a:latin typeface="Tahoma"/>
              </a:rPr>
              <a:t> Statytojo </a:t>
            </a:r>
            <a:r>
              <a:rPr b="1" lang="lt-LT" sz="2800" spc="-1" strike="noStrike">
                <a:solidFill>
                  <a:srgbClr val="000000"/>
                </a:solidFill>
                <a:latin typeface="Tahoma"/>
              </a:rPr>
              <a:t>nuosavybės teisę ar kitokią teisę</a:t>
            </a:r>
            <a:r>
              <a:rPr b="1" lang="lt-LT" sz="2400" spc="-1" strike="noStrike">
                <a:solidFill>
                  <a:srgbClr val="000000"/>
                </a:solidFill>
                <a:latin typeface="Tahoma"/>
              </a:rPr>
              <a:t> į žemę</a:t>
            </a:r>
            <a:r>
              <a:rPr b="1" lang="lt-LT" sz="1800" spc="-1" strike="noStrike">
                <a:solidFill>
                  <a:srgbClr val="000000"/>
                </a:solidFill>
                <a:latin typeface="Tahoma"/>
              </a:rPr>
              <a:t> (statybos sklypą) ar vandens telkinį (ar jo dalį) </a:t>
            </a:r>
            <a:r>
              <a:rPr b="1" lang="lt-LT" sz="2800" spc="-1" strike="noStrike">
                <a:solidFill>
                  <a:srgbClr val="000000"/>
                </a:solidFill>
                <a:latin typeface="Tahoma"/>
              </a:rPr>
              <a:t>patvirtinantys dokumenta</a:t>
            </a:r>
            <a:r>
              <a:rPr b="0" lang="lt-LT" sz="2800" spc="-1" strike="noStrike">
                <a:solidFill>
                  <a:srgbClr val="000000"/>
                </a:solidFill>
                <a:latin typeface="Tahoma"/>
              </a:rPr>
              <a:t>i</a:t>
            </a:r>
            <a:r>
              <a:rPr b="0" lang="lt-LT" sz="1800" spc="-1" strike="noStrike">
                <a:solidFill>
                  <a:srgbClr val="000000"/>
                </a:solidFill>
                <a:latin typeface="Tahoma"/>
              </a:rPr>
              <a:t> (tarp jų – bendraturčių sutikimas, jei žemės sklypas, vandens telkinys priklauso jiems bendrosios dalinės nuosavybės teis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3. </a:t>
            </a:r>
            <a:r>
              <a:rPr b="1" lang="lt-LT" sz="2800" spc="-1" strike="noStrike">
                <a:solidFill>
                  <a:srgbClr val="000000"/>
                </a:solidFill>
                <a:latin typeface="Tahoma"/>
              </a:rPr>
              <a:t>statinio bendraturčių sutikimas</a:t>
            </a:r>
            <a:r>
              <a:rPr b="1" lang="lt-LT" sz="1800" spc="-1" strike="noStrike">
                <a:solidFill>
                  <a:srgbClr val="000000"/>
                </a:solidFill>
                <a:latin typeface="Tahoma"/>
              </a:rPr>
              <a:t>,</a:t>
            </a:r>
            <a:r>
              <a:rPr b="0" lang="lt-LT" sz="1800" spc="-1" strike="noStrike">
                <a:solidFill>
                  <a:srgbClr val="000000"/>
                </a:solidFill>
                <a:latin typeface="Tahoma"/>
              </a:rPr>
              <a:t> kai rekonstruojamas ar kapitališkai remontuojamas statinys ar jo dalis priklauso jiems bendrosios nuosavybės teis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4. </a:t>
            </a:r>
            <a:r>
              <a:rPr b="1" lang="lt-LT" sz="2800" spc="-1" strike="noStrike">
                <a:solidFill>
                  <a:srgbClr val="000000"/>
                </a:solidFill>
                <a:latin typeface="Tahoma"/>
              </a:rPr>
              <a:t>projektiniai pasiūlymai</a:t>
            </a:r>
            <a:r>
              <a:rPr b="0" lang="lt-LT" sz="1800" spc="-1" strike="noStrike">
                <a:solidFill>
                  <a:srgbClr val="000000"/>
                </a:solidFill>
                <a:latin typeface="Tahoma"/>
              </a:rPr>
              <a:t>–</a:t>
            </a:r>
            <a:r>
              <a:rPr b="1" lang="lt-LT" sz="1800" spc="-1" strike="noStrike">
                <a:solidFill>
                  <a:srgbClr val="000000"/>
                </a:solidFill>
                <a:latin typeface="Tahoma"/>
              </a:rPr>
              <a:t> </a:t>
            </a:r>
            <a:r>
              <a:rPr b="0" lang="lt-LT" sz="1800" spc="-1" strike="noStrike">
                <a:solidFill>
                  <a:srgbClr val="000000"/>
                </a:solidFill>
                <a:latin typeface="Tahoma"/>
              </a:rPr>
              <a:t>tai eskizinis projektas, kurio tikslas – išreikšti projektuojamo statinio architektūros ir kitų pagrindinių sprendinių idėją ir kuris pateikiamas kaip medžiaga projektuotojo parinkimo konkursui bei gali būti naudojamas projektavimo sąlygoms parengti. Projektinių pasiūlymų sudėtį kiekvienu konkrečiu atveju nustato Statytoj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ui perduodamos dvi Projekto kopijos (pateikiamos statybos leidimui gauti Projekto dalies – trys) bei viena kompiuterinė laikmena su įrašyta Projekto kopija (minimalus raiškos reikalavimas – 300 dpi, galimi formatai – *.jpg, *.gif, *.tif, *.png, *.rtf, *.pdf, be skaitmeninių parašų). Didesnis perduodamų Projekto kopijų skaičius ar Projekto originalo (-ų) parengimas Statytojui gali būti numatytas projektavimo darbų rangos sutartyje. Projekto sprendinių skaičiavimai Statytojui nepateikiam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0" name="PlaceHolder 2"/>
          <p:cNvSpPr>
            <a:spLocks noGrp="1"/>
          </p:cNvSpPr>
          <p:nvPr>
            <p:ph/>
          </p:nvPr>
        </p:nvSpPr>
        <p:spPr>
          <a:xfrm>
            <a:off x="301680" y="1600200"/>
            <a:ext cx="8540640" cy="49528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rPr>
              <a:t>Statinio statybos skaičiuojamosios kainos nustatymas</a:t>
            </a:r>
            <a:r>
              <a:rPr b="0" lang="lt-LT" sz="2400" spc="-1" strike="noStrike">
                <a:solidFill>
                  <a:srgbClr val="000000"/>
                </a:solidFill>
                <a:latin typeface="Tahoma"/>
              </a:rPr>
              <a:t>– Projekto dalis, kurioje apskaičiuojama sumanyto statyti statinį įgyvendinimo visų išlaidų suma – </a:t>
            </a:r>
            <a:r>
              <a:rPr b="1" lang="lt-LT" sz="2800" spc="-1" strike="noStrike">
                <a:solidFill>
                  <a:srgbClr val="000000"/>
                </a:solidFill>
                <a:latin typeface="Tahoma"/>
              </a:rPr>
              <a:t>išlaidų biudžetas</a:t>
            </a:r>
            <a:r>
              <a:rPr b="0" lang="lt-LT" sz="2400" spc="-1" strike="noStrike">
                <a:solidFill>
                  <a:srgbClr val="000000"/>
                </a:solidFill>
                <a:latin typeface="Tahoma"/>
              </a:rPr>
              <a:t>. Skaičiuojamoji kaina nustatoma pagal sąnaudų kiekių žiniaraščiuose nurodytų baigtinių darbų kiekius ir skaičiuojamuosius įkainius. Darbų skaičiuojamasis įkainis – baigtinio darbo vieneto visų išlaidų suma (be PVM). Ši Projekto dalis pateikiama tik Statytojui, yra komercinė paslaptis ir rengiama šiais atvejais:</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kai Projekto įgyvendinimui taikomas Viešųjų pirkimų įstatymas, o Rangovas parenkamas pagal Techninį projektą;</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ytojui pageidaujant, ir tai nurodyta Techninėje užduotyje.</a:t>
            </a:r>
            <a:endParaRPr b="0" lang="en-US" sz="24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varbu įsitraukti “užsakovo rezervą” nenumatytiems darbams atlikti 10</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2" name="PlaceHolder 2"/>
          <p:cNvSpPr>
            <a:spLocks noGrp="1"/>
          </p:cNvSpPr>
          <p:nvPr>
            <p:ph/>
          </p:nvPr>
        </p:nvSpPr>
        <p:spPr>
          <a:xfrm>
            <a:off x="301680" y="1219320"/>
            <a:ext cx="8540640" cy="5486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Projektas keičiamas papildomos</a:t>
            </a:r>
            <a:r>
              <a:rPr b="0" lang="lt-LT" sz="2800" spc="-1" strike="noStrike">
                <a:solidFill>
                  <a:srgbClr val="000000"/>
                </a:solidFill>
                <a:latin typeface="Tahoma"/>
              </a:rPr>
              <a:t> sutarties su Projektuotoju ir Statytojo patvirtintos papildomos Techninės užduoties pagrindu. </a:t>
            </a:r>
            <a:r>
              <a:rPr b="0" lang="lt-LT" sz="2000" spc="-1" strike="noStrike">
                <a:solidFill>
                  <a:srgbClr val="000000"/>
                </a:solidFill>
                <a:latin typeface="Tahoma"/>
              </a:rPr>
              <a:t>Statybos dalyviai savo pasiūlymus šiuo klausimu teikia Statytojui. Projekto keitimus ir/ar papildymus atlieka Projektą parengęs Projektuotojas.</a:t>
            </a:r>
            <a:endParaRPr b="0" lang="en-US" sz="2000" spc="-1" strike="noStrike">
              <a:solidFill>
                <a:srgbClr val="000000"/>
              </a:solidFill>
              <a:latin typeface="Tahoma"/>
            </a:endParaRPr>
          </a:p>
          <a:p>
            <a:pPr marL="339480" indent="-3394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o statybos leidimo išdavimo keičiant Projekto sprendinius, privaloma atlikti pakeisto Projekto ekspertizę </a:t>
            </a:r>
            <a:r>
              <a:rPr b="0" lang="lt-LT" sz="1800" spc="-1" strike="noStrike">
                <a:solidFill>
                  <a:srgbClr val="000000"/>
                </a:solidFill>
                <a:latin typeface="Tahoma"/>
              </a:rPr>
              <a:t>(kai ji privaloma),</a:t>
            </a:r>
            <a:r>
              <a:rPr b="0" lang="lt-LT" sz="2800" spc="-1" strike="noStrike">
                <a:solidFill>
                  <a:srgbClr val="000000"/>
                </a:solidFill>
                <a:latin typeface="Tahoma"/>
              </a:rPr>
              <a:t> Projektą patvirtinti ar jam pritarti ir nustatyta tvarka gauti naują statybos leidimą, </a:t>
            </a:r>
            <a:r>
              <a:rPr b="0" lang="lt-LT" sz="2400" spc="-1" strike="noStrike">
                <a:solidFill>
                  <a:srgbClr val="000000"/>
                </a:solidFill>
                <a:latin typeface="Tahoma"/>
              </a:rPr>
              <a:t>jei dėl Projekto sprendinių pakeitimo:</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keičiasi pagrindinė statinio naudojimo paskirtis, statybos leidime nurodyti pagrindiniai statinio rodikliai, statinio laikančiosios konstrukcijos, didinamos planuojamos ūkinės veiklos apimtys;</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būtina pakeisti teritorijų planavimo dokumentų sprendinius arba statinio projektavimo sąlygų sąvadą.</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4"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ojekto keitimai, papildymai ir taisymai atliekami parengiant naujos laidos projektinių sprendinių dokumentą, suteikiant šiam dokumentui naują laidą. Jei Projekto dokumentai keičiami, papildomi ir taisomi kelis kartus, kiekvieną kartą dokumentui suteikiama nauja lai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6"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Projekto tvirtinimas</a:t>
            </a:r>
            <a:r>
              <a:rPr b="0" lang="lt-LT" sz="2800" spc="-1" strike="noStrike">
                <a:solidFill>
                  <a:srgbClr val="000000"/>
                </a:solidFill>
                <a:latin typeface="Tahoma"/>
              </a:rPr>
              <a:t> –Statytojas Projektui su jame pateiktais bendraisiais statinio rodikliais pritaria (žyma </a:t>
            </a:r>
            <a:r>
              <a:rPr b="1" lang="lt-LT" sz="2800" spc="-1" strike="noStrike">
                <a:solidFill>
                  <a:srgbClr val="000000"/>
                </a:solidFill>
                <a:latin typeface="Tahoma"/>
              </a:rPr>
              <a:t>„pritariu“</a:t>
            </a:r>
            <a:r>
              <a:rPr b="0" lang="lt-LT" sz="2800" spc="-1" strike="noStrike">
                <a:solidFill>
                  <a:srgbClr val="000000"/>
                </a:solidFill>
                <a:latin typeface="Tahoma"/>
              </a:rPr>
              <a:t> ir parašu ant titulinio lapo ir šių rodiklių lentelės). Arba</a:t>
            </a:r>
            <a:r>
              <a:rPr b="0" lang="en-US" sz="2800" spc="-1" strike="noStrike">
                <a:solidFill>
                  <a:srgbClr val="000000"/>
                </a:solidFill>
                <a:latin typeface="Tahoma"/>
              </a:rPr>
              <a:t> </a:t>
            </a:r>
            <a:r>
              <a:rPr b="0" lang="lt-LT" sz="2800" spc="-1" strike="noStrike">
                <a:solidFill>
                  <a:srgbClr val="000000"/>
                </a:solidFill>
                <a:latin typeface="Tahoma"/>
              </a:rPr>
              <a:t>Projektas su jame pateiktais statinio rodikliais  ar statinio rodikliais  tvirtinamas tvirtinamuoju dokumentu, prie kurio pridedamas tvirtinamų rodiklių sąraša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Darbo projekto ir Techninio darbo projekto brėžiniams (darbo brėžiniams) bei Techninio projekto ir Techninio darbo projekto Techninėms specifikacijoms statybai statinio statybos techninis prižiūrėtojas (pagal FIDIC dokumentus – Inžinierius) pritaria pasirašydamas ir pažymėdamas </a:t>
            </a:r>
            <a:r>
              <a:rPr b="1" lang="lt-LT" sz="2400" spc="-1" strike="noStrike">
                <a:solidFill>
                  <a:srgbClr val="000000"/>
                </a:solidFill>
                <a:latin typeface="Tahoma"/>
              </a:rPr>
              <a:t>„Pritariu statyti“</a:t>
            </a:r>
            <a:r>
              <a:rPr b="0" lang="lt-LT" sz="2400" spc="-1" strike="noStrike">
                <a:solidFill>
                  <a:srgbClr val="000000"/>
                </a:solidFill>
                <a:latin typeface="Tahoma"/>
              </a:rPr>
              <a:t>. Tai reiškia, kad Darbo projektas atitinka Techninio projekto sprendinius (projektavimo dviem stadijomis atveju), Projektas yra ekspertuotas (kai tai privaloma), pataisytas pagal privalomąsias ekspertizės pastabas, Patvirtintas Reglamento nustatyta tvarka ir tik pagal tokius Projekto dokumentus (darbo brėžinius ir technines specifikacijas) Rangovas gali vykdyti statybos darb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lt-LT" sz="4400" spc="-1" strike="noStrike">
                <a:solidFill>
                  <a:srgbClr val="95934b"/>
                </a:solidFill>
                <a:latin typeface="Tahoma"/>
              </a:rPr>
              <a:t>Užsakovo rezervas</a:t>
            </a:r>
            <a:r>
              <a:rPr b="0" lang="lt-LT" sz="4400" spc="-1" strike="noStrike">
                <a:solidFill>
                  <a:srgbClr val="95934b"/>
                </a:solidFill>
                <a:latin typeface="Tahoma"/>
              </a:rPr>
              <a:t>:</a:t>
            </a:r>
            <a:br>
              <a:rPr sz="6600"/>
            </a:br>
            <a:endParaRPr b="0" lang="en-US" sz="4400" spc="-1" strike="noStrike">
              <a:solidFill>
                <a:srgbClr val="95934b"/>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trukmė iki 1 metų</a:t>
            </a:r>
            <a:r>
              <a:rPr b="0" lang="en-US" sz="2800" spc="-1" strike="noStrike">
                <a:solidFill>
                  <a:srgbClr val="000000"/>
                </a:solidFill>
                <a:latin typeface="Tahoma"/>
              </a:rPr>
              <a:t> - </a:t>
            </a:r>
            <a:r>
              <a:rPr b="0" lang="lt-LT" sz="2800" spc="-1" strike="noStrike">
                <a:solidFill>
                  <a:srgbClr val="000000"/>
                </a:solidFill>
                <a:latin typeface="Tahoma"/>
              </a:rPr>
              <a:t>Iki 5</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trukmė ilgesnė kaip 1 m</a:t>
            </a:r>
            <a:r>
              <a:rPr b="0" lang="en-US" sz="2800" spc="-1" strike="noStrike">
                <a:solidFill>
                  <a:srgbClr val="000000"/>
                </a:solidFill>
                <a:latin typeface="Tahoma"/>
              </a:rPr>
              <a:t> - </a:t>
            </a:r>
            <a:r>
              <a:rPr b="0" lang="lt-LT" sz="2800" spc="-1" strike="noStrike">
                <a:solidFill>
                  <a:srgbClr val="000000"/>
                </a:solidFill>
                <a:latin typeface="Tahoma"/>
              </a:rPr>
              <a:t>Iki 10</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Remontuojamiems ir rekonstruojamiems nepriklausomai nuo trukmės</a:t>
            </a:r>
            <a:r>
              <a:rPr b="0" lang="en-US" sz="2800" spc="-1" strike="noStrike">
                <a:solidFill>
                  <a:srgbClr val="000000"/>
                </a:solidFill>
                <a:latin typeface="Tahoma"/>
              </a:rPr>
              <a:t> - </a:t>
            </a:r>
            <a:r>
              <a:rPr b="0" lang="lt-LT" sz="2800" spc="-1" strike="noStrike">
                <a:solidFill>
                  <a:srgbClr val="000000"/>
                </a:solidFill>
                <a:latin typeface="Tahoma"/>
              </a:rPr>
              <a:t>Iki 10</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inio skaičiuojamoji kaina nustatoma pagal sustambintus rodiklius</a:t>
            </a:r>
            <a:r>
              <a:rPr b="0" lang="en-US" sz="2800" spc="-1" strike="noStrike">
                <a:solidFill>
                  <a:srgbClr val="000000"/>
                </a:solidFill>
                <a:latin typeface="Tahoma"/>
              </a:rPr>
              <a:t> - </a:t>
            </a:r>
            <a:r>
              <a:rPr b="0" lang="lt-LT" sz="2800" spc="-1" strike="noStrike">
                <a:solidFill>
                  <a:srgbClr val="000000"/>
                </a:solidFill>
                <a:latin typeface="Tahoma"/>
              </a:rPr>
              <a:t>Iki 15</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Lietuvos Respublikos teritorijų planavimo įstatymą (Žin., 1995, Nr. 107-2391; 2004, Nr. 21-617);</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01.04:2002 „Statybos produktai. Atitikties įvertinimas ir „CE“ ženklinimas“ (Žin., 2002, Nr. 54-2140);</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Lietuvos Respublikos Nekilnojamojo</a:t>
            </a:r>
            <a:r>
              <a:rPr b="1" lang="lt-LT" sz="2400" spc="-1" strike="noStrike">
                <a:solidFill>
                  <a:srgbClr val="000000"/>
                </a:solidFill>
                <a:latin typeface="Tahoma"/>
              </a:rPr>
              <a:t> </a:t>
            </a:r>
            <a:r>
              <a:rPr b="0" lang="lt-LT" sz="2400" spc="-1" strike="noStrike">
                <a:solidFill>
                  <a:srgbClr val="000000"/>
                </a:solidFill>
                <a:latin typeface="Tahoma"/>
              </a:rPr>
              <a:t>kultūros paveldo</a:t>
            </a:r>
            <a:r>
              <a:rPr b="1" lang="lt-LT" sz="2400" spc="-1" strike="noStrike">
                <a:solidFill>
                  <a:srgbClr val="000000"/>
                </a:solidFill>
                <a:latin typeface="Tahoma"/>
              </a:rPr>
              <a:t> </a:t>
            </a:r>
            <a:r>
              <a:rPr b="0" lang="lt-LT" sz="2400" spc="-1" strike="noStrike">
                <a:solidFill>
                  <a:srgbClr val="000000"/>
                </a:solidFill>
                <a:latin typeface="Tahoma"/>
              </a:rPr>
              <a:t>apsaugos įstatymą (Žin., 1995, Nr. 3-37;  2004, Nr. 153-5571);</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05.05:2004 „Statinio projekto aplinkos apsaugos dalis“ (Žin., 2004, Nr. 50-1675);</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 01.07:2002 „Nesudėtingi (tarp jų laikini) statiniai“ (Žin., 2002, Nr. 43-1639; 2004, Nr. 120-4443)</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07.02:2005 „Žemės darb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r>
              <a:rPr b="0" lang="en-US" sz="4400" spc="-1" strike="noStrike">
                <a:solidFill>
                  <a:srgbClr val="95934b"/>
                </a:solidFill>
                <a:latin typeface="Tahoma"/>
              </a:rPr>
              <a:t> </a:t>
            </a:r>
            <a:endParaRPr b="0" lang="en-US" sz="4400" spc="-1" strike="noStrike">
              <a:solidFill>
                <a:srgbClr val="95934b"/>
              </a:solidFill>
              <a:latin typeface="Tahoma"/>
            </a:endParaRPr>
          </a:p>
        </p:txBody>
      </p:sp>
      <p:sp>
        <p:nvSpPr>
          <p:cNvPr id="462" name="PlaceHolder 2"/>
          <p:cNvSpPr>
            <a:spLocks noGrp="1"/>
          </p:cNvSpPr>
          <p:nvPr>
            <p:ph/>
          </p:nvPr>
        </p:nvSpPr>
        <p:spPr>
          <a:xfrm>
            <a:off x="301680" y="1295280"/>
            <a:ext cx="854064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ybos leidimas vykdyti naujo statinio statybą, statinio rekonstravimą, statinio remontą, statinio griovimą bei nekilnojamosios kultūros vertybės tvarkymo statybos darbus yra privalomas, </a:t>
            </a:r>
            <a:r>
              <a:rPr b="0" lang="lt-LT" sz="2400" spc="-1" strike="noStrike" u="sng">
                <a:solidFill>
                  <a:srgbClr val="000000"/>
                </a:solidFill>
                <a:uFillTx/>
                <a:latin typeface="Tahoma"/>
              </a:rPr>
              <a:t>išskyrus</a:t>
            </a:r>
            <a:r>
              <a:rPr b="0" lang="lt-LT"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1. </a:t>
            </a:r>
            <a:r>
              <a:rPr b="0" lang="lt-LT" sz="2400" spc="-1" strike="noStrike">
                <a:solidFill>
                  <a:srgbClr val="000000"/>
                </a:solidFill>
                <a:latin typeface="Tahoma"/>
              </a:rPr>
              <a:t>nesudėtingus (tarp jų – laikinus) statiniu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inio paprastąjį remontą (kai šis remontas vykdomas saugomose teritorijose, raštiški pritarimai);</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statinio (patalpos) pagrindinės tikslinės naudojimo paskirties keitimą, taip pat naujų kadastro objektų formavimą statinio (patalpos) padalinimo, atidalinimo, sujungimo ar amalgamacijos būdu, kai šiais atvejais nereikia atlikti jokių statybos darbų arba atliekamas tik paprastasis remonta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a:t>
            </a:r>
            <a:r>
              <a:rPr b="0" lang="lt-LT" sz="2400" spc="-1" strike="noStrike">
                <a:solidFill>
                  <a:srgbClr val="000000"/>
                </a:solidFill>
                <a:latin typeface="Tahoma"/>
              </a:rPr>
              <a:t>Savavališkų statinių griovimą, kai jį vykdo (organizuoja) pats statytojas, arba kai tokie statiniai griaunami vykdant teismų sprendimus</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64"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d gautų statybos</a:t>
            </a:r>
            <a:r>
              <a:rPr b="0" lang="lt-LT" sz="2000" spc="-1" strike="noStrike">
                <a:solidFill>
                  <a:srgbClr val="000000"/>
                </a:solidFill>
                <a:latin typeface="Tahoma"/>
              </a:rPr>
              <a:t> (išskyrus griovimą) </a:t>
            </a:r>
            <a:r>
              <a:rPr b="0" lang="lt-LT" sz="2400" spc="-1" strike="noStrike">
                <a:solidFill>
                  <a:srgbClr val="000000"/>
                </a:solidFill>
                <a:latin typeface="Tahoma"/>
              </a:rPr>
              <a:t>leidimą,</a:t>
            </a:r>
            <a:r>
              <a:rPr b="0" lang="lt-LT" sz="2000" spc="-1" strike="noStrike">
                <a:solidFill>
                  <a:srgbClr val="000000"/>
                </a:solidFill>
                <a:latin typeface="Tahoma"/>
              </a:rPr>
              <a:t> statytojas (užsakovas) savivaldybės administracijos direktoriui (jo įgaliotam savivaldybės administracijos valstybės tarnautojui) </a:t>
            </a:r>
            <a:r>
              <a:rPr b="0" lang="lt-LT" sz="2400" spc="-1" strike="noStrike">
                <a:solidFill>
                  <a:srgbClr val="000000"/>
                </a:solidFill>
                <a:latin typeface="Tahoma"/>
              </a:rPr>
              <a:t>turi pateikti</a:t>
            </a:r>
            <a:r>
              <a:rPr b="0" lang="lt-LT" sz="2000" spc="-1" strike="noStrike">
                <a:solidFill>
                  <a:srgbClr val="000000"/>
                </a:solidFill>
                <a:latin typeface="Tahoma"/>
              </a:rPr>
              <a:t>:</a:t>
            </a:r>
            <a:endParaRPr b="0" lang="en-US" sz="20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 </a:t>
            </a:r>
            <a:r>
              <a:rPr b="0" lang="lt-LT" sz="2400" spc="-1" strike="noStrike">
                <a:solidFill>
                  <a:srgbClr val="000000"/>
                </a:solidFill>
                <a:latin typeface="Tahoma"/>
              </a:rPr>
              <a:t>nustatytos formos prašymą;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žemės sklypo nuosavybės teisę ar kitą valdymo ir naudojimo teisę patvirtinančius dokumentus, taip pat žemės sklypo bendraturčių sutikimą, jei žemės sklypas priklauso jiems bendrosios nuosavybės teise</a:t>
            </a:r>
            <a:r>
              <a:rPr b="0" lang="en-US" sz="2400" spc="-1" strike="noStrike">
                <a:solidFill>
                  <a:srgbClr val="000000"/>
                </a:solidFill>
                <a:latin typeface="Tahoma"/>
              </a:rPr>
              <a:t> </a:t>
            </a:r>
            <a:r>
              <a:rPr b="0" lang="lt-LT"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sutartį su žemės savininku dėl sklypo laikino naudojimo statybos metu, dėl šio sklypo servitutų naudojant pastatytą statinį ir kompensacijų už naudojimąsi žemės sklypu bei žalą (jeigu ji padaroma) tais atvejais, kai pagal statinio projektavimo sąlygų sąvadą inžineriniai tinklai, susisiekimo komunikacijos numatomi tiesti statytojui (užsakovui) nepriklausančiame žemės sklype ar kai tokio sklypo dalį numatoma panaudoti statybvietei įrengti;</a:t>
            </a:r>
            <a:r>
              <a:rPr b="0" lang="lt-L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YBOS LEIDIMAS</a:t>
            </a:r>
            <a:endParaRPr b="0" lang="en-US" sz="4000" spc="-1" strike="noStrike">
              <a:solidFill>
                <a:srgbClr val="95934b"/>
              </a:solidFill>
              <a:latin typeface="Tahoma"/>
            </a:endParaRPr>
          </a:p>
        </p:txBody>
      </p:sp>
      <p:sp>
        <p:nvSpPr>
          <p:cNvPr id="466" name="PlaceHolder 2"/>
          <p:cNvSpPr>
            <a:spLocks noGrp="1"/>
          </p:cNvSpPr>
          <p:nvPr>
            <p:ph/>
          </p:nvPr>
        </p:nvSpPr>
        <p:spPr>
          <a:xfrm>
            <a:off x="301680" y="990720"/>
            <a:ext cx="8540640" cy="5333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statinio projektą ir kompiuterinę laikmeną su statinio projekto įrašu;</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5) statinio projekto ekspertizės aktą</a:t>
            </a:r>
            <a:r>
              <a:rPr b="1" lang="lt-LT" sz="2400" spc="-1" strike="noStrike">
                <a:solidFill>
                  <a:srgbClr val="000000"/>
                </a:solidFill>
                <a:latin typeface="Tahoma"/>
              </a:rPr>
              <a:t> </a:t>
            </a:r>
            <a:r>
              <a:rPr b="0" lang="lt-LT" sz="2400" spc="-1" strike="noStrike">
                <a:solidFill>
                  <a:srgbClr val="000000"/>
                </a:solidFill>
                <a:latin typeface="Tahoma"/>
              </a:rPr>
              <a:t>(kai privaloma);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6) statinio projekto patvirtinimo dokumentą </a:t>
            </a:r>
            <a:r>
              <a:rPr b="0" lang="lt-LT" sz="2000" spc="-1" strike="noStrike">
                <a:solidFill>
                  <a:srgbClr val="000000"/>
                </a:solidFill>
                <a:latin typeface="Tahoma"/>
              </a:rPr>
              <a:t>(kai projektą tvirtinti privaloma); </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7) atsakingos institucijos sprendimą dėl planuojamos ūkinės veiklos pasirinktoje vietoje leistinumo poveikio aplinkai požiūriu </a:t>
            </a:r>
            <a:r>
              <a:rPr b="0" lang="lt-LT" sz="2000" spc="-1" strike="noStrike">
                <a:solidFill>
                  <a:srgbClr val="000000"/>
                </a:solidFill>
                <a:latin typeface="Tahoma"/>
              </a:rPr>
              <a:t>(kai tai privaloma) pagal Planuojamos ūkinės veiklos poveikio aplinkai vertinimo įstatymą;</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8) statinio kadastrinių matavimų ir teisinės registracijos pažymėjimą </a:t>
            </a:r>
            <a:r>
              <a:rPr b="0" lang="lt-LT" sz="2000" spc="-1" strike="noStrike">
                <a:solidFill>
                  <a:srgbClr val="000000"/>
                </a:solidFill>
                <a:latin typeface="Tahoma"/>
              </a:rPr>
              <a:t>(kai statinys rekonstruojamas ar kapitališkai remontuojamas). Šio pažymėjimo nereikia dėl statinių, kurie negali būti atskiri nekilnojamojo turto kadastro objektai ir neatlikti jų kadastriniai matavimai bei teisinė registracija, – tokiais atvejais pateikiami statinio nuosavybės teisę arba kitą valdymo ir naudojimo teisę patvirtinantys dokumentai, taip pat turimi statinio planai, brėžiniai, schemos ir pa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bos leidimo išdavimas supaprastinta tvark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2800" spc="-1" strike="noStrike">
                <a:solidFill>
                  <a:srgbClr val="000000"/>
                </a:solidFill>
                <a:latin typeface="Tahoma"/>
              </a:rPr>
              <a:t>Statybos leidimai atnaujinti (modernizuoti) pastatus pagal Aplinkos ministerijos ar jos įgaliotos institucijos patvirtintus tipinius statinių projektus, pritaikytus konkretiems atnaujinamiems (modernizuojamiems) pastatams, arba pagal projektus, parengtus naudojant Aplinkos ministerijos ar jos įgaliotos institucijos patvirtintus tipinius konstrukcinius elementus, išduodami supaprastinta tvark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0"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avivaldybės administracijos subjektas, gavęs Statytojo prašymą, patikrina, ar pateikti visi reikalingi dokumentai ir ne vėliau kaip per 3 darbo dienas įregistruoja prašymą; </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jei pateikti ne visi reikalingi dokumentai, ne vėliau kaip per 3 darbo dienas raštu praneša Statytojui apie trūkstamus dokumentus; </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gavęs visus trūkstamus dokumentus, ne vėliau kaip per 3 darbo dienas įregistruoja prašymą ir apie prašymo įregistravimą raštu informuoja Statytoją.</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2800" spc="-1" strike="noStrike">
                <a:solidFill>
                  <a:srgbClr val="000000"/>
                </a:solidFill>
                <a:latin typeface="Tahoma"/>
              </a:rPr>
              <a:t>Įregistravęs prašymą, visus dokumentus perduoda Nuolatinei statybos komisijai, kuri privalo juos patikrinti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2"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sudėtingi statiniai, kuriems statyti arba griauti statybos leidimas nereikalingas, taip pat reikalavimai, kurių reikia laikytis juos statant arba griaunant, yra išvardyti statybos techniniame reglamente STR „Nesudėtingi (tarp jų – laikini) statiniai“.</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Pateiktieji dokumentai, išskyrus kadastrinių matavimų bylos kopiją, išdavus statybos leidimą, statytojui negrąžinam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leidimą išduoda apskrities viršininko administracija, jai savivaldybės administracijos subjektas privalo per 10 dienų nuo statytojo prašymo gavimo perduoti Nuolatinės statybos komisijos protokolą kartu su dokumentais</a:t>
            </a:r>
            <a:r>
              <a:rPr b="0" lang="en-US" sz="2800" spc="-1" strike="noStrike">
                <a:solidFill>
                  <a:srgbClr val="000000"/>
                </a:solidFill>
                <a:latin typeface="Tahoma"/>
              </a:rPr>
              <a:t> (</a:t>
            </a:r>
            <a:r>
              <a:rPr b="0" lang="lt-LT" sz="2800" spc="-1" strike="noStrike">
                <a:solidFill>
                  <a:srgbClr val="000000"/>
                </a:solidFill>
                <a:latin typeface="Tahoma"/>
              </a:rPr>
              <a:t>statiniui, išdėstytam kelių savivaldybių valdomoje teritorijoje, statiniui, kurio statytojas (užsakovas) yra savivaldybė</a:t>
            </a:r>
            <a:r>
              <a:rPr b="0" lang="en-US" sz="2800" spc="-1" strike="noStrike">
                <a:solidFill>
                  <a:srgbClr val="000000"/>
                </a:solidFill>
                <a:latin typeface="Tahoma"/>
              </a:rPr>
              <a:t> )</a:t>
            </a:r>
            <a:r>
              <a:rPr b="0" lang="lt-LT"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avivaldybės administracijos subjektas privalo išduoti statybos leidimą ne vėliau kaip per 10 dienų (ypatingo statinio statybos leidimą – per 15 dienų) nuo dokumentų pateikimo, o apskrities viršininko administracija – per 7 dienas nuo Nuolatinės statybos komisijos protokolo gavimo.</a:t>
            </a:r>
            <a:endParaRPr b="0" lang="en-US" sz="2800" spc="-1" strike="noStrike">
              <a:solidFill>
                <a:srgbClr val="000000"/>
              </a:solidFill>
              <a:latin typeface="Tahoma"/>
            </a:endParaRPr>
          </a:p>
          <a:p>
            <a:pPr marL="329040" indent="-32904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bos leidimo išdavimo terminas skaičiuojamas nuo statytojo prašymo išduoti statybos leidimą įregistravimo</a:t>
            </a:r>
            <a:r>
              <a:rPr b="1" lang="lt-LT" sz="2800" spc="-1" strike="noStrike">
                <a:solidFill>
                  <a:srgbClr val="000000"/>
                </a:solidFill>
                <a:latin typeface="Tahoma"/>
              </a:rPr>
              <a:t> </a:t>
            </a:r>
            <a:r>
              <a:rPr b="0" lang="lt-LT" sz="2800" spc="-1" strike="noStrike">
                <a:solidFill>
                  <a:srgbClr val="000000"/>
                </a:solidFill>
                <a:latin typeface="Tahoma"/>
              </a:rPr>
              <a:t>dienos iki pranešimo statytojui, kad jis gali parengtą leidimą pasiimti, pateikimo (išsiuntimo) dien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Jei statybos leidimas per nustatytą terminą </a:t>
            </a:r>
            <a:r>
              <a:rPr b="0" lang="lt-LT" sz="2400" spc="-1" strike="noStrike" u="sng">
                <a:solidFill>
                  <a:srgbClr val="000000"/>
                </a:solidFill>
                <a:uFillTx/>
                <a:latin typeface="Tahoma"/>
              </a:rPr>
              <a:t>nebuvo išduotas</a:t>
            </a:r>
            <a:r>
              <a:rPr b="0" lang="lt-LT" sz="2400" spc="-1" strike="noStrike">
                <a:solidFill>
                  <a:srgbClr val="000000"/>
                </a:solidFill>
                <a:latin typeface="Tahoma"/>
              </a:rPr>
              <a:t> ir Statytojui </a:t>
            </a:r>
            <a:r>
              <a:rPr b="0" lang="lt-LT" sz="2400" spc="-1" strike="noStrike" u="sng">
                <a:solidFill>
                  <a:srgbClr val="000000"/>
                </a:solidFill>
                <a:uFillTx/>
                <a:latin typeface="Tahoma"/>
              </a:rPr>
              <a:t>nepranešta apie neišdavimo priežastis</a:t>
            </a:r>
            <a:r>
              <a:rPr b="0" lang="lt-LT" sz="2400" spc="-1" strike="noStrike">
                <a:solidFill>
                  <a:srgbClr val="000000"/>
                </a:solidFill>
                <a:latin typeface="Tahoma"/>
              </a:rPr>
              <a:t>, </a:t>
            </a:r>
            <a:r>
              <a:rPr b="0" lang="lt-LT" sz="2400" spc="-1" strike="noStrike" u="sng">
                <a:solidFill>
                  <a:srgbClr val="000000"/>
                </a:solidFill>
                <a:uFillTx/>
                <a:latin typeface="Tahoma"/>
              </a:rPr>
              <a:t>statytojas turi teisę vykdyti statybą be leidimo</a:t>
            </a:r>
            <a:r>
              <a:rPr b="0" lang="lt-LT" sz="2400" spc="-1" strike="noStrike">
                <a:solidFill>
                  <a:srgbClr val="000000"/>
                </a:solidFill>
                <a:latin typeface="Tahoma"/>
              </a:rPr>
              <a:t>, </a:t>
            </a:r>
            <a:r>
              <a:rPr b="0" i="1" lang="lt-LT" sz="2400" spc="-1" strike="noStrike">
                <a:solidFill>
                  <a:srgbClr val="000000"/>
                </a:solidFill>
                <a:latin typeface="Tahoma"/>
              </a:rPr>
              <a:t>tačiau apie tai raštu pranešęs statybos leidimą išduodančiam viešojo administravimo subjektui ne vėliau kaip prieš 5 dienas iki statybos pradžios</a:t>
            </a:r>
            <a:r>
              <a:rPr b="0" lang="lt-LT" sz="2400" spc="-1" strike="noStrike">
                <a:solidFill>
                  <a:srgbClr val="000000"/>
                </a:solidFill>
                <a:latin typeface="Tahoma"/>
              </a:rPr>
              <a:t>.</a:t>
            </a:r>
            <a:r>
              <a:rPr b="0" lang="lt-LT" sz="1800" spc="-1" strike="noStrike">
                <a:solidFill>
                  <a:srgbClr val="000000"/>
                </a:solidFill>
                <a:latin typeface="Tahoma"/>
              </a:rPr>
              <a:t> </a:t>
            </a:r>
            <a:r>
              <a:rPr b="0" lang="lt-LT" sz="2000" spc="-1" strike="noStrike">
                <a:solidFill>
                  <a:srgbClr val="000000"/>
                </a:solidFill>
                <a:latin typeface="Tahoma"/>
              </a:rPr>
              <a:t>Leidimą išduodantis subjektas privalo šį raštą įregistruoti kaip statybos leidimą.</a:t>
            </a:r>
            <a:r>
              <a:rPr b="0" lang="lt-LT" sz="1800" spc="-1" strike="noStrike">
                <a:solidFill>
                  <a:srgbClr val="000000"/>
                </a:solidFill>
                <a:latin typeface="Tahoma"/>
              </a:rPr>
              <a:t> </a:t>
            </a:r>
            <a:r>
              <a:rPr b="0" lang="lt-LT" sz="2400" spc="-1" strike="noStrike">
                <a:solidFill>
                  <a:srgbClr val="000000"/>
                </a:solidFill>
                <a:latin typeface="Tahoma"/>
              </a:rPr>
              <a:t>Rašto kopija, statybos leidimui būtini duomenys bei dokumentai siunčiami Reglamento nustatyta tvarka.</a:t>
            </a:r>
            <a:r>
              <a:rPr b="0" lang="lt-LT" sz="1800" spc="-1" strike="noStrike">
                <a:solidFill>
                  <a:srgbClr val="000000"/>
                </a:solidFill>
                <a:latin typeface="Tahoma"/>
              </a:rPr>
              <a:t> </a:t>
            </a:r>
            <a:r>
              <a:rPr b="0" lang="lt-LT" sz="2000" spc="-1" strike="noStrike">
                <a:solidFill>
                  <a:srgbClr val="000000"/>
                </a:solidFill>
                <a:latin typeface="Tahoma"/>
              </a:rPr>
              <a:t>Jei Statytojo valdomame žemės sklype ar jo dalyje yra užfiksuotas savavališkos statybos faktas ir nustatyta tvarka nėra pašalinti savavališkos statybos padariniai, jis šiame punkte nurodyta galimybe pasinaudoti negali ir neturi teisės vykdyti statybą be statybos leidimo, o jo rašto, kaip statybos leidimo, viešojo administravimo subjektas neregistruoja ir raštu informuoja Statytoją, kad jis privalo pašalinti savavališkos statybos padariniu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0"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ybos leidimas galioja 10 metų. Raštiški valstybės tarnautojų pritarimai, suteikiantys teisę statyti nesudėtingus (tarp jų – laikinus) statinius, galioja 3 metus.</a:t>
            </a:r>
            <a:endParaRPr b="0" lang="en-US" sz="2400" spc="-1" strike="noStrike">
              <a:solidFill>
                <a:srgbClr val="000000"/>
              </a:solidFill>
              <a:latin typeface="Tahoma"/>
            </a:endParaRPr>
          </a:p>
          <a:p>
            <a:pPr marL="332640" indent="-33264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 </a:t>
            </a:r>
            <a:r>
              <a:rPr b="0" lang="lt-LT" sz="2400" spc="-1" strike="noStrike" u="sng">
                <a:solidFill>
                  <a:srgbClr val="000000"/>
                </a:solidFill>
                <a:uFillTx/>
                <a:latin typeface="Tahoma"/>
              </a:rPr>
              <a:t>Statybos leidimas netenka galio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kai įstatymų nustatyta tvarka žemės sklypas (jo dalis) paimamas visuomenės poreikiam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teismo sprendimu;</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jei nuo leidimo išdavimo dienos per 3 metus statinys nebuvo pradėtas statyti arba per 10 metų nebuvo pripažintas tinkamu naudoti;</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kai statybos leidimą įstatymų nustatyta tvarka panaikina jį išdavęs viešojo administravimo subjek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01.12.07:2004 „Statinių techninės priežiūros taisyklės, kvalifikaciniai reikalavimai statinių techniniams prižiūrėtojams, statinių techninės priežiūros dokumentų formos bei jų pildymo ir saugojimo tvarkos aprašas“ (patvirtinta Lietuvos Respublikos aplinkos ministro 2004 m. birželio 21 d. įsakymu Nr. D1-347)</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LRV</a:t>
            </a:r>
            <a:r>
              <a:rPr b="0" lang="en-US" sz="2400" spc="-1" strike="noStrike">
                <a:solidFill>
                  <a:srgbClr val="000000"/>
                </a:solidFill>
                <a:latin typeface="Tahoma"/>
              </a:rPr>
              <a:t> nutarimas</a:t>
            </a:r>
            <a:r>
              <a:rPr b="0" lang="lt-LT" sz="2400" spc="-1" strike="noStrike">
                <a:solidFill>
                  <a:srgbClr val="000000"/>
                </a:solidFill>
                <a:latin typeface="Tahoma"/>
              </a:rPr>
              <a:t> 1992 m. gegužės 12 d. Nr. 343</a:t>
            </a:r>
            <a:r>
              <a:rPr b="0" lang="en-US" sz="2400" spc="-1" strike="noStrike">
                <a:solidFill>
                  <a:srgbClr val="000000"/>
                </a:solidFill>
                <a:latin typeface="Tahoma"/>
              </a:rPr>
              <a:t> “</a:t>
            </a:r>
            <a:r>
              <a:rPr b="0" lang="lt-LT" sz="2400" spc="-1" strike="noStrike">
                <a:solidFill>
                  <a:srgbClr val="000000"/>
                </a:solidFill>
                <a:latin typeface="Tahoma"/>
              </a:rPr>
              <a:t>Dėl specialiųjų –emės ir miško naudojimo sąlygų patvirtinimo” (Žin., 1992, Nr.22-652)</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2"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Iki statybos leidimo galiojimo pasibaigimo, jei statinys pradėtas statyti, statybos leidimo galiojimas gali būti pratęstas vieną kartą ne ilgesniam kaip 3 metų terminui. Norėdamas pratęsti statybos leidimo galiojimą, Statytojas ne vėliau kaip per 1 mėnesį</a:t>
            </a:r>
            <a:r>
              <a:rPr b="0" lang="lt-LT" sz="2400" spc="-1" strike="noStrike">
                <a:solidFill>
                  <a:srgbClr val="000000"/>
                </a:solidFill>
                <a:latin typeface="Tahoma"/>
              </a:rPr>
              <a:t> iki statybos leidimo galiojimo pasibaigimo dienos pateikia savivaldybės administracijai arba apskrities viršininko administracijai prašymą pratęsti statybos leidimo galiojimą, nurodydamas pratęsimo motyvus ir pratęsimo terminą. Prie prašymo pridedamas galiojantis statybos leidimas ir apskrities viršininko administracijos išduota pažyma, kad statinys statomas be esminių nukrypimų nuo statinio projekto</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4" name="PlaceHolder 2"/>
          <p:cNvSpPr>
            <a:spLocks noGrp="1"/>
          </p:cNvSpPr>
          <p:nvPr>
            <p:ph/>
          </p:nvPr>
        </p:nvSpPr>
        <p:spPr>
          <a:xfrm>
            <a:off x="301680" y="1523520"/>
            <a:ext cx="8540640" cy="457524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okia pat tvarka vieną kartą ne ilgesniam kaip 1 metų terminui pratęsiamas raštiškų valstybės tarnautojų pritarimų supaprastintam statinio projektui galiojimas</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2800" spc="-1" strike="noStrike">
                <a:solidFill>
                  <a:srgbClr val="000000"/>
                </a:solidFill>
                <a:latin typeface="Tahoma"/>
              </a:rPr>
              <a:t>Statybos leidimo ar raštiškų valstybės tarnautojų pritarimų supaprastintam statinio projektui galiojimas pratęsiamas ne vėliau kaip per 10 darbo dienų nuo prašymo pratęsti galiojimą įregistravimo dien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bos tęsimas, pasibaigus statybos leidimo galiojimo laikui arba statybą sustabdžius, užtraukia Statytojui ir statybos rangovui tokią pat įstatymais nustatytą atsakomybę, kaip ir už statybos darbų vykdymą neturint statybos leidimo.</a:t>
            </a:r>
            <a:endParaRPr b="0" lang="en-US" sz="2800" spc="-1" strike="noStrike">
              <a:solidFill>
                <a:srgbClr val="000000"/>
              </a:solidFill>
              <a:latin typeface="Tahoma"/>
            </a:endParaRPr>
          </a:p>
          <a:p>
            <a:pPr marL="325800" indent="-32580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Juridiniam ar fiziniam asmeniui, įsigijusiam nebaigtą statyti, rekonstruoti ar kapitališkai remontuoti statinį, visos Statytojo, gavusio statybos leidimą, prievolės ir teisės pereina tik po to, kai šis leidimas perregistruojamas statinį įsigijusio asmens vard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8"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r>
              <a:rPr b="0" lang="lt-LT" sz="2400" spc="-1" strike="noStrike">
                <a:solidFill>
                  <a:srgbClr val="000000"/>
                </a:solidFill>
                <a:latin typeface="Tahoma"/>
              </a:rPr>
              <a:t>rivaloma gauti naują statybos leidimą</a:t>
            </a:r>
            <a:r>
              <a:rPr b="0" lang="lt-LT" sz="1800" spc="-1" strike="noStrike">
                <a:solidFill>
                  <a:srgbClr val="000000"/>
                </a:solidFill>
                <a:latin typeface="Tahoma"/>
              </a:rPr>
              <a:t> (pakeitus arba papildžius, jei reikia, kitus statybos leidimui išduoti reikalingus dokumentus), kuriame nurodomas ir turėto statybos leidimo Nr. bei jo išdavimo data, </a:t>
            </a:r>
            <a:r>
              <a:rPr b="0" lang="lt-LT" sz="2400" spc="-1" strike="noStrike">
                <a:solidFill>
                  <a:srgbClr val="000000"/>
                </a:solidFill>
                <a:latin typeface="Tahoma"/>
              </a:rPr>
              <a:t>šiais atvejais</a:t>
            </a:r>
            <a:r>
              <a:rPr b="0" lang="lt-LT" sz="1800" spc="-1" strike="noStrike">
                <a:solidFill>
                  <a:srgbClr val="000000"/>
                </a:solidFill>
                <a:latin typeface="Tahoma"/>
              </a:rPr>
              <a:t>:</a:t>
            </a:r>
            <a:endParaRPr b="0" lang="en-US" sz="18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1. </a:t>
            </a:r>
            <a:r>
              <a:rPr b="0" lang="lt-LT" sz="2000" spc="-1" strike="noStrike">
                <a:solidFill>
                  <a:srgbClr val="000000"/>
                </a:solidFill>
                <a:latin typeface="Tahoma"/>
              </a:rPr>
              <a:t>jei keičiami šie esminiai statinio projekto sprendiniai</a:t>
            </a:r>
            <a:r>
              <a:rPr b="0" lang="lt-LT" sz="1800" spc="-1" strike="noStrike">
                <a:solidFill>
                  <a:srgbClr val="000000"/>
                </a:solidFill>
                <a:latin typeface="Tahoma"/>
              </a:rPr>
              <a:t>: </a:t>
            </a:r>
            <a:r>
              <a:rPr b="0" lang="lt-LT" sz="2000" spc="-1" strike="noStrike">
                <a:solidFill>
                  <a:srgbClr val="000000"/>
                </a:solidFill>
                <a:latin typeface="Tahoma"/>
              </a:rPr>
              <a:t>statinio ar jo dalių vieta sklype, statinio ar jo dalių paskirtis, didinamas statinio užstatymo plotas, didinamas statinio ar jo dalių aukštis;</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2. </a:t>
            </a:r>
            <a:r>
              <a:rPr b="0" lang="lt-LT" sz="2000" spc="-1" strike="noStrike">
                <a:solidFill>
                  <a:srgbClr val="000000"/>
                </a:solidFill>
                <a:latin typeface="Tahoma"/>
              </a:rPr>
              <a:t>jei pasikeičia statybos leidime nurodyti pagrindiniai statinio rodikliai</a:t>
            </a:r>
            <a:r>
              <a:rPr b="0" lang="lt-LT" sz="1800" spc="-1" strike="noStrike">
                <a:solidFill>
                  <a:srgbClr val="000000"/>
                </a:solidFill>
                <a:latin typeface="Tahoma"/>
              </a:rPr>
              <a:t> </a:t>
            </a:r>
            <a:r>
              <a:rPr b="0" lang="lt-LT" sz="2000" spc="-1" strike="noStrike">
                <a:solidFill>
                  <a:srgbClr val="000000"/>
                </a:solidFill>
                <a:latin typeface="Tahoma"/>
              </a:rPr>
              <a:t>(bent vienas iš jų, išskyrus atvejį, kai dėl nelaikančiųjų konstrukcijų keitimo pasikeičia statinio bendrasis plotas arba jo dalys);</a:t>
            </a:r>
            <a:endParaRPr b="0" lang="en-US" sz="20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3. </a:t>
            </a:r>
            <a:r>
              <a:rPr b="0" lang="lt-LT" sz="2400" spc="-1" strike="noStrike">
                <a:solidFill>
                  <a:srgbClr val="000000"/>
                </a:solidFill>
                <a:latin typeface="Tahoma"/>
              </a:rPr>
              <a:t>jei keičiamos statinio laikančios konstrukcijos</a:t>
            </a:r>
            <a:r>
              <a:rPr b="0" lang="lt-LT" sz="1800" spc="-1" strike="noStrike">
                <a:solidFill>
                  <a:srgbClr val="000000"/>
                </a:solidFill>
                <a:latin typeface="Tahoma"/>
              </a:rPr>
              <a:t> (jų tipas, kiekis, matmenys);</a:t>
            </a:r>
            <a:endParaRPr b="0" lang="en-US" sz="18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4. </a:t>
            </a:r>
            <a:r>
              <a:rPr b="0" lang="lt-LT" sz="2400" spc="-1" strike="noStrike">
                <a:solidFill>
                  <a:srgbClr val="000000"/>
                </a:solidFill>
                <a:latin typeface="Tahoma"/>
              </a:rPr>
              <a:t>jei keičiami statinio projekto sprendiniai taip daro įtaką kitiems statinio projekto sprendiniams</a:t>
            </a:r>
            <a:r>
              <a:rPr b="0" lang="lt-LT" sz="1800" spc="-1" strike="noStrike">
                <a:solidFill>
                  <a:srgbClr val="000000"/>
                </a:solidFill>
                <a:latin typeface="Tahoma"/>
              </a:rPr>
              <a:t>, </a:t>
            </a:r>
            <a:r>
              <a:rPr b="0" lang="lt-LT" sz="2000" spc="-1" strike="noStrike">
                <a:solidFill>
                  <a:srgbClr val="000000"/>
                </a:solidFill>
                <a:latin typeface="Tahoma"/>
              </a:rPr>
              <a:t>įgyvendinantiems esminius statinio reikalavimus, kad pagal normatyvinių statybos techninių dokumentų arba normatyvinių statinių saugos ir paskirties dokumentų reikalavimus šiuos sprendinius būtina pakeisti</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90"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d gautų statybos leidimą tik statinį griauti, statytojas privalo pateikti savivaldybės administracijos direktoriui šiuos dokumentus:</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a:t>
            </a:r>
            <a:r>
              <a:rPr b="0" lang="lt-LT" sz="2000" spc="-1" strike="noStrike">
                <a:solidFill>
                  <a:srgbClr val="000000"/>
                </a:solidFill>
                <a:latin typeface="Tahoma"/>
              </a:rPr>
              <a:t>nustatytos formos prašymą;</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2. statinio bendrosios nuosavybės bendraturčių sutikimą, kai numatoma griauti bendraturčiams priklausantį statinį ar jo dalį;</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3. įstatymų nustatyta tvarka priimtą sprendimą nugriauti statinį, priklausantį valstybės, savivaldybės ar kito juridinio asmens nuosavybe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4. statinio griovimo technologijos aprašymą, o griaunant ypatingą statinį, – statinio griovimo projektą;</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5. statinio kadastrinių matavimų bylą (kopiją) ir pažymėjimą apie Nekilnojamojo turto registre įregistruotą statinį ir teises į jį. Kai griaunamas statinys nepripažintas tinkamu naudoti ir neįregistruotas Nekilnojamojo turto registre, pateikiamas jo turtinę priklausomybę liudijantis dokument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bos leidimas griauti statinį išduodamas per 10 dienų nuo prašymo nugriauti statinį priėmimo dienos. Jei statybos leidimas griauti statinį neišduodamas, savivaldybės administracijos subjektas (apskrities viršininko administracija) per 10 dienų nuo prašymo nugriauti statinį gavimo raštu apie tai praneša prašymą pateikusiam asmeniui, nurodydamas konkrečias neišdavimo priežastis.</a:t>
            </a:r>
            <a:endParaRPr b="0" lang="en-US" sz="2800" spc="-1" strike="noStrike">
              <a:solidFill>
                <a:srgbClr val="000000"/>
              </a:solidFill>
              <a:latin typeface="Tahoma"/>
            </a:endParaRPr>
          </a:p>
          <a:p>
            <a:pPr marL="329040" indent="-32904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bos leidimas nugriauti statinį galioja 3 metu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ys yra nugriautas ir statybvietė sutvarkyta, kai išardytos visos konstrukcijos (tarp jų ir pamatai), pašalintos statybinės medžiagos bei atliekos, susidariusios griovimo metu, ir išlygintas žemės paviršius. Tais atvejais, kai požeminės statinio dalies išardymas sudėtingas ir nebūtinas, leidžiama požeminę dalį išardyti ne visą, tačiau ne mažiau nei 0,5 m nuo žemės paviršiaus. Nugriautas statinys išregistruojamas iš Nekilnojamojo turto registr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1680" y="1436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95934b"/>
              </a:solidFill>
              <a:latin typeface="Tahoma"/>
            </a:endParaRPr>
          </a:p>
        </p:txBody>
      </p:sp>
      <p:sp>
        <p:nvSpPr>
          <p:cNvPr id="496" name="PlaceHolder 2"/>
          <p:cNvSpPr>
            <a:spLocks noGrp="1"/>
          </p:cNvSpPr>
          <p:nvPr>
            <p:ph/>
          </p:nvPr>
        </p:nvSpPr>
        <p:spPr>
          <a:xfrm>
            <a:off x="301680" y="914400"/>
            <a:ext cx="8540640" cy="51847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Leidimas ir projekto derinimas nereikalingas, kai vykdomi tokie bendrieji statybos remonto darbai:</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  remontuojami stogai, nekeičiant konstrukcinio sprendimo ir dangos tipo;</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  remontuojami pastatų fasadai, nekeičiant apdailos tipo ir spalvinio sprendimo;</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 remontuojamos patalpos, neardant, nekeičiant arba nestiprinant laikančias ir išorines atitvarines konstrukcijas, nedidinant laikančiųjų konstrukcijų apkrovas ir nepertvarkant  bendrojo naudojimo patalpas.</a:t>
            </a:r>
            <a:endParaRPr b="0" lang="en-US" sz="2000" spc="-1" strike="noStrike">
              <a:solidFill>
                <a:srgbClr val="000000"/>
              </a:solidFill>
              <a:latin typeface="Tahoma"/>
            </a:endParaRPr>
          </a:p>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Visais kitais atvejais statinių remonto ir rekonstravimo darbai įforminami laikantis STR 1.08. 02:2002 [5.2].</a:t>
            </a:r>
            <a:endParaRPr b="0" lang="en-US" sz="2000" spc="-1" strike="noStrike">
              <a:solidFill>
                <a:srgbClr val="000000"/>
              </a:solidFill>
              <a:latin typeface="Tahoma"/>
            </a:endParaRPr>
          </a:p>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Prieš pradedant statinių remonto ir rekonstrukcijos darbus su užsakovu suderinama statybvietės įrengimo ir atliekų šalinimo tvarka.</a:t>
            </a:r>
            <a:endParaRPr b="0" lang="en-US" sz="2000" spc="-1" strike="noStrike">
              <a:solidFill>
                <a:srgbClr val="000000"/>
              </a:solidFill>
              <a:latin typeface="Tahoma"/>
            </a:endParaRPr>
          </a:p>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Kai statinių remonto ir rekonstravimo darbams yra nurodyti specialieji reikalavimai, statybos vadovas privalo jų laikytis.</a:t>
            </a:r>
            <a:endParaRPr b="0" lang="en-US" sz="2000" spc="-1" strike="noStrike">
              <a:solidFill>
                <a:srgbClr val="000000"/>
              </a:solidFill>
              <a:latin typeface="Tahoma"/>
            </a:endParaRPr>
          </a:p>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inių remonto ir rekonstravimo darbai vykdomi vadovaujantis normatyviniais dokumentais, medžiagų ir gaminių gamintojų rekomendacijomis ir šių statybos taisyklių skyriuose pateiktomis statybos darbų vykdymo taisyklėmis.</a:t>
            </a:r>
            <a:endParaRPr b="0" lang="en-US" sz="2000" spc="-1" strike="noStrike">
              <a:solidFill>
                <a:srgbClr val="000000"/>
              </a:solidFill>
              <a:latin typeface="Tahoma"/>
            </a:endParaRPr>
          </a:p>
        </p:txBody>
      </p:sp>
      <p:sp>
        <p:nvSpPr>
          <p:cNvPr id="497" name=""/>
          <p:cNvSpPr/>
          <p:nvPr/>
        </p:nvSpPr>
        <p:spPr>
          <a:xfrm>
            <a:off x="4038480" y="152280"/>
            <a:ext cx="1447920" cy="609840"/>
          </a:xfrm>
          <a:prstGeom prst="smileyFace">
            <a:avLst>
              <a:gd name="adj" fmla="val 9282"/>
            </a:avLst>
          </a:pr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95934b"/>
                </a:solidFill>
                <a:latin typeface="Tahoma"/>
              </a:rPr>
              <a:t>STATINIO PROJEKTO EKSPERTIZĖ IR STATINIO EKSPERTIZĖ</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4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Bendroji projekto ekspertizė</a:t>
            </a:r>
            <a:r>
              <a:rPr b="0" lang="lt-LT" sz="2400" spc="-1" strike="noStrike">
                <a:solidFill>
                  <a:srgbClr val="000000"/>
                </a:solidFill>
                <a:latin typeface="Tahoma"/>
              </a:rPr>
              <a:t> – </a:t>
            </a:r>
            <a:r>
              <a:rPr b="0" lang="lt-LT" sz="2400" spc="-1" strike="noStrike" u="sng">
                <a:solidFill>
                  <a:srgbClr val="000000"/>
                </a:solidFill>
                <a:uFillTx/>
                <a:latin typeface="Tahoma"/>
              </a:rPr>
              <a:t>techninio projekto, kaip vientiso techninio dokumento, įvertinimas</a:t>
            </a:r>
            <a:r>
              <a:rPr b="0" lang="lt-LT" sz="2400" spc="-1" strike="noStrike">
                <a:solidFill>
                  <a:srgbClr val="000000"/>
                </a:solidFill>
                <a:latin typeface="Tahoma"/>
              </a:rPr>
              <a:t>, patikrinant kaip statinio ir jo dalių bei sistemų (statinio inžinerinių sistemų, statinio ir statybos sklypo reikmes tenkinančių inžinerinių tinklų ir susisiekimo komunikacijų), statybos sklypo tvarkymo projekto sprendiniai atitinka: esminius statinio reikalavimus, kitus statybos teisės aktų nustatytus reikalavimus bei privalomųjų statinio projekto rengimo dokumentų reikalavimus, taip pat projekto sprendinių tarpusavio ryšį ir suderinamumą. Bendroji projekto ekspertizė apibendrina dalinių projekto ekspertizių (kurios yra bendrosios projekto ekspertizės sudėtinės dalys) aktuose pateiktų projekto dalių įvertinimus, suderina juos tarpusavyje, patikrina jų kokybę ir pateikia bendrą projekto įvertinimą;</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PROJEKTO EKSPERTIZĖ</a:t>
            </a:r>
            <a:endParaRPr b="0" lang="en-US" sz="4400" spc="-1" strike="noStrike">
              <a:solidFill>
                <a:srgbClr val="95934b"/>
              </a:solidFill>
              <a:latin typeface="Tahoma"/>
            </a:endParaRPr>
          </a:p>
        </p:txBody>
      </p:sp>
      <p:sp>
        <p:nvSpPr>
          <p:cNvPr id="5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Dalinė projekto ekspertizė</a:t>
            </a:r>
            <a:r>
              <a:rPr b="0" lang="lt-LT" sz="2800" spc="-1" strike="noStrike">
                <a:solidFill>
                  <a:srgbClr val="000000"/>
                </a:solidFill>
                <a:latin typeface="Tahoma"/>
              </a:rPr>
              <a:t> – bendrosios projekto ekspertizės sudėtinė dalis; tam tikros projekto dalies įvertinimas, patikrinant kaip projekto dalies sprendiniai atitinka statinio esminius reikalavimus, kitus statybos teisės aktų nustatytus reikalavimus bei šių sprendinių tarpusavio ryšį su kitų projekto dalių sprendiniais; savarankiška (prilyginama bendrajai projekto ekspertizei) projekto dalies ekspertizė, kai projektą sudaro tik viena dalis ir bendroji projekto ekspertizė nerengia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SzPct val="8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lt-LT" sz="3200" spc="-1" strike="noStrike">
                <a:solidFill>
                  <a:srgbClr val="000000"/>
                </a:solidFill>
                <a:latin typeface="Times New Roman"/>
              </a:rPr>
              <a:t>Darbo su asbestu taisyklės</a:t>
            </a:r>
            <a:r>
              <a:rPr b="0" lang="en-US" sz="3200" spc="-1" strike="noStrike">
                <a:solidFill>
                  <a:srgbClr val="000000"/>
                </a:solidFill>
                <a:latin typeface="Times New Roman"/>
              </a:rPr>
              <a:t>”</a:t>
            </a:r>
            <a:r>
              <a:rPr b="0" lang="lt-LT" sz="3200" spc="-1" strike="noStrike">
                <a:solidFill>
                  <a:srgbClr val="000000"/>
                </a:solidFill>
                <a:latin typeface="Times New Roman"/>
              </a:rPr>
              <a:t> (Žin., 1998, Nr. 44-1225)</a:t>
            </a:r>
            <a:r>
              <a:rPr b="0" lang="en-US" sz="3200" spc="-1" strike="noStrike">
                <a:solidFill>
                  <a:srgbClr val="000000"/>
                </a:solidFill>
                <a:latin typeface="Times New Roman"/>
              </a:rPr>
              <a:t>;</a:t>
            </a:r>
            <a:endParaRPr b="0" lang="en-US" sz="3200" spc="-1" strike="noStrike">
              <a:solidFill>
                <a:srgbClr val="000000"/>
              </a:solidFill>
              <a:latin typeface="Tahoma"/>
            </a:endParaRPr>
          </a:p>
          <a:p>
            <a:pPr marL="609480" indent="-609480">
              <a:lnSpc>
                <a:spcPct val="90000"/>
              </a:lnSpc>
              <a:spcBef>
                <a:spcPts val="799"/>
              </a:spcBef>
              <a:buClr>
                <a:srgbClr val="000000"/>
              </a:buClr>
              <a:buSzPct val="8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lt-LT" sz="3200" spc="-1" strike="noStrike">
                <a:solidFill>
                  <a:srgbClr val="000000"/>
                </a:solidFill>
                <a:latin typeface="Times New Roman"/>
              </a:rPr>
              <a:t>Dėl asbesto ir jo turinčių gaminių importo, gamybos ir naudojimo</a:t>
            </a:r>
            <a:r>
              <a:rPr b="0" lang="en-US" sz="3200" spc="-1" strike="noStrike">
                <a:solidFill>
                  <a:srgbClr val="000000"/>
                </a:solidFill>
                <a:latin typeface="Times New Roman"/>
              </a:rPr>
              <a:t> </a:t>
            </a:r>
            <a:r>
              <a:rPr b="0" lang="lt-LT" sz="3200" spc="-1" strike="noStrike">
                <a:solidFill>
                  <a:srgbClr val="000000"/>
                </a:solidFill>
                <a:latin typeface="Times New Roman"/>
              </a:rPr>
              <a:t>ribojimo</a:t>
            </a:r>
            <a:r>
              <a:rPr b="0" lang="en-US" sz="3200" spc="-1" strike="noStrike">
                <a:solidFill>
                  <a:srgbClr val="000000"/>
                </a:solidFill>
                <a:latin typeface="Times New Roman"/>
              </a:rPr>
              <a:t>”</a:t>
            </a:r>
            <a:r>
              <a:rPr b="0" lang="lt-LT" sz="3200" spc="-1" strike="noStrike">
                <a:solidFill>
                  <a:srgbClr val="000000"/>
                </a:solidFill>
                <a:latin typeface="Times New Roman"/>
              </a:rPr>
              <a:t> (Žin., 1998, Nr. 88-2424; Žin., 2000, Nr. 37-1035)</a:t>
            </a:r>
            <a:r>
              <a:rPr b="0" lang="en-US" sz="3200" spc="-1" strike="noStrike">
                <a:solidFill>
                  <a:srgbClr val="000000"/>
                </a:solidFill>
                <a:latin typeface="Times New Roman"/>
              </a:rPr>
              <a:t>;</a:t>
            </a:r>
            <a:endParaRPr b="0" lang="en-US" sz="3200" spc="-1" strike="noStrike">
              <a:solidFill>
                <a:srgbClr val="000000"/>
              </a:solidFill>
              <a:latin typeface="Tahoma"/>
            </a:endParaRPr>
          </a:p>
          <a:p>
            <a:pPr marL="609480" indent="-609480">
              <a:lnSpc>
                <a:spcPct val="90000"/>
              </a:lnSpc>
              <a:spcBef>
                <a:spcPts val="799"/>
              </a:spcBef>
              <a:buClr>
                <a:srgbClr val="000000"/>
              </a:buClr>
              <a:buSzPct val="8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liekų tvarkymo taisyklės (Žin., 1999, Nr. 63-2065)</a:t>
            </a:r>
            <a:r>
              <a:rPr b="0" lang="en-US" sz="3200" spc="-1" strike="noStrike">
                <a:solidFill>
                  <a:srgbClr val="000000"/>
                </a:solidFill>
                <a:latin typeface="Times New Roman"/>
              </a:rPr>
              <a:t>;</a:t>
            </a:r>
            <a:endParaRPr b="0" lang="en-US" sz="3200" spc="-1" strike="noStrike">
              <a:solidFill>
                <a:srgbClr val="000000"/>
              </a:solidFill>
              <a:latin typeface="Tahoma"/>
            </a:endParaRPr>
          </a:p>
          <a:p>
            <a:pPr marL="609480" indent="-609480">
              <a:lnSpc>
                <a:spcPct val="90000"/>
              </a:lnSpc>
              <a:spcBef>
                <a:spcPts val="799"/>
              </a:spcBef>
              <a:buClr>
                <a:srgbClr val="000000"/>
              </a:buClr>
              <a:buSzPct val="8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nkos taršos asbestu prevencijos ir mažinimo taisyklės (Žin., 2000, Nr. 70-2081);</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pecialioji projekto ekspertizė</a:t>
            </a:r>
            <a:r>
              <a:rPr b="0" lang="lt-LT" sz="2800" spc="-1" strike="noStrike">
                <a:solidFill>
                  <a:srgbClr val="000000"/>
                </a:solidFill>
                <a:latin typeface="Tahoma"/>
              </a:rPr>
              <a:t> – įvertinimas, kaip statinio projekte įgyvendinti įstatymų ir kitų teisės aktų pagrindu normatyviniuose statinio saugos bei paskirties dokumentuose nustatyti reikalavimai. Specialiąją projekto ekspertizę atlieka statinio saugos ir paskirties reikalavimų valstybinės priežiūros institucijos pagal joms įstatymų ir kitų teisės aktų priskirtas priežiūros sritis ir šių institucijų nustatyta tvarka; </a:t>
            </a:r>
            <a:r>
              <a:rPr b="0" i="1" lang="lt-LT" sz="2800" spc="-1" strike="noStrike">
                <a:solidFill>
                  <a:srgbClr val="000000"/>
                </a:solidFill>
                <a:latin typeface="Tahoma"/>
              </a:rPr>
              <a:t>prie specialiosios projekto ekspertizės taip pat priskiriama projekto technologinės dalies ekspertizė;</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rPr>
              <a:t>Statinio ekspertizė</a:t>
            </a:r>
            <a:r>
              <a:rPr b="0" lang="lt-LT" sz="3200" spc="-1" strike="noStrike">
                <a:solidFill>
                  <a:srgbClr val="000000"/>
                </a:solidFill>
                <a:latin typeface="Tahoma"/>
              </a:rPr>
              <a:t> – esamo ar statomo statinio techninės būklės įvertinimas, norint nustatyti, ar statinys atitinka Statybos įstatymo nurodytus esminius statinio reikalavimus</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aujo statinio statybos, rekonstravimo ir kapitalinio remonto atvejais bendroji projekto ir dalinė projekto ekspertizės yra </a:t>
            </a:r>
            <a:r>
              <a:rPr b="0" lang="lt-LT" sz="2800" spc="-1" strike="noStrike" u="sng">
                <a:solidFill>
                  <a:srgbClr val="000000"/>
                </a:solidFill>
                <a:uFillTx/>
                <a:latin typeface="Tahoma"/>
              </a:rPr>
              <a:t>privaloma</a:t>
            </a:r>
            <a:r>
              <a:rPr b="0" lang="lt-LT" sz="2800" spc="-1" strike="noStrike">
                <a:solidFill>
                  <a:srgbClr val="000000"/>
                </a:solidFill>
                <a:latin typeface="Tahoma"/>
              </a:rPr>
              <a:t>, </a:t>
            </a:r>
            <a:r>
              <a:rPr b="0" i="1" lang="lt-LT" sz="2800" spc="-1" strike="noStrike">
                <a:solidFill>
                  <a:srgbClr val="000000"/>
                </a:solidFill>
                <a:latin typeface="Tahoma"/>
              </a:rPr>
              <a:t>išskyrus atvejus, kai pastatai atnaujinami (modernizuojami) pagal Aplinkos ministerijos ar jos įgaliotos institucijos patvirtintus tipinius statinių projektus, pritaikytus konkretiems atnaujinamiems (modernizuojamiems) pastatams, arba pagal projektus, parengtus naudojant Aplinkos ministerijos ar jos įgaliotos institucijos patvirtintus tipinius konstrukcinius elementus</a:t>
            </a:r>
            <a:r>
              <a:rPr b="0" lang="lt-LT"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udėtingų konstrukcijų ir sudėtingų technologijų statinių darbo projektų konstrukcinės dalies ekspertizė yra </a:t>
            </a:r>
            <a:r>
              <a:rPr b="1" lang="lt-LT" sz="3200" spc="-1" strike="noStrike">
                <a:solidFill>
                  <a:srgbClr val="000000"/>
                </a:solidFill>
                <a:latin typeface="Tahoma"/>
              </a:rPr>
              <a:t>privaloma</a:t>
            </a:r>
            <a:r>
              <a:rPr b="0" lang="lt-LT" sz="3200" spc="-1" strike="noStrike">
                <a:solidFill>
                  <a:srgbClr val="000000"/>
                </a:solidFill>
                <a:latin typeface="Tahoma"/>
              </a:rPr>
              <a:t>, taip pat privaloma atlikti ir kitų darbo projekto dalių ekspertizę, jei tai nurodyta techninio projekto ekspertizės ak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11" name="PlaceHolder 2"/>
          <p:cNvSpPr>
            <a:spLocks noGrp="1"/>
          </p:cNvSpPr>
          <p:nvPr>
            <p:ph/>
          </p:nvPr>
        </p:nvSpPr>
        <p:spPr>
          <a:xfrm>
            <a:off x="228600" y="1523880"/>
            <a:ext cx="8540640" cy="50292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Aukštybiniai pastatai - Aukštesni, negu 30 m, skaičiuojant nuo žemės paviršiaus altitudės iki pastato stogo konstrukcijos aukščiausiojo taško</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2. Įgilinti pastatai - Pastatai, kurių įgilinimas didesnis kaip 7 m (skaičiuojant nuo vidutinės žemės paviršiaus altitudės iki įgilinto pastato žemutinės patalpos grindų paviršiaus)</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3.Didelių atstumų tarp atramų statiniai - Atstumas tarp atramų (didžiausias horizontalus atstumas statinyje tarp horizontalių statinio ašių, kuriose yra atraminės konstrukcijos, laikančios perdenginio ar denginio konstrukcijas) 12 m ir didesnis.</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4.Branduolinės energetikos objektų statiniai </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5.JĖGAINIŲ STATINIAI - 1 MW ir didesnės galios elektros ir šilumos gamybos statiniai;</a:t>
            </a:r>
            <a:r>
              <a:rPr b="0" lang="en-US" sz="2000" spc="-1" strike="noStrike">
                <a:solidFill>
                  <a:srgbClr val="000000"/>
                </a:solidFill>
                <a:latin typeface="Tahoma"/>
              </a:rPr>
              <a:t> </a:t>
            </a:r>
            <a:r>
              <a:rPr b="0" lang="lt-LT" sz="2000" spc="-1" strike="noStrike">
                <a:solidFill>
                  <a:srgbClr val="000000"/>
                </a:solidFill>
                <a:latin typeface="Tahoma"/>
              </a:rPr>
              <a:t>GILUMINIAI ŽEMĖS ŠILUMOS PAĖMIMO IR GRĄŽINIMO STATINIAI.</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6.Hidrotechnikos statiniai, išskyrus žemės ūkio melioracijos statinius - Patvankos aukštis didesnis kaip 3 m ir tvenkinio plotas didesnis kaip 5 ha</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7.JŪROS NAFTOS IR DUJŲ GAVYBOS STATINIAI</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8.Oro uostai (aerodromai</a:t>
            </a:r>
            <a:r>
              <a:rPr b="0" lang="en-US" sz="2000" spc="-1" strike="noStrike">
                <a:solidFill>
                  <a:srgbClr val="000000"/>
                </a:solidFill>
                <a:latin typeface="Tahoma"/>
              </a:rPr>
              <a:t>)</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9.Geležinkelio keliai, geležinkelio techninio aptarnavimo stotys, Jūrų ir upių uostai, krantinės, prieplauko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a:t>
            </a:r>
            <a:r>
              <a:rPr b="0" lang="en-US" sz="2000" spc="-1" strike="noStrike">
                <a:solidFill>
                  <a:srgbClr val="000000"/>
                </a:solidFill>
                <a:latin typeface="Tahoma"/>
              </a:rPr>
              <a:t>0</a:t>
            </a:r>
            <a:r>
              <a:rPr b="0" lang="lt-LT" sz="2000" spc="-1" strike="noStrike">
                <a:solidFill>
                  <a:srgbClr val="000000"/>
                </a:solidFill>
                <a:latin typeface="Tahoma"/>
              </a:rPr>
              <a:t>.Keleivių, prekių, produktų, medžiagų ir kt. terminalai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a:t>
            </a:r>
            <a:r>
              <a:rPr b="0" lang="en-US" sz="2000" spc="-1" strike="noStrike">
                <a:solidFill>
                  <a:srgbClr val="000000"/>
                </a:solidFill>
                <a:latin typeface="Tahoma"/>
              </a:rPr>
              <a:t>1</a:t>
            </a:r>
            <a:r>
              <a:rPr b="0" lang="lt-LT" sz="2000" spc="-1" strike="noStrike">
                <a:solidFill>
                  <a:srgbClr val="000000"/>
                </a:solidFill>
                <a:latin typeface="Tahoma"/>
              </a:rPr>
              <a:t>.Įvairios paskirties bokštiniai statiniai – dūmtraukiai (išskyrus priblokuotą prie gyvenamojo pastato, skirtą šio pastato reikmėms), vandentiekio bokštai, vandens aušyklos, silosinės ir kt. - </a:t>
            </a:r>
            <a:r>
              <a:rPr b="0" lang="en-US" sz="2000" spc="-1" strike="noStrike">
                <a:solidFill>
                  <a:srgbClr val="000000"/>
                </a:solidFill>
                <a:latin typeface="Tahoma"/>
              </a:rPr>
              <a:t>Aukštesni kaip 15 m</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r>
              <a:rPr b="0" lang="lt-LT" sz="2000" spc="-1" strike="noStrike">
                <a:solidFill>
                  <a:srgbClr val="000000"/>
                </a:solidFill>
                <a:latin typeface="Tahoma"/>
              </a:rPr>
              <a:t>.Vėjo jėgainės - Aukštesnės kaip 30 m</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r>
              <a:rPr b="0" lang="lt-LT" sz="2000" spc="-1" strike="noStrike">
                <a:solidFill>
                  <a:srgbClr val="000000"/>
                </a:solidFill>
                <a:latin typeface="Tahoma"/>
              </a:rPr>
              <a:t>.Vandenvietės, vandenruošos statiniai - </a:t>
            </a:r>
            <a:r>
              <a:rPr b="0" lang="en-US" sz="2000" spc="-1" strike="noStrike">
                <a:solidFill>
                  <a:srgbClr val="000000"/>
                </a:solidFill>
                <a:latin typeface="Tahoma"/>
              </a:rPr>
              <a:t>500 m3/d ir didesnio našumo</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a:t>
            </a:r>
            <a:r>
              <a:rPr b="0" lang="lt-LT" sz="2000" spc="-1" strike="noStrike">
                <a:solidFill>
                  <a:srgbClr val="000000"/>
                </a:solidFill>
                <a:latin typeface="Tahoma"/>
              </a:rPr>
              <a:t>.Paviršinių (lietaus) nuotekų valyklos - Skirtos surinkti nuotekas iš 50 ha ir didesnių teritorijų</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a:t>
            </a:r>
            <a:r>
              <a:rPr b="0" lang="lt-LT" sz="2000" spc="-1" strike="noStrike">
                <a:solidFill>
                  <a:srgbClr val="000000"/>
                </a:solidFill>
                <a:latin typeface="Tahoma"/>
              </a:rPr>
              <a:t>.Degalinė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a:t>
            </a:r>
            <a:r>
              <a:rPr b="0" lang="lt-LT" sz="2000" spc="-1" strike="noStrike">
                <a:solidFill>
                  <a:srgbClr val="000000"/>
                </a:solidFill>
                <a:latin typeface="Tahoma"/>
              </a:rPr>
              <a:t>.Sandėliai - </a:t>
            </a:r>
            <a:r>
              <a:rPr b="0" lang="en-US" sz="2000" spc="-1" strike="noStrike">
                <a:solidFill>
                  <a:srgbClr val="000000"/>
                </a:solidFill>
                <a:latin typeface="Tahoma"/>
              </a:rPr>
              <a:t>1000 m2 ir didesnio bendrojo ploto</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7</a:t>
            </a:r>
            <a:r>
              <a:rPr b="0" lang="lt-LT" sz="2000" spc="-1" strike="noStrike">
                <a:solidFill>
                  <a:srgbClr val="000000"/>
                </a:solidFill>
                <a:latin typeface="Tahoma"/>
              </a:rPr>
              <a:t>.Šaldomieji pastatai ir patalpos - </a:t>
            </a:r>
            <a:r>
              <a:rPr b="0" lang="en-US" sz="2000" spc="-1" strike="noStrike">
                <a:solidFill>
                  <a:srgbClr val="000000"/>
                </a:solidFill>
                <a:latin typeface="Tahoma"/>
              </a:rPr>
              <a:t>5000 t ir talpesni</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Kitų Sudėtingų konstrukcijų ir sudėtingų technologijų statinių darbo projekto konstrukcinės dalies ekspertizė privaloma, jei tai nurodyta techninio projekto bendrosios ekspertizės akte (projekto įvertinime).</a:t>
            </a:r>
            <a:endParaRPr b="0" lang="en-US" sz="3200" spc="-1" strike="noStrike">
              <a:solidFill>
                <a:srgbClr val="000000"/>
              </a:solidFill>
              <a:latin typeface="Tahoma"/>
            </a:endParaRPr>
          </a:p>
          <a:p>
            <a:pPr marL="335880" indent="-3358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Jei projektą sudaro tik viena dalis, atliekama tik dalinė projekto ekspertizė, kuri prilyginama bendrajai projekto ekspertize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17"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pecialiosios projekto ekspertizės privalomumo atvejus, atlikimo tvarką nustato ir šią ekspertizę atlieka statinio saugos ir paskirties reikalavimų valstybinės priežiūros institucijos pagal joms įstatymų ir kitų teisės aktų suteiktą kompetenciją ir priskirtas normavimo sritis .</a:t>
            </a:r>
            <a:endParaRPr b="0" lang="en-US" sz="2400" spc="-1" strike="noStrike">
              <a:solidFill>
                <a:srgbClr val="000000"/>
              </a:solidFill>
              <a:latin typeface="Tahoma"/>
            </a:endParaRPr>
          </a:p>
          <a:p>
            <a:pPr marL="329040" indent="-3290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i specialioji projekto ekspertizė yra privaloma, ji turi būti atlikta iki projekto ekspertizės pradžios ir jos išvados pateikiamos Ekspertizės rangovui kartu su ekspertuojamu Projektu. Projekto ekspertizė atliekama gavus teigiamas specialiosios projekto ekspertizės išvadas.</a:t>
            </a:r>
            <a:endParaRPr b="0" lang="en-US" sz="2400" spc="-1" strike="noStrike">
              <a:solidFill>
                <a:srgbClr val="000000"/>
              </a:solidFill>
              <a:latin typeface="Tahoma"/>
            </a:endParaRPr>
          </a:p>
          <a:p>
            <a:pPr marL="329040" indent="-3290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Jei specialioji projekto ekspertizė atliekama to statinio projekto, kurio projekto ekspertizė yra neprivaloma, specialiosios projekto ekspertizės išvados įforminamos ir pateikiamos statytojui (užsakovui), kopija – projektuotojui, kaip savarankiškos ekspertizės išv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STATINIO EKSPERTIZĖ</a:t>
            </a:r>
            <a:endParaRPr b="0" lang="en-US" sz="4800" spc="-1" strike="noStrike">
              <a:solidFill>
                <a:srgbClr val="95934b"/>
              </a:solidFill>
              <a:latin typeface="Tahoma"/>
            </a:endParaRPr>
          </a:p>
        </p:txBody>
      </p:sp>
      <p:sp>
        <p:nvSpPr>
          <p:cNvPr id="5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ekspertizė atliekama Valstybinės teritorijų planavimo ir statybos inspekcijos prie Aplinkos ministerijos, atliekančios statybos valstybinę priežiūrą, arba viešojo administravimo subjektų, atliekančių statinių naudojimo priežiūrą, reikalavimu tik tais atvejais, kai</a:t>
            </a:r>
            <a:r>
              <a:rPr b="0" lang="lt-LT"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įvyko statomo ar naudojamo statinio avarija ar yra nustatyta jos grėsmė, pastebėtos statinio deformacij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gautas statytojo (užsakovo) ar statinio naudotojo skundas, kad statinys neatitinka esminių reikalavimų, arba kai yra prielaidų, kad šie reikalavimai yra pažeisti stichinių nelaimių ar kitų ekstremalių situacijų metu.</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PAKARTOTINĖ PROJEKTO IR STATINIO EKSPERTIZĖ</a:t>
            </a:r>
            <a:endParaRPr b="0" lang="en-US" sz="4000" spc="-1" strike="noStrike">
              <a:solidFill>
                <a:srgbClr val="95934b"/>
              </a:solidFill>
              <a:latin typeface="Tahoma"/>
            </a:endParaRPr>
          </a:p>
        </p:txBody>
      </p:sp>
      <p:sp>
        <p:nvSpPr>
          <p:cNvPr id="521" name="PlaceHolder 2"/>
          <p:cNvSpPr>
            <a:spLocks noGrp="1"/>
          </p:cNvSpPr>
          <p:nvPr>
            <p:ph/>
          </p:nvPr>
        </p:nvSpPr>
        <p:spPr>
          <a:xfrm>
            <a:off x="301680" y="1599840"/>
            <a:ext cx="8540640" cy="4876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Ekspertizės užsakovas, nesutinkantis su projekto ar statinio ekspertizės akto išvadomis, turi teisę užsakyti pakartotinę ekspertizę atlikti kitam ekspertizės rangovui. </a:t>
            </a:r>
            <a:endParaRPr b="0" lang="en-US" sz="2400" spc="-1" strike="noStrike">
              <a:solidFill>
                <a:srgbClr val="000000"/>
              </a:solidFill>
              <a:latin typeface="Tahoma"/>
            </a:endParaRPr>
          </a:p>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i atlikta pakartotinė projekto ekspertizė, kuria ekspertize (pirmine ar pakartotine) vadovautis, sprendžia statytojas (užsakovas). </a:t>
            </a:r>
            <a:endParaRPr b="0" lang="en-US" sz="2400" spc="-1" strike="noStrike">
              <a:solidFill>
                <a:srgbClr val="000000"/>
              </a:solidFill>
              <a:latin typeface="Tahoma"/>
            </a:endParaRPr>
          </a:p>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i atliekama pakartotinė statinio ekspertizė, kuria ekspertize (pirmine ar pakartotine) vadovautis sprendžia:</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statytojas (užsakovas), jei atliekama statomo statinio ekspertizė;</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inio savininkas (naudotojas), jei atliekama naudojamo statinio ekspertizė;</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abiem atvejais priimant sprendimą dalyvauja statybos valstybinės priežiūros subjekto, inicijavusio pirminę statinio ekspertizę, atstov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Ypatingas statinys</a:t>
            </a:r>
            <a:r>
              <a:rPr b="0" lang="lt-LT" sz="2800" spc="-1" strike="noStrike">
                <a:solidFill>
                  <a:srgbClr val="000000"/>
                </a:solidFill>
                <a:latin typeface="Tahoma"/>
              </a:rPr>
              <a:t> – statinys, kuriame naudojamos ar saugomos pavojingos medžiagos, kuriame yra potencialiai pavojingų įrenginių ar atliekami potencialiai pavojingi darbai; sudėtingos konstrukcijos ir sudėtingų technologijų statinys; visuomenės poreikiams naudojamas pastatas, kuriame vienu metu būna daugiau kaip 100 žmonių; aukštybinis (daugiau kaip 5 aukštų) daugiabutis gyvenamasis namas;</a:t>
            </a:r>
            <a:r>
              <a:rPr b="1" lang="lt-LT" sz="2800" spc="-1" strike="noStrike">
                <a:solidFill>
                  <a:srgbClr val="000000"/>
                </a:solidFill>
                <a:latin typeface="Tahoma"/>
              </a:rPr>
              <a:t> </a:t>
            </a:r>
            <a:r>
              <a:rPr b="0" lang="lt-LT" sz="2800" spc="-1" strike="noStrike">
                <a:solidFill>
                  <a:srgbClr val="000000"/>
                </a:solidFill>
                <a:latin typeface="Tahoma"/>
              </a:rPr>
              <a:t>kultūros paveldo statiny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PAKARTOTINĖ PROJEKTO IR STATINIO EKSPERTIZĖ</a:t>
            </a:r>
            <a:endParaRPr b="0" lang="en-US" sz="4000" spc="-1" strike="noStrike">
              <a:solidFill>
                <a:srgbClr val="95934b"/>
              </a:solidFill>
              <a:latin typeface="Tahoma"/>
            </a:endParaRPr>
          </a:p>
        </p:txBody>
      </p:sp>
      <p:sp>
        <p:nvSpPr>
          <p:cNvPr id="5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Projektuotojas privalo pataisyti projektą pagal ekspertizės akte nurodytas privalomas pastabas projektavimo darbų rangos sutartyje nustatytu laiku </a:t>
            </a:r>
            <a:r>
              <a:rPr b="0" lang="lt-LT" sz="2400" spc="-1" strike="noStrike" u="sng">
                <a:solidFill>
                  <a:srgbClr val="000000"/>
                </a:solidFill>
                <a:uFillTx/>
                <a:latin typeface="Tahoma"/>
              </a:rPr>
              <a:t>be papildomo apmokėjimo</a:t>
            </a:r>
            <a:r>
              <a:rPr b="0" lang="lt-LT" sz="2400" spc="-1" strike="noStrike">
                <a:solidFill>
                  <a:srgbClr val="000000"/>
                </a:solidFill>
                <a:latin typeface="Tahoma"/>
              </a:rPr>
              <a:t>, jei projektavimo darbų rangos sutartyje nenumatyta kitaip, arba raštu statytojui (užsakovui) išdėstyti motyvus, jei minėtos pastabos prieštarauja statybos teisės aktams arba jų negalima įvykdyti.</a:t>
            </a:r>
            <a:endParaRPr b="0" lang="en-US" sz="2400" spc="-1" strike="noStrike">
              <a:solidFill>
                <a:srgbClr val="000000"/>
              </a:solidFill>
              <a:latin typeface="Tahoma"/>
            </a:endParaRPr>
          </a:p>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Projektuotojas turi teisę atsisakyti vadovautis projekto ekspertizės akte pateiktomis privalomomis pastabomis, informuodamas apie tai raštu statytoją (užsakovą) bei ekspertizės vadovą, jei šios pastabos nepagrįstos statybos teisės aktais, privalomaisiais statinio projekto rengimo dokumentais ir reikalauti iš statytojo (užsakovo) atlikti pakartotinę ekspertiz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PROJEKTO VYKDYMO PRIEŽIŪRA</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projekto vykdymo priežiūra</a:t>
            </a:r>
            <a:r>
              <a:rPr b="0" lang="lt-LT" sz="2400" spc="-1" strike="noStrike">
                <a:solidFill>
                  <a:srgbClr val="000000"/>
                </a:solidFill>
                <a:latin typeface="Tahoma"/>
              </a:rPr>
              <a:t> – statytojo (užsakovo) organizuota statinio projektuotojo atliekama statybos priežiūra, kurios tikslas – kontroliuoti, kad statinys būtų statomas pagal statinio projektą ir kad būtų įgyvendinta statinio projekte sukurta statinio architektūra. Statinio projekto dalies</a:t>
            </a:r>
            <a:r>
              <a:rPr b="1" lang="lt-LT" sz="2400" spc="-1" strike="noStrike">
                <a:solidFill>
                  <a:srgbClr val="000000"/>
                </a:solidFill>
                <a:latin typeface="Tahoma"/>
              </a:rPr>
              <a:t> </a:t>
            </a:r>
            <a:r>
              <a:rPr b="0" lang="lt-LT" sz="2400" spc="-1" strike="noStrike">
                <a:solidFill>
                  <a:srgbClr val="000000"/>
                </a:solidFill>
                <a:latin typeface="Tahoma"/>
              </a:rPr>
              <a:t>vykdymo priežiūra yra statinio projekto vykdymo priežiūros dalis</a:t>
            </a:r>
            <a:endParaRPr b="0" lang="en-US" sz="2400" spc="-1" strike="noStrike">
              <a:solidFill>
                <a:srgbClr val="000000"/>
              </a:solidFill>
              <a:latin typeface="Tahoma"/>
            </a:endParaRPr>
          </a:p>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projekto vykdymo priežiūros vadovas </a:t>
            </a:r>
            <a:r>
              <a:rPr b="0" lang="lt-LT" sz="2400" spc="-1" strike="noStrike">
                <a:solidFill>
                  <a:srgbClr val="000000"/>
                </a:solidFill>
                <a:latin typeface="Tahoma"/>
              </a:rPr>
              <a:t>– architektas, statybos inžinierius, vadovaujantis statinio projekto dalių vykdymo priežiūros vadovams ir prižiūrintis statinio projekto sprendinių įgyvendinimą statybos metu;</a:t>
            </a:r>
            <a:endParaRPr b="0" lang="en-US" sz="2400" spc="-1" strike="noStrike">
              <a:solidFill>
                <a:srgbClr val="000000"/>
              </a:solidFill>
              <a:latin typeface="Tahoma"/>
            </a:endParaRPr>
          </a:p>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projekto dalies vykdymo priežiūros vadovas </a:t>
            </a:r>
            <a:r>
              <a:rPr b="0" lang="lt-LT" sz="2400" spc="-1" strike="noStrike">
                <a:solidFill>
                  <a:srgbClr val="000000"/>
                </a:solidFill>
                <a:latin typeface="Tahoma"/>
              </a:rPr>
              <a:t>– architektas, statybos inžinierius, prižiūrintis statinio projekto dalies sprendinių įgyvendinimą statybos metu.</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PROJEKTO VYKDYMO PRIEŽIŪRA</a:t>
            </a:r>
            <a:endParaRPr b="0" lang="en-US" sz="4000" spc="-1" strike="noStrike">
              <a:solidFill>
                <a:srgbClr val="95934b"/>
              </a:solidFill>
              <a:latin typeface="Tahoma"/>
            </a:endParaRPr>
          </a:p>
        </p:txBody>
      </p:sp>
      <p:sp>
        <p:nvSpPr>
          <p:cNvPr id="5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projekto vykdymo priežiūra privaloma, kai statomas naujas, rekonstruojamas ar kapitališkai remontuojam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1. ypatingas statiny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2. statinys (ypatingas, neypatingas, I ir II kategorijos nesudėtingas (tarp jų laikinas)</a:t>
            </a:r>
            <a:r>
              <a:rPr b="0" lang="en-US" sz="2800" spc="-1" strike="noStrike">
                <a:solidFill>
                  <a:srgbClr val="000000"/>
                </a:solidFill>
                <a:latin typeface="Tahoma"/>
              </a:rPr>
              <a:t>)</a:t>
            </a:r>
            <a:r>
              <a:rPr b="1" lang="lt-LT" sz="2800" spc="-1" strike="noStrike">
                <a:solidFill>
                  <a:srgbClr val="000000"/>
                </a:solidFill>
                <a:latin typeface="Tahoma"/>
              </a:rPr>
              <a:t> </a:t>
            </a:r>
            <a:r>
              <a:rPr b="0" lang="lt-LT" sz="2800" spc="-1" strike="noStrike">
                <a:solidFill>
                  <a:srgbClr val="000000"/>
                </a:solidFill>
                <a:latin typeface="Tahoma"/>
              </a:rPr>
              <a:t>saugomoje teritorijoj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PROJEKTO VYKDYMO PRIEŽIŪRA</a:t>
            </a:r>
            <a:endParaRPr b="0" lang="en-US" sz="4000" spc="-1" strike="noStrike">
              <a:solidFill>
                <a:srgbClr val="95934b"/>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ant atnaujinant (modernizuojant) pastatus pagal Aplinkos ministerijos ar jos įgaliotos institucijos patvirtintus tipinius statinių projektus, pritaikytus konkretiems atnaujinamiems (modernizuojamiems) pastatams, statinio projekto vykdymo priežiūra yra neprivaloma ir gali būti atliekama statytojo (užsakovo) iniciatyv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PROJEKTO VYKDYMO PRIEŽIŪRA</a:t>
            </a:r>
            <a:endParaRPr b="0" lang="en-US" sz="4000" spc="-1" strike="noStrike">
              <a:solidFill>
                <a:srgbClr val="95934b"/>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projekto vykdymo priežiūrą (statybos metu), statinio projektuotojo pavedimu, atlieka statinio projekto rengėjas pagal statytojo (užsakovo) ir statinio projektuotojo pasirašytą statinio projekto vykdymo priežiūros sutartį.</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as (užsakovas) turi teisę pavesti projektuotojui statinio projekto vykdymo priežiūrą ir statinio statybos techninę priežiūrą.</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STATYBOS TECHNINĖ PRIEŽIŪRA</a:t>
            </a:r>
            <a:endParaRPr b="0" lang="en-US" sz="4000" spc="-1" strike="noStrike">
              <a:solidFill>
                <a:srgbClr val="95934b"/>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išskyrus nesudėtingą) statybos techninė priežiūra yra privaloma. Šis reikalavimas netaikomas atliekant statinio paprastąjį remontą.</a:t>
            </a:r>
            <a:endParaRPr b="0" lang="en-US" sz="3200" spc="-1" strike="noStrike">
              <a:solidFill>
                <a:srgbClr val="000000"/>
              </a:solidFill>
              <a:latin typeface="Tahoma"/>
            </a:endParaRPr>
          </a:p>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Draudžiama sudaryti sutartį Techninei priežiūrai atlikti su to statinio statybos rangovu ar jo struktūroje dirbančiais fiziniais asmenim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STATYBOS TECHNINĖ PRIEŽIŪRA</a:t>
            </a:r>
            <a:endParaRPr b="0" lang="en-US" sz="4000" spc="-1" strike="noStrike">
              <a:solidFill>
                <a:srgbClr val="95934b"/>
              </a:solidFill>
              <a:latin typeface="Tahoma"/>
            </a:endParaRPr>
          </a:p>
        </p:txBody>
      </p:sp>
      <p:sp>
        <p:nvSpPr>
          <p:cNvPr id="5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Visų statinių, kuriems taikomas šis reglamentas, statybai privaloma </a:t>
            </a:r>
            <a:r>
              <a:rPr b="1" lang="lt-LT" sz="2800" spc="-1" strike="noStrike">
                <a:solidFill>
                  <a:srgbClr val="000000"/>
                </a:solidFill>
                <a:latin typeface="Tahoma"/>
              </a:rPr>
              <a:t>bendroji</a:t>
            </a:r>
            <a:r>
              <a:rPr b="0" lang="lt-LT" sz="2800" spc="-1" strike="noStrike">
                <a:solidFill>
                  <a:srgbClr val="000000"/>
                </a:solidFill>
                <a:latin typeface="Tahoma"/>
              </a:rPr>
              <a:t> (bendrųjų statybos darbų) </a:t>
            </a:r>
            <a:r>
              <a:rPr b="1" lang="lt-LT" sz="2800" spc="-1" strike="noStrike">
                <a:solidFill>
                  <a:srgbClr val="000000"/>
                </a:solidFill>
                <a:latin typeface="Tahoma"/>
              </a:rPr>
              <a:t>Techninė priežiūra</a:t>
            </a:r>
            <a:r>
              <a:rPr b="0" lang="lt-LT"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pecialiosios statinio statybos techninės priežiūros</a:t>
            </a:r>
            <a:r>
              <a:rPr b="0" lang="lt-LT" sz="2800" spc="-1" strike="noStrike">
                <a:solidFill>
                  <a:srgbClr val="000000"/>
                </a:solidFill>
                <a:latin typeface="Tahoma"/>
              </a:rPr>
              <a:t> organizuojamos kaip bendrosios (bendrųjų statybos darbų) Techninės priežiūros dalys arba skiriamos į savarankiškas specialiąsias statinio statybos technines priežiūr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STATYBOS TECHNINĖ PRIEŽIŪRA</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37" name="PlaceHolder 2"/>
          <p:cNvSpPr>
            <a:spLocks noGrp="1"/>
          </p:cNvSpPr>
          <p:nvPr>
            <p:ph/>
          </p:nvPr>
        </p:nvSpPr>
        <p:spPr>
          <a:xfrm>
            <a:off x="301680" y="1600200"/>
            <a:ext cx="854064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ytojas (užsakovas) Techninei priežiūrai atlikti skiria (samdo) statinio statybos techninį prižiūrėtoją </a:t>
            </a:r>
            <a:r>
              <a:rPr b="0" lang="en-US" sz="2000" spc="-1" strike="noStrike">
                <a:solidFill>
                  <a:srgbClr val="000000"/>
                </a:solidFill>
                <a:latin typeface="Tahoma"/>
              </a:rPr>
              <a:t>(</a:t>
            </a:r>
            <a:r>
              <a:rPr b="0" lang="lt-LT" sz="2000" spc="-1" strike="noStrike">
                <a:solidFill>
                  <a:srgbClr val="000000"/>
                </a:solidFill>
                <a:latin typeface="Tahoma"/>
              </a:rPr>
              <a:t>bendrosios statinio statybos priežiūros vadovą) vienu iš žemiau išvardytų būdų:</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 jei statinio statybos techninio prižiūrėtojo parinkimas pavedamas juridiniam asmeniui (įskaitant projektavimo įmonę, parengusią to statinio projektą), sudaroma Techninės priežiūros sutartis su tuo juridiniu asmeniu;</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2. jei statytojas (užsakovas), kai jis yra juridinis asmuo, paveda Techninę priežiūrą atlikti savo struktūriniam padaliniui (tarnybai), kuris nuolat atlieka tas funkcijas, statinio statybos techninis prižiūrėtojas kiekvieno konkretaus statinio statybos techninei priežiūrai atlikti skiriamas įsakymu ar kitu tvarkomuoju dokumentu (nustatytu įmonės įstatuose) nesudarant darbo sutarti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3. jei statytojas (užsakovas) yra fizinis asmuo, statinio statybos techninį prižiūrėtoją jis samdo pagal darbo sutartį;</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4. jei statinio statybos techniniu prižiūrėtoju pasirinktas atestuotas fizinis asmuo, statytojas (užsakovas) sudaro darbo sutartį su tuo fiziniu asmeni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STATYBOS TECHNINĖ PRIEŽIŪRA</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II grupės nesudėtingo pastato, statomo statytojo (užsakovo) ar jo šeimos narių reikmėms, Techninę priežiūrą gali vykdyti pats statytojas (arba jo šeimos narys), turintis aukštąjį ar aukštesnįjį (specialųjį vidurinį) techninį išsimokslinimą. Šiuo atveju statytojas (užsakovas) neprivalo turėti statinio statybos techninio prižiūrėtojo kvalifikacijos atestato, tačiau jis kartu su prašymu viešojo administravimo subjektui statybos leidimui gauti, privalo pateikti įsipareigojimą raštu, kad jis Techninę priežiūrą vykdys pats ir prisiima atsakomybę už šiame reglamente nustatytas statinio statybos techninio prižiūrėtojo pareig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151920"/>
            <a:ext cx="85406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993300"/>
                </a:solidFill>
                <a:latin typeface="Tahoma"/>
              </a:rPr>
              <a:t> </a:t>
            </a:r>
            <a:r>
              <a:rPr b="1" lang="lt-LT" sz="2800" spc="-1" strike="noStrike">
                <a:solidFill>
                  <a:srgbClr val="993300"/>
                </a:solidFill>
                <a:latin typeface="Times New Roman"/>
              </a:rPr>
              <a:t>SAUGOS IR SVEIKATOS PRIEMONIŲ STATYBVIETĖJE KOORDINAVIMAS</a:t>
            </a:r>
            <a:r>
              <a:rPr b="1" lang="lt-LT" sz="4000" spc="-1" strike="noStrike">
                <a:solidFill>
                  <a:srgbClr val="993300"/>
                </a:solidFill>
                <a:latin typeface="Tahoma"/>
              </a:rPr>
              <a:t> </a:t>
            </a:r>
            <a:br>
              <a:rPr sz="4000"/>
            </a:br>
            <a:endParaRPr b="0" lang="en-US" sz="4000" spc="-1" strike="noStrike">
              <a:solidFill>
                <a:srgbClr val="95934b"/>
              </a:solidFill>
              <a:latin typeface="Tahoma"/>
            </a:endParaRPr>
          </a:p>
        </p:txBody>
      </p:sp>
      <p:sp>
        <p:nvSpPr>
          <p:cNvPr id="541" name="PlaceHolder 2"/>
          <p:cNvSpPr>
            <a:spLocks noGrp="1"/>
          </p:cNvSpPr>
          <p:nvPr>
            <p:ph/>
          </p:nvPr>
        </p:nvSpPr>
        <p:spPr>
          <a:xfrm>
            <a:off x="301680" y="1600200"/>
            <a:ext cx="8540640" cy="49528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Užsakovas (statytojas) arba statinio projekto/statybos</a:t>
            </a:r>
            <a:r>
              <a:rPr b="0" lang="lt-LT" sz="2400" spc="-1" strike="noStrike">
                <a:solidFill>
                  <a:srgbClr val="000000"/>
                </a:solidFill>
                <a:latin typeface="Tahoma"/>
              </a:rPr>
              <a:t> </a:t>
            </a:r>
            <a:r>
              <a:rPr b="1" lang="lt-LT" sz="2400" spc="-1" strike="noStrike">
                <a:solidFill>
                  <a:srgbClr val="000000"/>
                </a:solidFill>
                <a:latin typeface="Tahoma"/>
              </a:rPr>
              <a:t>valdytojas, </a:t>
            </a:r>
            <a:r>
              <a:rPr b="0" lang="lt-LT" sz="2400" spc="-1" strike="noStrike">
                <a:solidFill>
                  <a:srgbClr val="000000"/>
                </a:solidFill>
                <a:latin typeface="Tahoma"/>
              </a:rPr>
              <a:t>kai </a:t>
            </a:r>
            <a:r>
              <a:rPr b="1" lang="lt-LT" sz="2400" spc="-1" strike="noStrike">
                <a:solidFill>
                  <a:srgbClr val="000000"/>
                </a:solidFill>
                <a:latin typeface="Tahoma"/>
              </a:rPr>
              <a:t> </a:t>
            </a:r>
            <a:r>
              <a:rPr b="0" lang="lt-LT" sz="2400" spc="-1" strike="noStrike">
                <a:solidFill>
                  <a:srgbClr val="000000"/>
                </a:solidFill>
                <a:latin typeface="Tahoma"/>
              </a:rPr>
              <a:t>statinį projektuojant/statant dalyvauja daugiau negu vienas rangovas, paskiria vieną ar kelis saugos ir sveikatos koordinatorius, kurie turi užtikrinti, kad statinio projekte būtų numatyti darbuotojų saugos ir sveikatos reikalavimai ir statybos metu privalo kontroliuoti norminiuose teisės aktuose nustatytų darbuotojų saugos ir sveikatos reikalavimų įgyvendinimą. </a:t>
            </a:r>
            <a:endParaRPr b="0" lang="en-US" sz="2400" spc="-1" strike="noStrike">
              <a:solidFill>
                <a:srgbClr val="000000"/>
              </a:solidFill>
              <a:latin typeface="Tahoma"/>
            </a:endParaRPr>
          </a:p>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ytojas (užsakovas) arba statinio projekto/statybos valdytojas</a:t>
            </a:r>
            <a:r>
              <a:rPr b="1" lang="lt-LT" sz="2400" spc="-1" strike="noStrike">
                <a:solidFill>
                  <a:srgbClr val="000000"/>
                </a:solidFill>
                <a:latin typeface="Tahoma"/>
              </a:rPr>
              <a:t> </a:t>
            </a:r>
            <a:r>
              <a:rPr b="1" i="1" lang="lt-LT" sz="2400" spc="-1" strike="noStrike">
                <a:solidFill>
                  <a:srgbClr val="000000"/>
                </a:solidFill>
                <a:latin typeface="Tahoma"/>
              </a:rPr>
              <a:t>privalo užtikrinti,</a:t>
            </a:r>
            <a:r>
              <a:rPr b="0" lang="lt-LT" sz="2400" spc="-1" strike="noStrike">
                <a:solidFill>
                  <a:srgbClr val="000000"/>
                </a:solidFill>
                <a:latin typeface="Tahoma"/>
              </a:rPr>
              <a:t> kad visuose statinio projektavimo etapuose būtų įvertinti nelaimingų atsitikimų darbe ir profesinių ligų prevencijos principai bei darbuotojų saugos ir sveikatos norminių teisės aktų reikalavimai.</a:t>
            </a:r>
            <a:endParaRPr b="0" lang="en-US" sz="2400" spc="-1" strike="noStrike">
              <a:solidFill>
                <a:srgbClr val="000000"/>
              </a:solidFill>
              <a:latin typeface="Tahoma"/>
            </a:endParaRPr>
          </a:p>
          <a:p>
            <a:pPr marL="332640" indent="-33264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inio projektavimo/statybos koordinatoriais skiriami asmenys, teisės aktų nustatyta tvarka įgiję teisę eiti šias pareig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Laikinas statinys</a:t>
            </a:r>
            <a:r>
              <a:rPr b="0" lang="lt-LT" sz="2800" spc="-1" strike="noStrike">
                <a:solidFill>
                  <a:srgbClr val="000000"/>
                </a:solidFill>
                <a:latin typeface="Tahoma"/>
              </a:rPr>
              <a:t> – statinys, skirtas naudoti ne ilgiau kaip 3 metus, pagamintas gamykloje ar pastatytas iš surenkamųjų konstrukcijų, kurį galima išardyti ar perkelti į kitą vietą ir kuris neturi pamatų, bet remiasi į žemės paviršių: kioskas, gatvių prekybos, pramogų ar parodos paviljonas, palapinės danga ar pneumatinis apvalkalas, vagonėlis, konteineris, įvairios paskirties aikštelė su dirbtine danga, statybininkų, tyrėjų ar kitos terminuotos veiklos reikmėms skirtas statinys. </a:t>
            </a:r>
            <a:r>
              <a:rPr b="0" lang="lt-LT" sz="2800" spc="-1" strike="noStrike" u="sng">
                <a:solidFill>
                  <a:srgbClr val="000000"/>
                </a:solidFill>
                <a:uFillTx/>
                <a:latin typeface="Tahoma"/>
              </a:rPr>
              <a:t>Laikinas statinys ir teisės į jį nekilnojamojo turto registre neregistruojami</a:t>
            </a:r>
            <a:r>
              <a:rPr b="0" lang="lt-L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93300"/>
                </a:solidFill>
                <a:latin typeface="Times New Roman"/>
              </a:rPr>
              <a:t>SAUGOS IR SVEIKATOS PRIEMONIŲ STATYBVIETĖJE KOORDINAVIMAS</a:t>
            </a:r>
            <a:endParaRPr b="0" lang="en-US" sz="3200" spc="-1" strike="noStrike">
              <a:solidFill>
                <a:srgbClr val="95934b"/>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atytojas turi paskirti koordinatorių</a:t>
            </a:r>
            <a:r>
              <a:rPr b="0" lang="lt-LT" sz="2800" spc="-1" strike="noStrike">
                <a:solidFill>
                  <a:srgbClr val="000000"/>
                </a:solidFill>
                <a:latin typeface="Times New Roman"/>
              </a:rPr>
              <a:t>, kuris jo vardu statybvietėje koordinuotų saugos ir sveikatos priemones. Statytojas turi paskirti asmenį, kuris turėtų reikiamą kvalifikaciją, kad profesiniu atžvilgiu galėtų užtikrintai vykdyti koordinavimo funkciją. </a:t>
            </a:r>
            <a:r>
              <a:rPr b="1" lang="lt-LT" sz="2800" spc="-1" strike="noStrike">
                <a:solidFill>
                  <a:srgbClr val="000000"/>
                </a:solidFill>
                <a:latin typeface="Times New Roman"/>
              </a:rPr>
              <a:t>Koordinatorius veikia statytojo vardu</a:t>
            </a:r>
            <a:r>
              <a:rPr b="0" lang="lt-LT" sz="2800" spc="-1" strike="noStrike">
                <a:solidFill>
                  <a:srgbClr val="000000"/>
                </a:solidFill>
                <a:latin typeface="Times New Roman"/>
              </a:rPr>
              <a:t>. </a:t>
            </a:r>
            <a:r>
              <a:rPr b="1" lang="lt-LT" sz="2800" spc="-1" strike="noStrike">
                <a:solidFill>
                  <a:srgbClr val="000000"/>
                </a:solidFill>
                <a:latin typeface="Times New Roman"/>
              </a:rPr>
              <a:t>Statytojas atsako, kad jo paskirtas koordinatorius vykdytų savo funkcijas.</a:t>
            </a:r>
            <a:r>
              <a:rPr b="0" lang="lt-LT" sz="2800" spc="-1" strike="noStrike">
                <a:solidFill>
                  <a:srgbClr val="000000"/>
                </a:solidFill>
                <a:latin typeface="Times New Roman"/>
              </a:rPr>
              <a:t> Koordinatoriumi statytojas gali paskirti save, savo įmonės darbuotoją arba asmenį, nesusijusį su jo įmone. </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93300"/>
                </a:solidFill>
                <a:latin typeface="Times New Roman"/>
              </a:rPr>
              <a:t>SAUGOS IR SVEIKATOS PRIEMONIŲ STATYBVIETĖJE KOORDINAVIMAS</a:t>
            </a:r>
            <a:endParaRPr b="0" lang="en-US" sz="3200" spc="-1" strike="noStrike">
              <a:solidFill>
                <a:srgbClr val="95934b"/>
              </a:solidFill>
              <a:latin typeface="Tahoma"/>
            </a:endParaRPr>
          </a:p>
        </p:txBody>
      </p:sp>
      <p:sp>
        <p:nvSpPr>
          <p:cNvPr id="5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tojas (užsakovas)</a:t>
            </a:r>
            <a:r>
              <a:rPr b="0" lang="lt-LT" sz="2800" spc="-1" strike="noStrike">
                <a:solidFill>
                  <a:srgbClr val="000000"/>
                </a:solidFill>
                <a:latin typeface="Tahoma"/>
              </a:rPr>
              <a:t> </a:t>
            </a:r>
            <a:r>
              <a:rPr b="1" lang="lt-LT" sz="2800" spc="-1" strike="noStrike">
                <a:solidFill>
                  <a:srgbClr val="000000"/>
                </a:solidFill>
                <a:latin typeface="Tahoma"/>
              </a:rPr>
              <a:t>arba statinio projekto/statybos</a:t>
            </a:r>
            <a:r>
              <a:rPr b="0" lang="lt-LT" sz="2800" spc="-1" strike="noStrike">
                <a:solidFill>
                  <a:srgbClr val="000000"/>
                </a:solidFill>
                <a:latin typeface="Tahoma"/>
              </a:rPr>
              <a:t> </a:t>
            </a:r>
            <a:r>
              <a:rPr b="1" lang="lt-LT" sz="2800" spc="-1" strike="noStrike">
                <a:solidFill>
                  <a:srgbClr val="000000"/>
                </a:solidFill>
                <a:latin typeface="Tahoma"/>
              </a:rPr>
              <a:t>valdytojas</a:t>
            </a:r>
            <a:r>
              <a:rPr b="0" lang="lt-LT" sz="2800" spc="-1" strike="noStrike">
                <a:solidFill>
                  <a:srgbClr val="000000"/>
                </a:solidFill>
                <a:latin typeface="Tahoma"/>
              </a:rPr>
              <a:t>, paskyręs koordinatorių, </a:t>
            </a:r>
            <a:r>
              <a:rPr b="1" lang="lt-LT" sz="2800" spc="-1" strike="noStrike">
                <a:solidFill>
                  <a:srgbClr val="000000"/>
                </a:solidFill>
                <a:latin typeface="Tahoma"/>
              </a:rPr>
              <a:t>neatleidžiamas</a:t>
            </a:r>
            <a:r>
              <a:rPr b="0" lang="lt-LT" sz="2800" spc="-1" strike="noStrike">
                <a:solidFill>
                  <a:srgbClr val="000000"/>
                </a:solidFill>
                <a:latin typeface="Tahoma"/>
              </a:rPr>
              <a:t> nuo koordinatoriaus pareigų vykdymo užtikrinimo ir </a:t>
            </a:r>
            <a:r>
              <a:rPr b="1" lang="lt-LT" sz="2800" spc="-1" strike="noStrike">
                <a:solidFill>
                  <a:srgbClr val="000000"/>
                </a:solidFill>
                <a:latin typeface="Tahoma"/>
              </a:rPr>
              <a:t>neatleidžiamas nuo pareigos</a:t>
            </a:r>
            <a:r>
              <a:rPr b="0" lang="lt-LT" sz="2800" spc="-1" strike="noStrike">
                <a:solidFill>
                  <a:srgbClr val="000000"/>
                </a:solidFill>
                <a:latin typeface="Tahoma"/>
              </a:rPr>
              <a:t> sudaryti darbuotojams saugias ir sveikas darbo sąlygas. </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as (užsakovas) už nustatytų pareigų nevykdymą ar nepatenkinamą vykdymą atsako pagal Civilinį kodeksą ir Administracinių teisės pažeidimų kodeksą</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93300"/>
                </a:solidFill>
                <a:latin typeface="Times New Roman"/>
              </a:rPr>
              <a:t>SAUGOS IR SVEIKATOS PRIEMONIŲ STATYBVIETĖJE KOORDINAVIMAS</a:t>
            </a:r>
            <a:endParaRPr b="0" lang="en-US" sz="3200" spc="-1" strike="noStrike">
              <a:solidFill>
                <a:srgbClr val="95934b"/>
              </a:solidFill>
              <a:latin typeface="Tahoma"/>
            </a:endParaRPr>
          </a:p>
        </p:txBody>
      </p:sp>
      <p:sp>
        <p:nvSpPr>
          <p:cNvPr id="5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Statytojo (užsakovo) pareigo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tatytojas turi koordinuoti</a:t>
            </a:r>
            <a:r>
              <a:rPr b="0" lang="lt-LT" sz="2000" spc="-1" strike="noStrike">
                <a:solidFill>
                  <a:srgbClr val="000000"/>
                </a:solidFill>
                <a:latin typeface="Times New Roman"/>
              </a:rPr>
              <a:t> visų darbdavių, kurie dirba statybvietėje </a:t>
            </a:r>
            <a:r>
              <a:rPr b="1" lang="lt-LT" sz="2000" spc="-1" strike="noStrike">
                <a:solidFill>
                  <a:srgbClr val="000000"/>
                </a:solidFill>
                <a:latin typeface="Times New Roman"/>
              </a:rPr>
              <a:t>saugos ir sveikatos priemones,</a:t>
            </a:r>
            <a:r>
              <a:rPr b="0" lang="lt-LT" sz="2000" spc="-1" strike="noStrike">
                <a:solidFill>
                  <a:srgbClr val="000000"/>
                </a:solidFill>
                <a:latin typeface="Times New Roman"/>
              </a:rPr>
              <a:t> nepaisant to, ar tai yra subrangovai, su kuriais jis pats nesudaręs sutarties. </a:t>
            </a:r>
            <a:r>
              <a:rPr b="1" lang="lt-LT" sz="2000" spc="-1" strike="noStrike">
                <a:solidFill>
                  <a:srgbClr val="000000"/>
                </a:solidFill>
                <a:latin typeface="Times New Roman"/>
              </a:rPr>
              <a:t>Statytojas koordinuoja saugos darbu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lt-LT" sz="2000" spc="-1" strike="noStrike">
                <a:solidFill>
                  <a:srgbClr val="000000"/>
                </a:solidFill>
                <a:latin typeface="Times New Roman"/>
              </a:rPr>
              <a:t>paskirdamas koordinatorių;</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lt-LT" sz="2000" spc="-1" strike="noStrike">
                <a:solidFill>
                  <a:srgbClr val="000000"/>
                </a:solidFill>
                <a:latin typeface="Times New Roman"/>
              </a:rPr>
              <a:t>pasirūpindamas, kad koordinatorius rengtų saugos susirinkimu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lt-LT" sz="2000" spc="-1" strike="noStrike">
                <a:solidFill>
                  <a:srgbClr val="000000"/>
                </a:solidFill>
                <a:latin typeface="Times New Roman"/>
              </a:rPr>
              <a:t>pasirūpindamas, kad koordinatorius statybvietėje palaikytų ryšį asmeniškai.</a:t>
            </a:r>
            <a:endParaRPr b="0" lang="en-US" sz="2000" spc="-1" strike="noStrike">
              <a:solidFill>
                <a:srgbClr val="000000"/>
              </a:solidFill>
              <a:latin typeface="Tahoma"/>
            </a:endParaRPr>
          </a:p>
          <a:p>
            <a:pPr marL="343080" indent="-343080" algn="just">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endParaRPr b="0" lang="en-US" sz="2000" spc="-1" strike="noStrike">
              <a:solidFill>
                <a:srgbClr val="000000"/>
              </a:solidFill>
              <a:latin typeface="Tahoma"/>
            </a:endParaRPr>
          </a:p>
          <a:p>
            <a:pPr marL="343080" indent="-343080" algn="just">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tatytojas</a:t>
            </a:r>
            <a:r>
              <a:rPr b="0" lang="lt-LT" sz="2000" spc="-1" strike="noStrike">
                <a:solidFill>
                  <a:srgbClr val="000000"/>
                </a:solidFill>
                <a:latin typeface="Times New Roman"/>
              </a:rPr>
              <a:t> </a:t>
            </a:r>
            <a:r>
              <a:rPr b="1" lang="lt-LT" sz="2000" spc="-1" strike="noStrike">
                <a:solidFill>
                  <a:srgbClr val="000000"/>
                </a:solidFill>
                <a:latin typeface="Times New Roman"/>
              </a:rPr>
              <a:t>turi imtis</a:t>
            </a:r>
            <a:r>
              <a:rPr b="0" lang="lt-LT" sz="2000" spc="-1" strike="noStrike">
                <a:solidFill>
                  <a:srgbClr val="000000"/>
                </a:solidFill>
                <a:latin typeface="Times New Roman"/>
              </a:rPr>
              <a:t> visų būtinų </a:t>
            </a:r>
            <a:r>
              <a:rPr b="1" lang="lt-LT" sz="2000" spc="-1" strike="noStrike">
                <a:solidFill>
                  <a:srgbClr val="000000"/>
                </a:solidFill>
                <a:latin typeface="Times New Roman"/>
              </a:rPr>
              <a:t>priemonių</a:t>
            </a:r>
            <a:r>
              <a:rPr b="0" lang="lt-LT" sz="2000" spc="-1" strike="noStrike">
                <a:solidFill>
                  <a:srgbClr val="000000"/>
                </a:solidFill>
                <a:latin typeface="Times New Roman"/>
              </a:rPr>
              <a:t>, </a:t>
            </a:r>
            <a:r>
              <a:rPr b="1" lang="lt-LT" sz="2000" spc="-1" strike="noStrike">
                <a:solidFill>
                  <a:srgbClr val="000000"/>
                </a:solidFill>
                <a:latin typeface="Times New Roman"/>
              </a:rPr>
              <a:t>kad</a:t>
            </a:r>
            <a:r>
              <a:rPr b="0" lang="lt-LT" sz="2000" spc="-1" strike="noStrike">
                <a:solidFill>
                  <a:srgbClr val="000000"/>
                </a:solidFill>
                <a:latin typeface="Times New Roman"/>
              </a:rPr>
              <a:t> darbuotojų saugos ir sveikatos </a:t>
            </a:r>
            <a:r>
              <a:rPr b="1" lang="lt-LT" sz="2000" spc="-1" strike="noStrike">
                <a:solidFill>
                  <a:srgbClr val="000000"/>
                </a:solidFill>
                <a:latin typeface="Times New Roman"/>
              </a:rPr>
              <a:t>planas</a:t>
            </a:r>
            <a:r>
              <a:rPr b="0" lang="lt-LT" sz="2000" spc="-1" strike="noStrike">
                <a:solidFill>
                  <a:srgbClr val="000000"/>
                </a:solidFill>
                <a:latin typeface="Times New Roman"/>
              </a:rPr>
              <a:t>, atsižvelgiant į atskirus atvejus</a:t>
            </a:r>
            <a:r>
              <a:rPr b="1" lang="lt-LT" sz="2000" spc="-1" strike="noStrike">
                <a:solidFill>
                  <a:srgbClr val="000000"/>
                </a:solidFill>
                <a:latin typeface="Times New Roman"/>
              </a:rPr>
              <a:t>, įeitų į sutarties sudarymo ir vykdymo metmenis arba į pasiūlymą dėl kainos, arba į sutartinius dokumentus</a:t>
            </a:r>
            <a:r>
              <a:rPr b="0" lang="lt-LT" sz="2000" spc="-1" strike="noStrike">
                <a:solidFill>
                  <a:srgbClr val="000000"/>
                </a:solidFill>
                <a:latin typeface="Times New Roman"/>
              </a:rPr>
              <a:t>, kuriuose jis būtų išdėstytas atskirame skirsnyje su atskiru pavadinimu.</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5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tato energinis naudingumas</a:t>
            </a:r>
            <a:r>
              <a:rPr b="0" lang="lt-LT" sz="2000" spc="-1" strike="noStrike">
                <a:solidFill>
                  <a:srgbClr val="000000"/>
                </a:solidFill>
                <a:latin typeface="Times New Roman"/>
              </a:rPr>
              <a:t> – pagal Reglamento reikalavimus apskaičiuotas energijos kiekis, išreikštas pastato energinio naudingumo klase, reikalingas naudojant pastatą pagal paskirtį </a:t>
            </a:r>
            <a:endParaRPr b="0" lang="en-US" sz="2000" spc="-1" strike="noStrike">
              <a:solidFill>
                <a:srgbClr val="000000"/>
              </a:solidFill>
              <a:latin typeface="Tahoma"/>
            </a:endParaRPr>
          </a:p>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1" lang="lt-LT" sz="2000" spc="-1" strike="noStrike">
                <a:solidFill>
                  <a:srgbClr val="000000"/>
                </a:solidFill>
                <a:latin typeface="Times New Roman"/>
              </a:rPr>
              <a:t>pastato energinio naudingumo sertifikavimas </a:t>
            </a:r>
            <a:r>
              <a:rPr b="0" lang="lt-LT" sz="2000" spc="-1" strike="noStrike">
                <a:solidFill>
                  <a:srgbClr val="000000"/>
                </a:solidFill>
                <a:latin typeface="Times New Roman"/>
              </a:rPr>
              <a:t>– reglamentuotas procesas, kurio metu nustatomas pastato energijos sunaudojimas, įvertinamas pastato energinis naudingumas priskiriant pastatą energinio naudingumo klasei ir išduodamas pastato energinio naudingumo sertifikatas;</a:t>
            </a:r>
            <a:endParaRPr b="0" lang="en-US" sz="2000" spc="-1" strike="noStrike">
              <a:solidFill>
                <a:srgbClr val="000000"/>
              </a:solidFill>
              <a:latin typeface="Tahoma"/>
            </a:endParaRPr>
          </a:p>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tato energinio naudingumo sertifikatas </a:t>
            </a:r>
            <a:r>
              <a:rPr b="0" lang="lt-LT" sz="2000" spc="-1" strike="noStrike">
                <a:solidFill>
                  <a:srgbClr val="000000"/>
                </a:solidFill>
                <a:latin typeface="Times New Roman"/>
              </a:rPr>
              <a:t>– Lietuvos Respublikos aplinkos ministerijos nustatyta tvarka išduotas sertifikatas, kuriame pagal šio Reglamento reikalavimus įvertintas pastato energijos suvartojimas ir nurodoma energinio naudingumo klasė.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u="sng">
                <a:solidFill>
                  <a:srgbClr val="9db0b7"/>
                </a:solidFill>
                <a:uFillTx/>
                <a:latin typeface="Times New Roman"/>
              </a:rPr>
              <a:t>Pastatai klasifikuojami į 7 klases: a, b, c, d, e, f, g. A klasė yra laikoma aukščiausia ir ji nurodo labai energiškai efektyvų pastatą</a:t>
            </a:r>
            <a:r>
              <a:rPr b="0" lang="lt-LT" sz="1600" spc="-1" strike="noStrike">
                <a:solidFill>
                  <a:srgbClr val="9db0b7"/>
                </a:solidFill>
                <a:latin typeface="Times New Roman"/>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9900"/>
                </a:solidFill>
                <a:latin typeface="Times New Roman"/>
              </a:rPr>
              <a:t>SERTIFIKAVIMAS TURI BŪTI ATLIKTAS:</a:t>
            </a:r>
            <a:endParaRPr b="0" lang="en-US" sz="3200" spc="-1" strike="noStrike">
              <a:solidFill>
                <a:srgbClr val="95934b"/>
              </a:solidFill>
              <a:latin typeface="Tahoma"/>
            </a:endParaRPr>
          </a:p>
        </p:txBody>
      </p:sp>
      <p:sp>
        <p:nvSpPr>
          <p:cNvPr id="551" name="PlaceHolder 2"/>
          <p:cNvSpPr>
            <a:spLocks noGrp="1"/>
          </p:cNvSpPr>
          <p:nvPr>
            <p:ph/>
          </p:nvPr>
        </p:nvSpPr>
        <p:spPr>
          <a:xfrm>
            <a:off x="301680" y="1066680"/>
            <a:ext cx="854064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š pripažįstant pastatą ar jo dalį tinkamais naudoti; </a:t>
            </a:r>
            <a:endParaRPr b="0" lang="en-US" sz="2800" spc="-1" strike="noStrike">
              <a:solidFill>
                <a:srgbClr val="000000"/>
              </a:solidFill>
              <a:latin typeface="Tahoma"/>
            </a:endParaRPr>
          </a:p>
          <a:p>
            <a:pPr marL="343080" indent="-343080"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pastatas parduodamas ir jo sertifikato galiojimo laikas pasibaigė arba pastatas nebuvo sertifikuotas, sertifikavimas turi būti atliktas prieš įforminant pastato pardavimą</a:t>
            </a:r>
            <a:endParaRPr b="0" lang="en-US" sz="2800" spc="-1" strike="noStrike">
              <a:solidFill>
                <a:srgbClr val="000000"/>
              </a:solidFill>
              <a:latin typeface="Tahoma"/>
            </a:endParaRPr>
          </a:p>
          <a:p>
            <a:pPr marL="343080" indent="-343080"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pastatas išnuomojamas ir jo sertifikato galiojimo laikas pasibaigė arba pastatas nebuvo sertifikuotas, sertifikavimas turi būti atliktas prieš įforminant pastato nuomą.</a:t>
            </a:r>
            <a:endParaRPr b="0" lang="en-US" sz="2800" spc="-1" strike="noStrike">
              <a:solidFill>
                <a:srgbClr val="000000"/>
              </a:solidFill>
              <a:latin typeface="Tahoma"/>
            </a:endParaRPr>
          </a:p>
          <a:p>
            <a:pPr marL="343080" indent="-343080"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pripažįstama tinkama naudoti naujai statomo ar kapitaliai renovuojamo pastato dalis, kuri gali būti naudojama neatsižvelgiant į tai, ar likusių dalių statyba užbaigta, </a:t>
            </a:r>
            <a:r>
              <a:rPr b="0" lang="lt-LT" sz="2800" spc="-1" strike="noStrike" u="sng">
                <a:solidFill>
                  <a:srgbClr val="000000"/>
                </a:solidFill>
                <a:uFillTx/>
                <a:latin typeface="Times New Roman"/>
              </a:rPr>
              <a:t>šios pastato dalies sertifikavimas privalomas</a:t>
            </a:r>
            <a:r>
              <a:rPr b="0" lang="lt-LT" sz="2800" spc="-1" strike="noStrike">
                <a:solidFill>
                  <a:srgbClr val="000000"/>
                </a:solidFill>
                <a:latin typeface="Times New Roman"/>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db0b7"/>
                </a:solidFill>
                <a:latin typeface="Times New Roman"/>
              </a:rPr>
              <a:t>PASTATŲ ENERGINIO NAUDINGUMO SERTIFIKAVIMO DALYVIAI</a:t>
            </a:r>
            <a:endParaRPr b="0" lang="en-US" sz="3200" spc="-1" strike="noStrike">
              <a:solidFill>
                <a:srgbClr val="95934b"/>
              </a:solidFill>
              <a:latin typeface="Tahoma"/>
            </a:endParaRPr>
          </a:p>
        </p:txBody>
      </p:sp>
      <p:sp>
        <p:nvSpPr>
          <p:cNvPr id="5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rPr>
              <a:t>Sertifikavimo užsakovas</a:t>
            </a:r>
            <a:r>
              <a:rPr b="0" lang="lt-LT" sz="2400" spc="-1" strike="noStrike">
                <a:solidFill>
                  <a:srgbClr val="000000"/>
                </a:solidFill>
                <a:latin typeface="Times New Roman"/>
              </a:rPr>
              <a:t>. Sertifikavimo užsakovu gali būti fizinis ar juridinis asmuo. Sertifikavimo užsakovas atsako už pateiktų pastato būklės duomenų teisingumą. Sertifikavimas atliekamas, kai užsakovas patvirtina pastato būklės duomenis.</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rPr>
              <a:t>Ekspertas</a:t>
            </a:r>
            <a:r>
              <a:rPr b="0" lang="lt-LT" sz="2400" spc="-1" strike="noStrike">
                <a:solidFill>
                  <a:srgbClr val="000000"/>
                </a:solidFill>
                <a:latin typeface="Times New Roman"/>
              </a:rPr>
              <a:t>, turintis teisę atlikti pastatų sertifikavimą, atsakingas už objektyvų ir kokybišką sertifikavimo proceso atlikimą.</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linkos ministerijos </a:t>
            </a:r>
            <a:r>
              <a:rPr b="0" lang="lt-LT" sz="2400" spc="-1" strike="noStrike" u="sng">
                <a:solidFill>
                  <a:srgbClr val="000000"/>
                </a:solidFill>
                <a:uFillTx/>
                <a:latin typeface="Times New Roman"/>
              </a:rPr>
              <a:t>paskirtoji įstaiga</a:t>
            </a:r>
            <a:r>
              <a:rPr b="0" lang="lt-LT" sz="2400" spc="-1" strike="noStrike">
                <a:solidFill>
                  <a:srgbClr val="000000"/>
                </a:solidFill>
                <a:latin typeface="Times New Roman"/>
              </a:rPr>
              <a:t>, vykdanti sertifikavimo proceso priežiūrą. Įstaiga, vykdanti sertifikavimo proceso priežiūrą, atsaking</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 už teisingą sertifikavimo rezultatų paskelbimą</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Sertifikavimo užsakovo ir eksperto, turinčio teisę atlikti pastatų sertifikavimą, santykius ir veiklą reglamentuoja Lietuvos teisės akt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9db0b7"/>
                </a:solidFill>
                <a:latin typeface="Times New Roman"/>
              </a:rPr>
              <a:t>ENERGINIO NAUDINGUMO SERTIFIKATAS, JO GALIOJIMO LAIKAS IR PASKIRTIS</a:t>
            </a:r>
            <a:endParaRPr b="0" lang="en-US" sz="2800" spc="-1" strike="noStrike">
              <a:solidFill>
                <a:srgbClr val="95934b"/>
              </a:solidFill>
              <a:latin typeface="Tahoma"/>
            </a:endParaRPr>
          </a:p>
        </p:txBody>
      </p:sp>
      <p:sp>
        <p:nvSpPr>
          <p:cNvPr id="555" name="PlaceHolder 2"/>
          <p:cNvSpPr>
            <a:spLocks noGrp="1"/>
          </p:cNvSpPr>
          <p:nvPr>
            <p:ph/>
          </p:nvPr>
        </p:nvSpPr>
        <p:spPr>
          <a:xfrm>
            <a:off x="301680" y="1599840"/>
            <a:ext cx="8540640" cy="4876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lstybės narės užtikrina, kad kai pastatai statomi, parduodami ar išnuomojami, savininkui būtų išduodamas energinio naudingumo sertifikatas arba, kad savininkas jį išduotų būsimam pirkėjui ar nuomininkui.</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nerginio naudingumo sertifikato galiojimo laikas turi būti ne ilgesnis kaip 10 metų.</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utų arba daugiabučio pastato atskiro naudojimo patalpų sertifikatas gali būti išduoštas remiantis bendru sertifikatu, išduotu visam daugiabučiam pastatui su bendra šildymo sistema arba kito tipinio to paties daugiabučio pastato buto įvertinimu.</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statų energinio naudingumo sertifikatuose nurodomi kontroliniai dydžiai (galiojantys standartai) ir gairės, kad vartotojas galėtų įvertinti energinį pastato naudingumą. Prie sertifikato pridedamos rekomendacijos dėl ekonomiškai efektyvaus energinio naudingumo gerinim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Rangos būdu pastatytų, rekonstruotų, kapitališkai suremontuotų (toliau – Pastatytų) statinių pripažinimo tinkamais naudoti organizavimas yra statytojų (arba jų įgaliotų asmenų) ir rangovų bendra pareiga. </a:t>
            </a:r>
            <a:endParaRPr b="0" lang="en-US" sz="3200" spc="-1" strike="noStrike">
              <a:solidFill>
                <a:srgbClr val="000000"/>
              </a:solidFill>
              <a:latin typeface="Tahoma"/>
            </a:endParaRPr>
          </a:p>
          <a:p>
            <a:pPr marL="335880" indent="-3358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Kitų statinių, nepripažintų tinkamais (nepriimtų) naudoti  naudojimas draudžiamas ir  užtraukia įstatymais nustatytą atsakomybę.</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us pripažįsta tinkamais naudoti komisijos, kurias skiria Valstybinė teritorijų planavimo ir statybos inspekcija prie Aplinkos ministerijos. Komisijos darbe privalo dalyvauti statinio statybos rangovo (rangovų, subrangovų) atstovai (statybos, specialiųjų darbų vadovas) ir statybos techninis prižiūrėtoj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Gavęs statytojo rašytinį prašymą pripažinti statinį tinkamu naudoti, komisijos pirmininkas ne vėliau kaip prieš 10 darbo dienų laišku, elektroniniu paštu arba faksu praneša komisijos nariams numatomą statinio patikrinimo dieną ir valandą, o kai numatoma tikrinti pastatus, kuriems privalomas garso klasifikavimas ar energinis sertifikavimas, – elektroniniu paštu arba faksu taip pat praneša Valstybinei teritorijų planavimo ir statybos inspekcijai prie Aplinkos ministerijos.</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omisija turi būti sudaryta ir pradėti darbą ne vėliau kaip po 20 darbo dienų nuo statytojo prašymo gavim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Nesudėtingas statinys</a:t>
            </a:r>
            <a:r>
              <a:rPr b="0" lang="lt-LT" sz="2800" spc="-1" strike="noStrike">
                <a:solidFill>
                  <a:srgbClr val="000000"/>
                </a:solidFill>
                <a:latin typeface="Tahoma"/>
              </a:rPr>
              <a:t> – paprastų konstrukcijų pastatas, kurio didžiausias aukštis 8,5 m, kurio visų aukštų, antstatų, pastogės patalpų ir naudojimo paskirtimi susietų priestatų plotų suma yra ne didesnė kaip 80 kvadratinių metrų ir kurio rūsys (pusrūsis) yra ne didesnis kaip vieno aukšto; paprastų konstrukcijų inžinerinis statinys.</a:t>
            </a:r>
            <a:r>
              <a:rPr b="0" lang="lt-L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rūkstant dokumentų, jiems neatitinkant nustatytų reikalavimų bei pastebėjus statinio neatitikimus šiems dokumentams, komisija pateikia statytojui (užsakovui) šių trūkumų ir neatitikimų sąrašą, pasirašytą komisijos narių (pagal kompetenciją) ir komisijos pirmininko. Pašalinus sąraše išvardytus neatitikimus, statytojas (užsakovas) suderina su komisija naują statinio pripažinimo tinkamu naudoti datą. bet ne vėlesnę kaip 10 darbo dienų nuo statytojo pranešimo apie darbų užbaigimą gavim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5" name="PlaceHolder 2"/>
          <p:cNvSpPr>
            <a:spLocks noGrp="1"/>
          </p:cNvSpPr>
          <p:nvPr>
            <p:ph/>
          </p:nvPr>
        </p:nvSpPr>
        <p:spPr>
          <a:xfrm>
            <a:off x="301680" y="1447920"/>
            <a:ext cx="8540640" cy="49528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Jei statybos metu pasikeičia kai kurie normatyvinių statybos dokumentų reikalavimai, statinių parengimą naudoti tikrinančios komisijos vadovaujasi tais reikalavimais, kurie galiojo ir buvo numatyti statybos leidimų išdavimo metu;</a:t>
            </a:r>
            <a:endParaRPr b="0" lang="en-US" sz="2400" spc="-1" strike="noStrike">
              <a:solidFill>
                <a:srgbClr val="000000"/>
              </a:solidFill>
              <a:latin typeface="Tahoma"/>
            </a:endParaRPr>
          </a:p>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Žiemos metu (gruodžio–kovo mėn.) komisiją skirianti institucija gali leisti atidėti sklypų apželdinimą, įvažiuojamųjų kelių, ūkinių, sporto bei žaidimų aikštelių dangos viršutinio sluoksnio paklojimą ir fasadų fragmentų apdailą iki šiems darbams palankaus artimiausio sezono, tačiau ne vėliau kaip iki rugsėjo 1 d. Žiemos metu ir augalų vegetacijos laikotarpiu gali leisti atidėti medelių ir krūmų sodinimą, tačiau jis turi būti užbaigtas per artimiausią sodinimo sezoną. </a:t>
            </a:r>
            <a:r>
              <a:rPr b="0" lang="lt-LT" sz="2400" spc="-1" strike="noStrike" u="sng">
                <a:solidFill>
                  <a:srgbClr val="000000"/>
                </a:solidFill>
                <a:uFillTx/>
                <a:latin typeface="Tahoma"/>
              </a:rPr>
              <a:t>Konkrečius darbų baigimo terminus bei jų kontrolės vykdymo tvarką nustato statinio parengimą naudoti tikrinanti komisija</a:t>
            </a:r>
            <a:r>
              <a:rPr b="0" lang="lt-LT"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inio pripažinimo tinkamu naudoti data laikoma akto pasirašymo data.</a:t>
            </a:r>
            <a:endParaRPr b="0" lang="en-US" sz="2000" spc="-1" strike="noStrike">
              <a:solidFill>
                <a:srgbClr val="000000"/>
              </a:solidFill>
              <a:latin typeface="Tahoma"/>
            </a:endParaRPr>
          </a:p>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Po vieną patvirtinto akto (su priedais) egzempliorių per 5 dienas po jo pasirašymo įteikiama statytojui, statinio pripažinimo tinkamu naudoti komisiją paskyrusiai institucijai ir apskrities, kurios teritorijoje yra statinys, viršininko administracijos Teritorijų planavimo ir statybos valstybinės priežiūros departamentui (skyriui). Statinio pripažinimo tinkamu naudoti komisijos nariams pareikalavus, jiems taip pat įteikiama patvirtinta akto kopija. Institucija, paskyrusi statinio pripažinimo tinkamu naudoti komisiją, per 14 kalendorinių dienų nuo akto pasirašymo perduoda pranešimą Nekilnojamojo turto kadastro tvarkytojui apie statinio pripažinimą tinkamu naudoti.</a:t>
            </a:r>
            <a:endParaRPr b="0" lang="en-US" sz="2000" spc="-1" strike="noStrike">
              <a:solidFill>
                <a:srgbClr val="000000"/>
              </a:solidFill>
              <a:latin typeface="Tahoma"/>
            </a:endParaRPr>
          </a:p>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Pasirašius statinio pripažinimo tinkamu naudoti aktą, statytojas (užsakovas) privalo statinį įregistruoti Nekilnojamojo turto registre ir jį naudoti teisės aktais nustatyta tvark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inio garantinis terminas nustatomas statinio projektavimo, rangos ir statinio statybos techninės priežiūros sutartyse. Šis terminas negali būti trumpesnis (skaičiuojant nuo statinio pripažinimo tinkamu naudoti dienos) kaip 5 metai, paslėptų statinio elementų (konstrukcijų, vamzdynų ir kt.) – 10 metų, o jeigu buvo nustatyta šiuose elementuose tyčia paslėptų defektų – 20 metų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Garantiniu statinio eksploatavimo laiku atsiradus statybos defektų, statytojas (naudotojas) pasikviečia rangovą, užfiksuoja raštu defektus ir suderina rangovo siūlomą jų pašalinimo laiką. Rangovui neatvykus arba jam atsisakius pasirašyti aktą, kuriame užfiksuoti defektai, statytojas (naudotojas) šį aktą surašo vienašališkai. Rangovas privalo šiuos defektus pašalinti savo lėšomis, suderintu laiku. Jei rangovas atsisako juos šalinti arba nepašalina nustatytu laiku, statytojas (naudotojas) juos pašalina ūkio būdu arba kito rangovo jėgomis, o faktiškas išlaidas </a:t>
            </a:r>
            <a:r>
              <a:rPr b="1" lang="lt-LT" sz="2400" spc="-1" strike="noStrike">
                <a:solidFill>
                  <a:srgbClr val="000000"/>
                </a:solidFill>
                <a:latin typeface="Tahoma"/>
              </a:rPr>
              <a:t>(netesybas)</a:t>
            </a:r>
            <a:r>
              <a:rPr b="0" lang="lt-LT" sz="2400" spc="-1" strike="noStrike">
                <a:solidFill>
                  <a:srgbClr val="000000"/>
                </a:solidFill>
                <a:latin typeface="Tahoma"/>
              </a:rPr>
              <a:t> išieško iš statinį stačiusio rangovo įstatymais bei rangos sutartimi nustatyta tvarka. Dėl projekto klaidų garantiniu eksploatacijos laiku atsiradusius statinio defektus rangovas šalina </a:t>
            </a:r>
            <a:r>
              <a:rPr b="1" lang="lt-LT" sz="2400" spc="-1" strike="noStrike">
                <a:solidFill>
                  <a:srgbClr val="000000"/>
                </a:solidFill>
                <a:latin typeface="Tahoma"/>
              </a:rPr>
              <a:t>projektuotojo sąskaita</a:t>
            </a:r>
            <a:r>
              <a:rPr b="0" lang="lt-LT"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Ų PRIPAŽINIMO TINKAMAIS NAUDOTI KOMISIJOMS</a:t>
            </a:r>
            <a:r>
              <a:rPr b="1" lang="en-US" sz="2400" spc="-1" strike="noStrike">
                <a:solidFill>
                  <a:srgbClr val="000000"/>
                </a:solidFill>
                <a:latin typeface="Tahoma"/>
              </a:rPr>
              <a:t> </a:t>
            </a:r>
            <a:r>
              <a:rPr b="1" lang="lt-LT" sz="2400" spc="-1" strike="noStrike">
                <a:solidFill>
                  <a:srgbClr val="000000"/>
                </a:solidFill>
                <a:latin typeface="Tahoma"/>
              </a:rPr>
              <a:t>TEIKIAMŲ DOKUMENTŲ BENDRAS SĄRAŠAS</a:t>
            </a:r>
            <a:r>
              <a:rPr b="1" lang="en-US" sz="2400" spc="-1" strike="noStrike">
                <a:solidFill>
                  <a:srgbClr val="000000"/>
                </a:solidFill>
                <a:latin typeface="Tahoma"/>
              </a:rPr>
              <a:t>:</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Statinio projektas (techninis projektas ir darbo projektas, jei projektavimas buvo vykdomas dviem etapais; techninis – darbo projektas, jei projektavimas buvo vykdomas vienu etapu; supaprastintas projektas II grupės nesudėtingiems statiniams) su nustatyta tvarka  atliktais ir įteisintais pakeitimais, papildymais bei taisymais. Statinio projekto sprendinių dokumentai (techninės specifikacijos ir brėžiniai) privalo turėti žymą „TAIP PASTATYTA“ su statinio techninio prižiūrėtojo ir statinio statybos vadovo parašai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ybos leidimas (kai jis privaloma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Statybos darbų žurnalas (kai jis privalom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Naujų statinių (išskyrus nesudėtingus) pagrindinių ašių nužymėjimo aktai bei schemo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5. Sklypo, kuriame yra naujai pastatytų arba rekonstruotų (keičiant užstatymo plotą) statinių, geodezinė nuotrauka.</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6. Inžinerinių tinklų geodezinės nuotrauko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7. Inžinerinių tinklų apžiūrėjimo ir išbandymo ak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8. Technologinių inžinerinių sistemų išbandymo ak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9. Statinio inžinerinių sistemų išbandymo ak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0. Paslėptų darbų patikrinimo ak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1. Statybos produktų atitikties dokumen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2. Geriamojo vandens kokybės tyrimo, projekte numatytų triukšmo, vibracijos, apšvietimo ir kitų matavimų dokument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3. Pastato garso klasifikavimo protokolas, – privalomas pripažįstant tinkamais naudoti naujus gyvenamuosius pastatus (išskyrus vienbučius namus), gydymo paskirties pastatus, taip pat šių paskirčių patalpas, formuojamas kaip atskiri nekilnojamojo turto objekta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4. Laikančių konstrukcijų išbandymų apkrovomis (kai jie numatyti statinio projekte) aktai, metalo konstrukcijų suvirintų jungčių apžiūrėjimo ir matavimų aktai bei jų patikrinimo neardančiais metodais (kai projekte nurodyti privalomų patikrinimų neardančiais metodais kiekiai ir būdai) išvados, metalo ir medžio konstrukcijų padengimo priešgaisrinėmis dangomis bei medžio konstrukcijų antiseptinimo paslėptų darbų akt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9" name="PlaceHolder 2"/>
          <p:cNvSpPr>
            <a:spLocks noGrp="1"/>
          </p:cNvSpPr>
          <p:nvPr>
            <p:ph/>
          </p:nvPr>
        </p:nvSpPr>
        <p:spPr>
          <a:xfrm>
            <a:off x="301680" y="1599840"/>
            <a:ext cx="854064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5. Statinio kadastrinių matavimų byla (tiesiant vartotojų prijungimo prie veikiančių inžinerinių tinklų įvadus, kurių projektų ir statybos užsakovai yra veikiančius tinklus eksploatuojančios įmonės, šių įvadų kadastrinių matavimų bylos neprivalom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6. Visuomenės sveikatos centro pažyma apie elektromagnetinio lauko stiprį bei jo atitiktį higienos normoms (kai pripažįstami tinkamais naudoti telekomunikacijų statiniai).</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7. Statybos darbų perdavimo–priėmimo aktas (kai darbai atlikti rangos būdu).</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8. Pažyma apie statybinių atliekų perdavimą jas tvarkančiai įmonei arba jų sutvarkymą regiono aplinkos apsaugos departamento nurodytu būdu.</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1. Pastato energinio naudingumo sertifikata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5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Pastaba</a:t>
            </a:r>
            <a:r>
              <a:rPr b="0" lang="lt-LT" sz="2400" spc="-1" strike="noStrike">
                <a:solidFill>
                  <a:srgbClr val="000000"/>
                </a:solidFill>
                <a:latin typeface="Tahoma"/>
              </a:rPr>
              <a:t>. Atsižvelgdama į statinio paskirtį, kategoriją ir jo statybą reglamentuojančių teisės aktų specifinius reikalavimus, teikiamų dokumentų sąrašą komisija gali patikslinti.</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9. Statinio techninis pasas. Šis dokumentas neprivalomas pripažįstant tinkamais naudoti nesudėtingus statinius, 1–2 butų gyvenamuosius namus ir jų priklausinius, statinius, esančius namų valdoje kaimo gyvenamojoje vietovėje, žemės ūkio paskirties pastatus, įrašytus į Vyriausybės įgaliotos institucijos patvirtintą sąrašą, taip pat šio priedo 20 punkte nurodytus pastatus.</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0. Pastato techninis-energetinis pasas. Šis dokumentas privalomas pripažįstant tinkamais naudoti apšildomus pastatus, kurių naudingasis plotas didesnis kaip 1000 kvadratinių metrų.</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RPA</cp:lastModifiedBy>
  <dcterms:modified xsi:type="dcterms:W3CDTF">2010-05-14T11:21:21Z</dcterms:modified>
  <cp:revision>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