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76E-369F-4DFE-8352-D586E2FE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8F6-92BB-4639-8799-8D4F97DF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E59-06B9-4A2F-86DD-08FBD240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F91-20FE-4CC7-AA6E-8120605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753-CA4D-4C5B-B1C3-46400682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B37-7DB4-49A7-B13B-522D358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158-5C54-4375-9D98-1206AD4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BB2-5C70-44CF-A3E8-677345A3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311-A0EC-4A58-96CB-A24D1323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DB8-D100-4D3E-B507-4D9D233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A4F-28F8-4D35-A2D6-96896D28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D76-4FB1-44FA-A4FE-2325844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A1D6-D7DD-45F2-AC86-91E57C0D68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odestas.gr@cr.su.lt" TargetMode="External"/><Relationship Id="rId2" Type="http://schemas.openxmlformats.org/officeDocument/2006/relationships/hyperlink" Target="mailto:modestas.gr@cr.su.lt" TargetMode="External"/><Relationship Id="rId3" Type="http://schemas.openxmlformats.org/officeDocument/2006/relationships/hyperlink" Target="mailto:modestas.gr@cr.su.lt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376092"/>
                </a:solidFill>
                <a:latin typeface="Calibri"/>
              </a:rPr>
              <a:t>II. Kaip </a:t>
            </a: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planuoti</a:t>
            </a:r>
            <a:r>
              <a:rPr b="1" lang="lt-LT" sz="3000" spc="-1" strike="noStrike">
                <a:solidFill>
                  <a:srgbClr val="376092"/>
                </a:solidFill>
                <a:latin typeface="Calibri"/>
              </a:rPr>
              <a:t> Ryšių su visuomene veiksmu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Calibri"/>
              </a:rPr>
              <a:t>Modestas Grigaliūn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Calibri"/>
              </a:rPr>
              <a:t>el. paštas</a:t>
            </a:r>
            <a:r>
              <a:rPr b="1" lang="lt-LT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lt-LT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destas.gr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lt-LT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r.su.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Calibri"/>
              </a:rPr>
              <a:t>Tel. 8 600 53 19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200" spc="-1" strike="noStrike">
                <a:solidFill>
                  <a:srgbClr val="000000"/>
                </a:solidFill>
                <a:latin typeface="Calibri"/>
              </a:rPr>
              <a:t>2011 m. sausio 27 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Įvykdytos RsV akcijos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efektyvumo vertinimo kriterijai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 taktiniame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Paminėjimų žiniasklaidoje </a:t>
            </a: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kiekio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ir / arba </a:t>
            </a: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kokybės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 santyk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Su atskiros paslaugos ar organizacijos įvaizdžiu siejamų asociacijų </a:t>
            </a: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vertinimo pokyčiai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Atskirų projektų </a:t>
            </a: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populiarumas</a:t>
            </a:r>
            <a:r>
              <a:rPr b="0" lang="lt-LT" sz="3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ff0000"/>
                </a:solidFill>
                <a:latin typeface="Calibri"/>
              </a:rPr>
              <a:t>Įgyvendinti uždavinia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8F46-776C-4582-B297-B9DD4A451A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376092"/>
                </a:solidFill>
                <a:latin typeface="Calibri"/>
              </a:rPr>
              <a:t>Taktinio užbaigto rengti veiksmų plano struktūra</a:t>
            </a:r>
            <a:br>
              <a:rPr sz="3200"/>
            </a:br>
            <a:r>
              <a:rPr b="0" lang="lt-LT" sz="2300" spc="-1" strike="noStrike">
                <a:solidFill>
                  <a:srgbClr val="000000"/>
                </a:solidFill>
                <a:latin typeface="Calibri"/>
              </a:rPr>
              <a:t>(pagal L. Ulevičių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Padėties analizė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esamos situacijos ir reiškiniai, kurie daro įtaką plane numatytiems uždaviniam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ikslai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siekiami rezultatai aba tikrovės pokyčia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Uždaviniai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veiksmai, kurių įvykdymas padės pasiekti numatytus tikslu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ikslinės auditorijo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šių visuomenės  grupių vertinimo pokyčiai gali būti naudojami kaip RsV veiksmų efektyvumo kriterijai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FB3F-0CDC-4FC4-8CE8-A8006237D7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Taktinio užbaigto rengti veiksmų plano struktūr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Pagrindinės žinios</a:t>
            </a:r>
            <a:r>
              <a:rPr b="0" lang="lt-L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informacija, kuri bus perduodama tikslinėms auditorijoms. Per daug informacijos – “komunikacinis triukšmas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!!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Strategijo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kelių taktinių veiksmų visum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aktiko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kasdieniai RsV veiksmai: pranešimai žiniasklaidai, susitikimai su žurnalistais ir pan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Biudžetas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Įvertinimas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(kriterijai, pagal kuriuos vėliau bus vertinamas RsV plano įgyvendinimo efektyvum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A088-6358-4455-A8A5-D0F649C300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Literatū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Ulevičius, Liutauras. 2006. Kaip tapti žinomam: etiški ryšiai su visuomene. V.: Smalt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A325-ECBF-4AE6-A856-DACD8AFCFC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Ciklinis</a:t>
            </a:r>
            <a:r>
              <a:rPr b="1" lang="lt-LT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 pobūd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B4B-41A5-485E-BF14-CA64ED2063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7"/>
          <p:cNvSpPr/>
          <p:nvPr/>
        </p:nvSpPr>
        <p:spPr>
          <a:xfrm flipV="1">
            <a:off x="68580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2"/>
          <p:cNvGrpSpPr/>
          <p:nvPr/>
        </p:nvGrpSpPr>
        <p:grpSpPr>
          <a:xfrm>
            <a:off x="1066680" y="2438280"/>
            <a:ext cx="6629400" cy="4038840"/>
            <a:chOff x="1066680" y="2438280"/>
            <a:chExt cx="6629400" cy="4038840"/>
          </a:xfrm>
        </p:grpSpPr>
        <p:sp>
          <p:nvSpPr>
            <p:cNvPr id="46" name="Rectangle 4"/>
            <p:cNvSpPr/>
            <p:nvPr/>
          </p:nvSpPr>
          <p:spPr>
            <a:xfrm>
              <a:off x="1066680" y="2438280"/>
              <a:ext cx="228600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1. Analizė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1066680" y="3429000"/>
              <a:ext cx="2286000" cy="457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2. Tikslų numaty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066680" y="5715000"/>
              <a:ext cx="2286000" cy="762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5. Grįžtamasis ryš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5867280" y="2895480"/>
              <a:ext cx="1828800" cy="9144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7. Koregavi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066680" y="4952880"/>
              <a:ext cx="2286000" cy="457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4. Komunikacij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066680" y="4191120"/>
              <a:ext cx="2286000" cy="4572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Arial"/>
                </a:rPr>
                <a:t>3. Veiksmų planavima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867280" y="4648320"/>
              <a:ext cx="1828800" cy="9144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Arial"/>
                </a:rPr>
                <a:t>6. Įvertini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>
              <a:off x="2057400" y="3124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>
              <a:off x="2057400" y="38862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2057400" y="46483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2057400" y="5410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>
              <a:off x="3352680" y="60199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 flipV="1">
              <a:off x="6858000" y="38095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 flipV="1">
              <a:off x="6858000" y="2666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 flipH="1">
              <a:off x="3352320" y="266688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Strateginis planavi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yšių su visuomene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strategija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– pagrindinių 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ILGALAIKIŲ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omunikacijos krypčių deklarac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yšių su visuomene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aktika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TAM TIKRO LAIKOTARPIO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veiksmų planas, parengtas numatytoms strateginėms kryptims įgyvendint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E9B-D396-452A-B272-219D39C21D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RsV plano reikalingumas</a:t>
            </a:r>
            <a:br>
              <a:rPr sz="3200"/>
            </a:br>
            <a:r>
              <a:rPr b="0" lang="lt-LT" sz="2300" spc="-1" strike="noStrike">
                <a:solidFill>
                  <a:srgbClr val="000000"/>
                </a:solidFill>
                <a:latin typeface="Calibri"/>
              </a:rPr>
              <a:t>(pagal L. Ulevičių)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2590920"/>
            <a:ext cx="76932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sV veikla yra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derinama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u bendruomenės strateg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oordinuojamos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įvairios RsV technologijos ir priemonė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Galimybė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vertinti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RsV efektyvum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Išlaidų RsV veikloms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prognozavi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DC0-ACC8-43EC-AC07-1ED8B72D33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sV planavimą lemia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...situacija, kai bendruomenei tenka taisyti arba sumažinti žalą dėl iškilusių problemų ar visuomenėje susiformavusios informacinės aplinkos (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REAKCINIAI RsV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...situacija, kai bendruomenė susirūpina savo nuolatine reputacija, visuomenės vertinimu ir parama (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PROAKCINIAI RsV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6EFD-CB02-4E98-AED4-11D6B57918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 rot="5400000">
            <a:off x="3818520" y="4047480"/>
            <a:ext cx="990360" cy="820440"/>
          </a:xfrm>
          <a:custGeom>
            <a:avLst/>
            <a:gdLst>
              <a:gd name="textAreaLeft" fmla="*/ 154800 w 990360"/>
              <a:gd name="textAreaRight" fmla="*/ 866880 w 990360"/>
              <a:gd name="textAreaTop" fmla="*/ 205200 h 820440"/>
              <a:gd name="textAreaBottom" fmla="*/ 615600 h 820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0000"/>
                </a:solidFill>
                <a:latin typeface="Calibri"/>
              </a:rPr>
              <a:t>Taktiniai komunikaciniai pl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2120" y="236232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76092"/>
                </a:solidFill>
                <a:latin typeface="Calibri"/>
              </a:rPr>
              <a:t>Korporacinė komunikacija </a:t>
            </a: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(įvaizdžio kūrimas, matomumo didinimas)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76092"/>
                </a:solidFill>
                <a:latin typeface="Calibri"/>
              </a:rPr>
              <a:t>Reklaminės akcij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76092"/>
                </a:solidFill>
                <a:latin typeface="Calibri"/>
              </a:rPr>
              <a:t>Vidaus komunikaci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376092"/>
                </a:solidFill>
                <a:latin typeface="Calibri"/>
              </a:rPr>
              <a:t>Lobistiniai veiksmai</a:t>
            </a: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 ir 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0" y="2255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lt-LT" sz="2400" spc="-1" strike="noStrike" u="sng">
                <a:solidFill>
                  <a:srgbClr val="ff0000"/>
                </a:solidFill>
                <a:uFillTx/>
                <a:latin typeface="Calibri"/>
              </a:rPr>
              <a:t>Kada kuriamas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lt-LT" sz="2400" spc="-1" strike="noStrike" u="sng">
                <a:solidFill>
                  <a:srgbClr val="ff0000"/>
                </a:solidFill>
                <a:uFillTx/>
                <a:latin typeface="Calibri"/>
              </a:rPr>
              <a:t>taktinis pla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F3F-0F40-4BA2-BC78-FF309E97E2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4952880" y="2590920"/>
            <a:ext cx="381240" cy="3047760"/>
          </a:xfrm>
          <a:custGeom>
            <a:avLst/>
            <a:gdLst>
              <a:gd name="textAreaLeft" fmla="*/ 0 w 381240"/>
              <a:gd name="textAreaRight" fmla="*/ 137520 w 38124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ff0000"/>
                </a:solidFill>
                <a:uFillTx/>
                <a:latin typeface="Calibri"/>
              </a:rPr>
              <a:t>Taktinis planavi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: į ką atsižvelgiama?</a:t>
            </a:r>
            <a:br>
              <a:rPr sz="3200"/>
            </a:b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Calibri"/>
              </a:rPr>
              <a:t>(pagal L. Ulevičių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odėl?</a:t>
            </a:r>
            <a:r>
              <a:rPr b="0" lang="lt-LT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RsV akcijos priežastis, strateginė užduo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as bus pasakoma?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kokia organizacijos vertybė yra akcentuoja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am?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tikslinės auditorijos parinkim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aip padaryti?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koks RsV veiksmas ir jo forma, koks komunikacinis kanal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Koks efektyvumas?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kaip paveikė tikslinę auditorij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54AC-FC53-4DEA-9BB5-607B36068F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Taktinio plano turin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Tikslai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e bus pasiekti planą įgyvendi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Žinios turinys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s turi būti paviešint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Tikslinė auditorija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ai skiriama konkreti ži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Informacijos sklaidos priemonės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omis bus viešinama pasirinkta informaci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Komunikaciniai kanalai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ais bus skleidžiama suformuluota ži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Įrankiai</a:t>
            </a: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, kurie padės pasiekti užsibrėžtus tiks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3E5-98AA-4650-BD94-455EF8756E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Taktinių veiksmų laik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Ribot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– labai svarbu užfiksuoti pradžios ir pabaigos momen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Planuojamas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 tik komunikacijos viešojoje erdvėje, bet ir pasirengimo etapų laik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omunikacijos strategijoje laikas 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mažiau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akcentuoja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B1D1-2C8A-46A2-BDC6-501F89BD5A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038480" y="4114800"/>
            <a:ext cx="1067040" cy="1447920"/>
          </a:xfrm>
          <a:prstGeom prst="upDownArrow">
            <a:avLst>
              <a:gd name="adj1" fmla="val 50000"/>
              <a:gd name="adj2" fmla="val 27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mnitel</cp:lastModifiedBy>
  <dcterms:modified xsi:type="dcterms:W3CDTF">2011-01-26T19:05:08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