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5C7A-06C0-4350-80D7-23FEE4BA2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BED4-5A87-4F4A-B182-EDDB71F33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7FB4-4512-4A5F-B52C-721F88071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119F-D741-491A-B3A8-EEDD7B021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B8C-5D48-48FE-B54D-E47CD98C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FCF-2A8D-47C9-A21E-805ED50B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A1C-CA0D-4EA6-B882-2AF31630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0CA-EADE-4275-B8BA-2EA38D94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40F-F103-4871-B510-34A15F47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AD3-C31D-447C-B35B-28FCE5FC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825-4CF3-4482-8A48-BFE7AE13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BA1-B642-4EB5-A4C1-C2DD52DA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ECD-8DC3-4FBA-9449-9807A86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D2A-8525-4DE0-BE13-E1485E90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C99-F87B-493D-8F9B-41D26132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9BE-3972-487C-9712-35B0184E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8A2A-7E00-429E-B9BA-CA30EE3B1AE1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C68C-69B2-4BFD-B400-6B757B1D778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odestas.gr@cr.su.lt" TargetMode="External"/><Relationship Id="rId2" Type="http://schemas.openxmlformats.org/officeDocument/2006/relationships/hyperlink" Target="mailto:modestas.gr@cr.su.lt" TargetMode="External"/><Relationship Id="rId3" Type="http://schemas.openxmlformats.org/officeDocument/2006/relationships/hyperlink" Target="mailto:modestas.gr@cr.su.l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61760" y="11430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I. Kas yra Ryšiai su visuomene</a:t>
            </a:r>
            <a:r>
              <a:rPr b="1" lang="lt-LT" sz="2800" spc="-1" strike="noStrike">
                <a:solidFill>
                  <a:srgbClr val="376092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alibri"/>
              </a:rPr>
              <a:t>Modestas Grigaliū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alibri"/>
              </a:rPr>
              <a:t>el. paštas</a:t>
            </a:r>
            <a:r>
              <a:rPr b="1" lang="lt-LT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lt-LT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odestas.gr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lt-LT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r.su.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alibri"/>
              </a:rPr>
              <a:t>Tel. 8 600 53 1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000" spc="-1" strike="noStrike">
                <a:solidFill>
                  <a:srgbClr val="000000"/>
                </a:solidFill>
                <a:latin typeface="Calibri"/>
              </a:rPr>
              <a:t>2011 m. sausio 27 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Įvairios </a:t>
            </a: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RsV</a:t>
            </a: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 priemonė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Leidiniai ir suvenyra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Ryšiai su žiniasklaid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Renginių organizavim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Pristatymai (prezentacijo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Metiniai susirinkima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Bendruomenės  šventė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Naujų narių “krikštynos” ir </a:t>
            </a:r>
            <a:r>
              <a:rPr b="1" lang="lt-LT" sz="2400" spc="-1" strike="noStrike" u="sng">
                <a:solidFill>
                  <a:srgbClr val="376092"/>
                </a:solidFill>
                <a:uFillTx/>
                <a:latin typeface="Calibri"/>
              </a:rPr>
              <a:t>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lt-LT" sz="2400" spc="-1" strike="noStrike">
                <a:solidFill>
                  <a:srgbClr val="ff0000"/>
                </a:solidFill>
                <a:latin typeface="Calibri"/>
              </a:rPr>
              <a:t>rekomenduo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lt-LT" sz="2400" spc="-1" strike="noStrike">
                <a:solidFill>
                  <a:srgbClr val="ff0000"/>
                </a:solidFill>
                <a:latin typeface="Calibri"/>
              </a:rPr>
              <a:t>RITUALIZ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2BB7-6010-48FF-8B0E-63115A098CE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648320" y="2819520"/>
            <a:ext cx="457200" cy="2895480"/>
          </a:xfrm>
          <a:custGeom>
            <a:avLst/>
            <a:gdLst>
              <a:gd name="textAreaLeft" fmla="*/ 0 w 457200"/>
              <a:gd name="textAreaRight" fmla="*/ 164880 w 4572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80880" y="28195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RsV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4400" spc="-1" strike="noStrike">
                <a:solidFill>
                  <a:srgbClr val="376092"/>
                </a:solidFill>
                <a:latin typeface="Calibri"/>
              </a:rPr>
              <a:t>– vertybių komunik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Bendruomenės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mis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Bendruomenės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viz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Vertybių komunik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bendruomenės išorėje ir vidu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Bendruomenės vertybės </a:t>
            </a:r>
            <a:r>
              <a:rPr b="0" lang="en-BZ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Bendruomenė kaip žmog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39BF-B591-4A5C-96C6-C398FF2C6E2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12"/>
          <p:cNvGrpSpPr/>
          <p:nvPr/>
        </p:nvGrpSpPr>
        <p:grpSpPr>
          <a:xfrm>
            <a:off x="4800600" y="1676520"/>
            <a:ext cx="4145760" cy="4120200"/>
            <a:chOff x="4800600" y="1676520"/>
            <a:chExt cx="4145760" cy="4120200"/>
          </a:xfrm>
        </p:grpSpPr>
        <p:grpSp>
          <p:nvGrpSpPr>
            <p:cNvPr id="107" name="Group 11"/>
            <p:cNvGrpSpPr/>
            <p:nvPr/>
          </p:nvGrpSpPr>
          <p:grpSpPr>
            <a:xfrm>
              <a:off x="4800600" y="1676520"/>
              <a:ext cx="2186280" cy="2065320"/>
              <a:chOff x="4800600" y="1676520"/>
              <a:chExt cx="2186280" cy="2065320"/>
            </a:xfrm>
          </p:grpSpPr>
          <p:sp>
            <p:nvSpPr>
              <p:cNvPr id="108" name="AutoShape 4"/>
              <p:cNvSpPr/>
              <p:nvPr/>
            </p:nvSpPr>
            <p:spPr>
              <a:xfrm>
                <a:off x="4800600" y="1676520"/>
                <a:ext cx="228600" cy="10666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09" name="Group 9"/>
              <p:cNvGrpSpPr/>
              <p:nvPr/>
            </p:nvGrpSpPr>
            <p:grpSpPr>
              <a:xfrm>
                <a:off x="5159160" y="2201400"/>
                <a:ext cx="1827720" cy="1540440"/>
                <a:chOff x="5159160" y="2201400"/>
                <a:chExt cx="1827720" cy="1540440"/>
              </a:xfrm>
            </p:grpSpPr>
            <p:sp>
              <p:nvSpPr>
                <p:cNvPr id="110" name="Line 5"/>
                <p:cNvSpPr/>
                <p:nvPr/>
              </p:nvSpPr>
              <p:spPr>
                <a:xfrm>
                  <a:off x="5159520" y="2201400"/>
                  <a:ext cx="1813320" cy="50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6"/>
                <p:cNvSpPr/>
                <p:nvPr/>
              </p:nvSpPr>
              <p:spPr>
                <a:xfrm>
                  <a:off x="5159160" y="2201760"/>
                  <a:ext cx="1827720" cy="1373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7"/>
                <p:cNvSpPr/>
                <p:nvPr/>
              </p:nvSpPr>
              <p:spPr>
                <a:xfrm>
                  <a:off x="5159160" y="2201760"/>
                  <a:ext cx="1035360" cy="1540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13" name="AutoShape 10"/>
            <p:cNvSpPr/>
            <p:nvPr/>
          </p:nvSpPr>
          <p:spPr>
            <a:xfrm rot="12768600">
              <a:off x="6524280" y="2912760"/>
              <a:ext cx="1871640" cy="258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230" y="2307"/>
                    <a:pt x="12859" y="5080"/>
                    <a:pt x="12859" y="10800"/>
                  </a:cubicBezTo>
                  <a:cubicBezTo>
                    <a:pt x="12859" y="16520"/>
                    <a:pt x="17230" y="1929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2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1" lang="lt-LT" sz="1400" spc="-1" strike="noStrike">
                  <a:solidFill>
                    <a:srgbClr val="000000"/>
                  </a:solidFill>
                  <a:latin typeface="Tahoma"/>
                </a:rPr>
                <a:t>Organizacinė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lt-LT" sz="1400" spc="-1" strike="noStrike">
                  <a:solidFill>
                    <a:srgbClr val="000000"/>
                  </a:solidFill>
                  <a:latin typeface="Tahoma"/>
                </a:rPr>
                <a:t>aplink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76092"/>
                </a:solidFill>
                <a:latin typeface="Calibri"/>
              </a:rPr>
              <a:t>Ryšių su visuomene</a:t>
            </a: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t-LT" sz="4000" spc="-1" strike="noStrike">
                <a:solidFill>
                  <a:srgbClr val="ff0000"/>
                </a:solidFill>
                <a:latin typeface="Calibri"/>
              </a:rPr>
              <a:t>tikslinė auditori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Tikslinė auditorij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organizacijos publika, adresatas, tikslinės komunikacijos grupė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Darbo su tiksline auditorija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tikslas</a:t>
            </a: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formuoti atskiros grupės ar visos visuomenės viešąją nuomonę: pakeisti nepalankią, ją stiprinti arba palaikyti, įtikinti neinformuotas auditorij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6B6D-1335-4040-AE28-F704AEA1AC1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76092"/>
                </a:solidFill>
                <a:latin typeface="Calibri"/>
              </a:rPr>
              <a:t>Ryšių su visuomene</a:t>
            </a:r>
            <a:r>
              <a:rPr b="0" lang="lt-L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t-LT" sz="4000" spc="-1" strike="noStrike">
                <a:solidFill>
                  <a:srgbClr val="ff0000"/>
                </a:solidFill>
                <a:latin typeface="Calibri"/>
              </a:rPr>
              <a:t>tikslinė auditori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376092"/>
                </a:solidFill>
                <a:uFillTx/>
                <a:latin typeface="Calibri"/>
              </a:rPr>
              <a:t>Visa visuomenė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376092"/>
                </a:solidFill>
                <a:uFillTx/>
                <a:latin typeface="Calibri"/>
              </a:rPr>
              <a:t>Finansinės grupės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Komercinės grupės;                       </a:t>
            </a:r>
            <a:r>
              <a:rPr b="1" lang="lt-LT" sz="3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376092"/>
                </a:solidFill>
                <a:uFillTx/>
                <a:latin typeface="Calibri"/>
              </a:rPr>
              <a:t>Valdžios grupės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376092"/>
                </a:solidFill>
                <a:uFillTx/>
                <a:latin typeface="Calibri"/>
              </a:rPr>
              <a:t>Žiniasklaidos grupės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Vidinės organizacijos grupė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D105-E22A-4EEC-A745-5D64A690A1E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9"/>
          <p:cNvGrpSpPr/>
          <p:nvPr/>
        </p:nvGrpSpPr>
        <p:grpSpPr>
          <a:xfrm>
            <a:off x="4038480" y="2361960"/>
            <a:ext cx="4724640" cy="2362320"/>
            <a:chOff x="4038480" y="2361960"/>
            <a:chExt cx="4724640" cy="2362320"/>
          </a:xfrm>
        </p:grpSpPr>
        <p:sp>
          <p:nvSpPr>
            <p:cNvPr id="123" name="Line 5"/>
            <p:cNvSpPr/>
            <p:nvPr/>
          </p:nvSpPr>
          <p:spPr>
            <a:xfrm flipH="1" flipV="1">
              <a:off x="4038480" y="2361960"/>
              <a:ext cx="32004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 flipH="1" flipV="1">
              <a:off x="4419360" y="2971440"/>
              <a:ext cx="2819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H="1">
              <a:off x="4114440" y="3733920"/>
              <a:ext cx="30481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4723920" y="3886200"/>
              <a:ext cx="25146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Oval 4"/>
            <p:cNvSpPr/>
            <p:nvPr/>
          </p:nvSpPr>
          <p:spPr>
            <a:xfrm>
              <a:off x="7010280" y="2971800"/>
              <a:ext cx="1752840" cy="1143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600" spc="-1" strike="noStrike">
                  <a:solidFill>
                    <a:srgbClr val="000000"/>
                  </a:solidFill>
                  <a:latin typeface="Tahoma"/>
                </a:rPr>
                <a:t>Bendruomenė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76092"/>
                </a:solidFill>
                <a:latin typeface="Calibri"/>
              </a:rPr>
              <a:t>Etiški ir teisėti </a:t>
            </a: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Rs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0000"/>
                </a:solidFill>
                <a:latin typeface="Calibri"/>
              </a:rPr>
              <a:t>Propagandos rūšys: </a:t>
            </a:r>
            <a:r>
              <a:rPr b="0" lang="lt-LT" sz="2600" spc="-1" strike="noStrike">
                <a:solidFill>
                  <a:srgbClr val="376092"/>
                </a:solidFill>
                <a:latin typeface="Calibri"/>
              </a:rPr>
              <a:t>juodoji propaganda, pilkoji propaganda ir baltoji propagand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Juodoji propaganda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  <a:ea typeface="Arial"/>
              </a:rPr>
              <a:t>→ “juodosios technologijos”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  <a:ea typeface="Arial"/>
              </a:rPr>
              <a:t>Juodosios technologijo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lt-LT" sz="2600" spc="-1" strike="noStrike">
                <a:solidFill>
                  <a:srgbClr val="376092"/>
                </a:solidFill>
                <a:latin typeface="Arial"/>
                <a:ea typeface="Arial"/>
              </a:rPr>
              <a:t>gerai organizuota ir surežisuota propagandinė kampanija, kurios tikslas – destabilizuoti arba visiškai sugriauti kokios nors organizacijos veikl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  <a:ea typeface="Arial"/>
              </a:rPr>
              <a:t>Juodųjų arba ribinių technologijų gausa RsV – pačių RsV neigiamo vertinimo priela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DF71-32F3-4736-B3B7-D9841979FCA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76092"/>
                </a:solidFill>
                <a:latin typeface="Calibri"/>
              </a:rPr>
              <a:t>Etiški ir teisėti </a:t>
            </a:r>
            <a:r>
              <a:rPr b="1" lang="lt-LT" sz="4000" spc="-1" strike="noStrike">
                <a:solidFill>
                  <a:srgbClr val="ff0000"/>
                </a:solidFill>
                <a:latin typeface="Calibri"/>
              </a:rPr>
              <a:t>Rs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376092"/>
                </a:solidFill>
                <a:uFillTx/>
                <a:latin typeface="Calibri"/>
              </a:rPr>
              <a:t>Dvejopas RsV taikomų technologijų vertinimas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: </a:t>
            </a:r>
            <a:r>
              <a:rPr b="0" lang="lt-LT" sz="3200" spc="-1" strike="noStrike">
                <a:solidFill>
                  <a:srgbClr val="ff0000"/>
                </a:solidFill>
                <a:latin typeface="Calibri"/>
              </a:rPr>
              <a:t>bet kokie ryšiai su visuomene yra “juodi ir nešvarūs” </a:t>
            </a: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ARBA 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įprastoje ryšių su visuomene veikloje etikos pažeidimai yra neišvengi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Visos technologijos yra ribojamos etikos normų; jeigu specialistai pažeidžia šias normas, tai turi būti laikoma jų darbo trūkumu, o ne RsV netinkamum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E13F-5A8E-4A20-9A29-487AA0E3AA1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900" spc="-1" strike="noStrike">
                <a:solidFill>
                  <a:srgbClr val="376092"/>
                </a:solidFill>
                <a:latin typeface="Calibri"/>
              </a:rPr>
              <a:t>Dažniausiai pasitaikantys </a:t>
            </a:r>
            <a:r>
              <a:rPr b="0" lang="lt-LT" sz="2900" spc="-1" strike="noStrike">
                <a:solidFill>
                  <a:srgbClr val="ff0000"/>
                </a:solidFill>
                <a:latin typeface="Calibri"/>
              </a:rPr>
              <a:t>teisės pažeidimai </a:t>
            </a:r>
            <a:r>
              <a:rPr b="0" lang="lt-LT" sz="2900" spc="-1" strike="noStrike">
                <a:solidFill>
                  <a:srgbClr val="376092"/>
                </a:solidFill>
                <a:latin typeface="Calibri"/>
              </a:rPr>
              <a:t>Lietuvos žiniasklaidoje</a:t>
            </a:r>
            <a:r>
              <a:rPr b="0" lang="lt-LT" sz="3600" spc="-1" strike="noStrike">
                <a:solidFill>
                  <a:srgbClr val="376092"/>
                </a:solidFill>
                <a:latin typeface="Calibri"/>
              </a:rPr>
              <a:t> </a:t>
            </a:r>
            <a:br>
              <a:rPr sz="3600"/>
            </a:br>
            <a:r>
              <a:rPr b="0" lang="lt-LT" sz="2200" spc="-1" strike="noStrike">
                <a:solidFill>
                  <a:srgbClr val="000000"/>
                </a:solidFill>
                <a:latin typeface="Calibri"/>
              </a:rPr>
              <a:t>(pagal R. Juozapavičių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Klaidinanti informacij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Privataus gyvenimo neliečiamumo pažeidima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Piktnaudžiavimas žiaurybėmis ir nešvankybėm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Asmens garbės ir orumo žeminim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Nesantaikos kurstym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Slaptos informacijos viešinim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Kenkimas nešališkam teismo procesu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Autorių teisių pažeidima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376092"/>
                </a:solidFill>
                <a:latin typeface="Calibri"/>
              </a:rPr>
              <a:t>Antraštės neatitinka straipsnio turini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9CA7-E6E2-4701-8E1A-18F57957795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Literatū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Ulevičius, Liutauras. 2006. Kaip tapti žinomam: etiški ryšiai su visuomene. V.: Smalt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1FA8-4616-4668-BE5F-9DD18B594A3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Michael J. Mot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Calibri"/>
                <a:ea typeface="Tahoma"/>
              </a:rPr>
              <a:t>“</a:t>
            </a:r>
            <a:r>
              <a:rPr b="1" lang="lt-LT" sz="4000" spc="-1" strike="noStrike">
                <a:solidFill>
                  <a:srgbClr val="376092"/>
                </a:solidFill>
                <a:latin typeface="Calibri"/>
                <a:ea typeface="Tahoma"/>
              </a:rPr>
              <a:t>Ryšiai su visuomene </a:t>
            </a:r>
            <a:r>
              <a:rPr b="0" lang="lt-LT" sz="4000" spc="-1" strike="noStrike">
                <a:solidFill>
                  <a:srgbClr val="000000"/>
                </a:solidFill>
                <a:latin typeface="Calibri"/>
                <a:ea typeface="Tahoma"/>
              </a:rPr>
              <a:t>– tai veikla, kuria vystomas </a:t>
            </a:r>
            <a:r>
              <a:rPr b="1" lang="lt-LT" sz="40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pozityvus</a:t>
            </a:r>
            <a:r>
              <a:rPr b="0" lang="lt-LT" sz="4000" spc="-1" strike="noStrike">
                <a:solidFill>
                  <a:srgbClr val="000000"/>
                </a:solidFill>
                <a:latin typeface="Calibri"/>
                <a:ea typeface="Tahoma"/>
              </a:rPr>
              <a:t> asmens, viešo reikalo, bendrovės ar gaminio </a:t>
            </a:r>
            <a:r>
              <a:rPr b="1" lang="lt-LT" sz="40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vertinimas</a:t>
            </a:r>
            <a:r>
              <a:rPr b="0" lang="lt-LT" sz="4000" spc="-1" strike="noStrike">
                <a:solidFill>
                  <a:srgbClr val="000000"/>
                </a:solidFill>
                <a:latin typeface="Calibri"/>
                <a:ea typeface="Tahoma"/>
              </a:rPr>
              <a:t>.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2A99-0138-4C8A-82F8-A6BEA8AA49A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376092"/>
                </a:solidFill>
                <a:latin typeface="Calibri"/>
              </a:rPr>
              <a:t>Ryšiai su visuomene </a:t>
            </a: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lt-LT" sz="3600" spc="-1" strike="noStrike">
                <a:solidFill>
                  <a:srgbClr val="ff0000"/>
                </a:solidFill>
                <a:latin typeface="Calibri"/>
              </a:rPr>
              <a:t>RsV</a:t>
            </a: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) ir kitos viešosios komunikacijos form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376092"/>
                </a:solidFill>
                <a:latin typeface="Calibri"/>
              </a:rPr>
              <a:t>Reklama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376092"/>
                </a:solidFill>
                <a:latin typeface="Calibri"/>
              </a:rPr>
              <a:t>Rinkodara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376092"/>
                </a:solidFill>
                <a:latin typeface="Calibri"/>
              </a:rPr>
              <a:t>Populiarinima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376092"/>
                </a:solidFill>
                <a:latin typeface="Calibri"/>
              </a:rPr>
              <a:t>Propaganda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376092"/>
                </a:solidFill>
                <a:latin typeface="Calibri"/>
              </a:rPr>
              <a:t>Lobizma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376092"/>
                </a:solidFill>
                <a:latin typeface="Calibri"/>
              </a:rPr>
              <a:t>Socialinė inžinerij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5D51-1FAC-475B-91B1-3DFA1061251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Reklama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 ir </a:t>
            </a: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Rs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Reklamo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paskirtis – 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skatinti vartotojus pirkti daugiau produktų ar paslaug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rindinis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skirtuma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nuo </a:t>
            </a: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RsV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atlygintinum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376092"/>
                </a:solidFill>
                <a:uFillTx/>
                <a:latin typeface="Calibri"/>
              </a:rPr>
              <a:t>Integruota komunikacija</a:t>
            </a: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– reklamos ir RsV derinim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25F-CE8F-47FD-ADBC-3223562B50E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Rinkodara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 ir </a:t>
            </a: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Rs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rindinis rinkodaros tikslas – pardavimų didinim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0C14-6859-4536-9C46-46C772331F0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455760" y="3575160"/>
            <a:ext cx="2439720" cy="1225440"/>
            <a:chOff x="455760" y="3575160"/>
            <a:chExt cx="2439720" cy="1225440"/>
          </a:xfrm>
        </p:grpSpPr>
        <p:sp>
          <p:nvSpPr>
            <p:cNvPr id="65" name="Rectangle 5"/>
            <p:cNvSpPr/>
            <p:nvPr/>
          </p:nvSpPr>
          <p:spPr>
            <a:xfrm>
              <a:off x="455760" y="3575160"/>
              <a:ext cx="914400" cy="12189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RsV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1674720" y="3575160"/>
              <a:ext cx="1220760" cy="1225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Rinkodar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3581280" y="3886200"/>
            <a:ext cx="1982520" cy="1523880"/>
            <a:chOff x="3581280" y="3886200"/>
            <a:chExt cx="1982520" cy="1523880"/>
          </a:xfrm>
        </p:grpSpPr>
        <p:sp>
          <p:nvSpPr>
            <p:cNvPr id="68" name="Rectangle 7"/>
            <p:cNvSpPr/>
            <p:nvPr/>
          </p:nvSpPr>
          <p:spPr>
            <a:xfrm>
              <a:off x="3581280" y="4191120"/>
              <a:ext cx="914400" cy="12189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RsV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4343040" y="3886200"/>
              <a:ext cx="1220760" cy="1225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Rinkodar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6477120" y="3276720"/>
            <a:ext cx="2209680" cy="2361960"/>
            <a:chOff x="6477120" y="3276720"/>
            <a:chExt cx="2209680" cy="2361960"/>
          </a:xfrm>
        </p:grpSpPr>
        <p:sp>
          <p:nvSpPr>
            <p:cNvPr id="71" name="Rectangle 12"/>
            <p:cNvSpPr/>
            <p:nvPr/>
          </p:nvSpPr>
          <p:spPr>
            <a:xfrm>
              <a:off x="6477120" y="3276720"/>
              <a:ext cx="2209680" cy="23619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Rinkodar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7696080" y="4648320"/>
              <a:ext cx="762120" cy="8380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RsV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Populiarinimas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 ir </a:t>
            </a: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Rs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Artimas RsV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Siekiama </a:t>
            </a: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bendro temos žinomumo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Neatlygintin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vyzdys: 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svarbios komercinės informacijos platinimas pačių masinės komunikacijos priemonių iniciaty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B032-2DED-4D15-B042-D8021064EC5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Propaganda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 ir </a:t>
            </a: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Rs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Dvejopas propagandos vertinimas: </a:t>
            </a:r>
            <a:r>
              <a:rPr b="1" i="1" lang="lt-LT" sz="3200" spc="-1" strike="noStrike">
                <a:solidFill>
                  <a:srgbClr val="376092"/>
                </a:solidFill>
                <a:latin typeface="Calibri"/>
              </a:rPr>
              <a:t>vienpusė komunikacija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ir </a:t>
            </a:r>
            <a:r>
              <a:rPr b="1" i="1" lang="lt-LT" sz="3200" spc="-1" strike="noStrike">
                <a:solidFill>
                  <a:srgbClr val="ff0000"/>
                </a:solidFill>
                <a:latin typeface="Calibri"/>
              </a:rPr>
              <a:t>sudėtingas subjekto konstravimo procesa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ropagandos tikslas – 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pakeistas masių mąstyma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; RsV tikslas – 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pozityvus vertinima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(Rusijos praktika: RsV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propagan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D168-D5BD-4355-BAAF-646C2649F06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0000"/>
                </a:solidFill>
                <a:latin typeface="Calibri"/>
              </a:rPr>
              <a:t>Lobizmas</a:t>
            </a: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 ir </a:t>
            </a:r>
            <a:r>
              <a:rPr b="1" lang="lt-LT" sz="4400" spc="-1" strike="noStrike">
                <a:solidFill>
                  <a:srgbClr val="376092"/>
                </a:solidFill>
                <a:latin typeface="Calibri"/>
              </a:rPr>
              <a:t>Rs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Lobizmo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tikslas – pasąmoninių vertinimų pokyti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Neatsiejama nuo RsV, bet nėra RsV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Lobizma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tapatinamas su 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siekimu daryti pozityvią įtaką valstybinėms institucijoms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“Rubicon</a:t>
            </a: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 group</a:t>
            </a:r>
            <a:r>
              <a:rPr b="0" lang="lt-LT" sz="3200" spc="-1" strike="noStrike">
                <a:solidFill>
                  <a:srgbClr val="376092"/>
                </a:solidFill>
                <a:latin typeface="Calibri"/>
              </a:rPr>
              <a:t>” 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atvejis – lobizmo sampratos nuosmuk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1572-8A26-46CA-87D7-B8ECEA24B28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0000"/>
                </a:solidFill>
                <a:latin typeface="Calibri"/>
              </a:rPr>
              <a:t>Ryšių su visuomene </a:t>
            </a:r>
            <a:r>
              <a:rPr b="0" lang="lt-LT" sz="3600" spc="-1" strike="noStrike">
                <a:solidFill>
                  <a:srgbClr val="376092"/>
                </a:solidFill>
                <a:latin typeface="Calibri"/>
              </a:rPr>
              <a:t>samprata ir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8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Calibri"/>
              </a:rPr>
              <a:t>Išorės komunikacija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76092"/>
                </a:solidFill>
                <a:latin typeface="Calibri"/>
              </a:rPr>
              <a:t>Vidaus komunikacija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Vertybių komunikac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ikslinė auditor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omunikacijos kanala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5E0A-45EE-41BA-B1BE-05AB3A330EB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Modestas Grigaliū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5791320" y="2209680"/>
            <a:ext cx="1752480" cy="3276720"/>
            <a:chOff x="5791320" y="2209680"/>
            <a:chExt cx="1752480" cy="3276720"/>
          </a:xfrm>
        </p:grpSpPr>
        <p:sp>
          <p:nvSpPr>
            <p:cNvPr id="91" name="U-Turn Arrow 10"/>
            <p:cNvSpPr/>
            <p:nvPr/>
          </p:nvSpPr>
          <p:spPr>
            <a:xfrm rot="5400000">
              <a:off x="5333760" y="2666880"/>
              <a:ext cx="2667240" cy="1752480"/>
            </a:xfrm>
            <a:custGeom>
              <a:avLst/>
              <a:gdLst/>
              <a:ahLst/>
              <a:rect l="l" t="t" r="r" b="b"/>
              <a:pathLst>
                <a:path w="2667000" h="1752600">
                  <a:moveTo>
                    <a:pt x="0" y="1752600"/>
                  </a:moveTo>
                  <a:lnTo>
                    <a:pt x="0" y="547687"/>
                  </a:lnTo>
                  <a:lnTo>
                    <a:pt x="0" y="547687"/>
                  </a:lnTo>
                  <a:arcTo wR="547687" hR="547687" stAng="-10799994" swAng="5400000"/>
                  <a:lnTo>
                    <a:pt x="1942843" y="0"/>
                  </a:lnTo>
                  <a:lnTo>
                    <a:pt x="1942843" y="0"/>
                  </a:lnTo>
                  <a:arcTo wR="547687" hR="547687" stAng="-5399994" swAng="5400000"/>
                  <a:lnTo>
                    <a:pt x="2490531" y="547687"/>
                  </a:lnTo>
                  <a:lnTo>
                    <a:pt x="2667000" y="547687"/>
                  </a:lnTo>
                  <a:lnTo>
                    <a:pt x="2417500" y="998001"/>
                  </a:lnTo>
                  <a:lnTo>
                    <a:pt x="2168000" y="547687"/>
                  </a:lnTo>
                  <a:lnTo>
                    <a:pt x="2344469" y="547687"/>
                  </a:lnTo>
                  <a:lnTo>
                    <a:pt x="2344469" y="547687"/>
                  </a:lnTo>
                  <a:lnTo>
                    <a:pt x="2344469" y="547687"/>
                  </a:lnTo>
                  <a:arcTo wR="401626" hR="401626" stAng="0" swAng="-5400000"/>
                  <a:lnTo>
                    <a:pt x="547687" y="146062"/>
                  </a:lnTo>
                  <a:lnTo>
                    <a:pt x="547687" y="146062"/>
                  </a:lnTo>
                  <a:arcTo wR="401626" hR="401626" stAng="-5400000" swAng="-5400000"/>
                  <a:lnTo>
                    <a:pt x="146062" y="1752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ight Brace 13"/>
            <p:cNvSpPr/>
            <p:nvPr/>
          </p:nvSpPr>
          <p:spPr>
            <a:xfrm>
              <a:off x="5943600" y="3733560"/>
              <a:ext cx="533160" cy="175284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69480 h 1752840"/>
                <a:gd name="textAreaBottom" fmla="*/ 168336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70"/>
                    <a:pt x="10800" y="2739"/>
                  </a:cubicBezTo>
                  <a:lnTo>
                    <a:pt x="10800" y="8061"/>
                  </a:lnTo>
                  <a:cubicBezTo>
                    <a:pt x="10800" y="9431"/>
                    <a:pt x="16200" y="10800"/>
                    <a:pt x="21600" y="10800"/>
                  </a:cubicBezTo>
                  <a:cubicBezTo>
                    <a:pt x="16200" y="10800"/>
                    <a:pt x="10800" y="12170"/>
                    <a:pt x="10800" y="13539"/>
                  </a:cubicBezTo>
                  <a:lnTo>
                    <a:pt x="10800" y="18861"/>
                  </a:lnTo>
                  <a:cubicBezTo>
                    <a:pt x="10800" y="20231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" name="Group 18"/>
          <p:cNvGrpSpPr/>
          <p:nvPr/>
        </p:nvGrpSpPr>
        <p:grpSpPr>
          <a:xfrm>
            <a:off x="457200" y="2743200"/>
            <a:ext cx="1523880" cy="2743200"/>
            <a:chOff x="457200" y="2743200"/>
            <a:chExt cx="1523880" cy="2743200"/>
          </a:xfrm>
        </p:grpSpPr>
        <p:sp>
          <p:nvSpPr>
            <p:cNvPr id="94" name="Left Brace 12"/>
            <p:cNvSpPr/>
            <p:nvPr/>
          </p:nvSpPr>
          <p:spPr>
            <a:xfrm>
              <a:off x="1458360" y="3710160"/>
              <a:ext cx="522720" cy="1776240"/>
            </a:xfrm>
            <a:custGeom>
              <a:avLst/>
              <a:gdLst>
                <a:gd name="textAreaLeft" fmla="*/ 334080 w 522720"/>
                <a:gd name="textAreaRight" fmla="*/ 523080 w 522720"/>
                <a:gd name="textAreaTop" fmla="*/ 82440 h 1776240"/>
                <a:gd name="textAreaBottom" fmla="*/ 1693800 h 177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05"/>
                    <a:pt x="10800" y="3209"/>
                  </a:cubicBezTo>
                  <a:lnTo>
                    <a:pt x="10800" y="7591"/>
                  </a:lnTo>
                  <a:cubicBezTo>
                    <a:pt x="10800" y="9196"/>
                    <a:pt x="5400" y="10800"/>
                    <a:pt x="0" y="10800"/>
                  </a:cubicBezTo>
                  <a:cubicBezTo>
                    <a:pt x="5400" y="10800"/>
                    <a:pt x="10800" y="12405"/>
                    <a:pt x="10800" y="14009"/>
                  </a:cubicBezTo>
                  <a:lnTo>
                    <a:pt x="10800" y="18391"/>
                  </a:lnTo>
                  <a:cubicBezTo>
                    <a:pt x="10800" y="19996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95" name="U-Turn Arrow 16" descr=""/>
            <p:cNvPicPr/>
            <p:nvPr/>
          </p:nvPicPr>
          <p:blipFill>
            <a:blip r:embed="rId1"/>
            <a:stretch/>
          </p:blipFill>
          <p:spPr>
            <a:xfrm>
              <a:off x="457200" y="2743200"/>
              <a:ext cx="1398600" cy="208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mnitel</cp:lastModifiedBy>
  <dcterms:modified xsi:type="dcterms:W3CDTF">2011-01-26T18:37:13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