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C9D8-57DB-4173-B34C-8E1512F5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3884-CA31-420B-9E4F-A4410A8B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63A-9CD7-44CE-9016-2003F8CD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CEBD-2A78-4D16-B5D3-B10C9C72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2F7C-F060-4945-AA2D-B82F1C1B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D2C4-FD2F-4D1F-8685-694EC6EE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06DF-4A63-4157-9BF4-AF9C53DE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19B4-1A5E-4C7C-8021-1EB98EF9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DF66-5E23-4106-BC99-862477FB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6369-76E1-46E5-A977-8AE2E076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3FF2-A3C6-43D7-A48D-44397D8C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811-C5A2-4FF9-A93C-76EF691F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8C97-E03E-432F-9F2D-187673C1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AC67-B489-4563-998B-F1F6CF7F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7E43-1C2F-4186-AD03-3C8725BE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3D88-CEA6-4265-BFFF-C0192A75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2603-406A-4F95-B1CC-D52BDEF5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5B596-8EBB-4804-BBFF-96915893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3570B-427C-4FD8-8A7E-6A506864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F8CF8-24C5-4379-8C5D-7A366B03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2882F-58BE-41CB-A419-2AED8C77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0D84D-0768-4C1C-94EA-FA8B8A8C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AF03-1A12-48E7-863A-AD8DFAB5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D7454-B7C8-44A4-B9DF-A59F480E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EF581-491B-4789-B31F-94468629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B39DE-EB59-413E-BE3F-513EE2CB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56584-7522-4CD1-8C94-7A22D060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6ED0B-BD26-4753-BB8D-555413FB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E2D27-F4E2-4FC0-8B1A-9C950641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C4C95-0977-4527-BD28-03070D8F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14E0-2B3A-49A0-A418-9419D1B0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7A4-7E56-4BF2-B1AA-67BE187D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2886-92D9-4CFE-BD3A-7DBFF479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C9BA-3703-43CD-BA1B-4DC61BC4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AFC2-08FB-4899-9905-B943F346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2E8F-E367-4985-8D60-50C58B66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stas Grigaliū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D404-D14C-44B0-9C4B-0DDF0248CC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stas Grigaliū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9E12-2C8D-4A32-8A75-683DCE439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stas Grigaliū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2B8A-FCC0-4512-9212-8248F6124B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466200"/>
            <a:ext cx="709776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800" spc="-1" strike="noStrike">
                <a:solidFill>
                  <a:srgbClr val="330066"/>
                </a:solidFill>
                <a:latin typeface="Arial"/>
              </a:rPr>
              <a:t>III. Sėkmingos socialinės reklamos pavyzdy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Modestas Grigaliū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el. paštas modestas.g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cr.su.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Tel. 8 600 53 1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Z" sz="2000" spc="-1" strike="noStrike">
                <a:solidFill>
                  <a:srgbClr val="000000"/>
                </a:solidFill>
                <a:latin typeface="Arial"/>
              </a:rPr>
              <a:t>2011 m. sausio 27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112840" y="0"/>
            <a:ext cx="491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-152280" y="-114480"/>
            <a:ext cx="9677160" cy="725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0066"/>
                </a:solidFill>
                <a:latin typeface="Arial"/>
              </a:rPr>
              <a:t>PAMIRŠK, JEI PRADĖSI VARTOTI NARKOTIKU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 u="sng">
                <a:solidFill>
                  <a:srgbClr val="000000"/>
                </a:solidFill>
                <a:uFillTx/>
                <a:latin typeface="Arial"/>
              </a:rPr>
              <a:t>Tikslinė grupė</a:t>
            </a: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“Lietuvos jaunimas (15-24 m.), nevartojantis narkotikų.”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Narkotikų kontrolės departamento direktorė A. Astrauskienė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 u="sng">
                <a:solidFill>
                  <a:srgbClr val="000000"/>
                </a:solidFill>
                <a:uFillTx/>
                <a:latin typeface="Arial"/>
              </a:rPr>
              <a:t>Komunikacinis ton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- Vien akcentavimas, koks blogis yra narkotikai, nėra pati tinkamiausia narkomanijos prevencijos taktika. Skirtingai nei suaugusieji, jauni žmonės nejaučia mirties baimės – vieniems ji atrodo tolima, kiti, atvirkščiai - vadovaujasi šūkiu „tikiuosi spėsiu numirti prieš pasendamas“ („hope I die before I get old“)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0066"/>
                </a:solidFill>
                <a:latin typeface="Arial"/>
              </a:rPr>
              <a:t>PAMIRŠK, JEI PRADĖSI VARTOTI NARKOTIKU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 u="sng">
                <a:solidFill>
                  <a:srgbClr val="000000"/>
                </a:solidFill>
                <a:uFillTx/>
                <a:latin typeface="Arial"/>
              </a:rPr>
              <a:t>Pagrindinis pranešimas</a:t>
            </a: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“kiekvienas jaunas žmogus svajoja apie meilę, tikrus draugus, pinigus ir pripažinimą, tačiau visa tai gali „pamiršti“, jei pradeda vartoti narkotikus.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Buvo nuspręsta kampaniją PAMIRŠK pirmiausiai padaryti vizualiai patrauklią, atsisakyti didaktikos, panaudoti šiek tiek jaunimo žargono, pateikti šiek tiek informacijos, o svarbiausia palikti vietos pačiam jaunam žmogui pagalvoti, kaip jis turėtų elgtis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0066"/>
                </a:solidFill>
                <a:latin typeface="Arial"/>
              </a:rPr>
              <a:t>PAMIRŠK, JEI PRADĖSI VARTOTI NARKOTIKUS.  </a:t>
            </a:r>
            <a:r>
              <a:rPr b="0" lang="lt-LT" sz="2400" spc="-1" strike="noStrike">
                <a:solidFill>
                  <a:srgbClr val="330066"/>
                </a:solidFill>
                <a:latin typeface="Arial"/>
              </a:rPr>
              <a:t>Rezultatai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Įvairiose žiniasklaidos priemonėse „PAMIRŠK“ kampanija buvo pristatyta daugiau nei 40 kartų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Vaizdo klipus bent vieną kartą pamatė apie 51 proc. tikslinės auditorij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Kampanijos metu net 8 kartus išaugo www.benarkotiku.lt svetainės lankomumas (nuo 900 iki 7000 lankytojų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www.benarkotiku.lt 2007 m. birželio mėnesį interneto svetainės „Lrytas.lt“ surengtame balsavime surinko daugiausiai interneto vartotojų balsų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Nuo 2006 metų lapkričio mėnesio, kai startavo www.benarkotiku.lt, šioje svetainėje apsilankė daugiau nei 54 tūkst. interneto vartotojų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0066"/>
                </a:solidFill>
                <a:latin typeface="Arial"/>
              </a:rPr>
              <a:t>PAMIRŠK, JEI PRADĖSI VARTOTI NARKOTIKUS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 u="sng">
                <a:solidFill>
                  <a:srgbClr val="000000"/>
                </a:solidFill>
                <a:uFillTx/>
                <a:latin typeface="Arial"/>
              </a:rPr>
              <a:t>Komunikaciniai kanalai</a:t>
            </a:r>
            <a:r>
              <a:rPr b="1" lang="lt-LT" sz="3000" spc="-1" strike="noStrike">
                <a:solidFill>
                  <a:srgbClr val="000000"/>
                </a:solidFill>
                <a:latin typeface="Arial"/>
              </a:rPr>
              <a:t> – internetas, TV, lauko reklamos stendai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 u="sng">
                <a:solidFill>
                  <a:srgbClr val="000000"/>
                </a:solidFill>
                <a:uFillTx/>
                <a:latin typeface="Arial"/>
              </a:rPr>
              <a:t>Komunikacinių taktinių veiksmų įrankiai</a:t>
            </a:r>
            <a:r>
              <a:rPr b="1" lang="lt-LT" sz="3000" spc="-1" strike="noStrike">
                <a:solidFill>
                  <a:srgbClr val="000000"/>
                </a:solidFill>
                <a:latin typeface="Arial"/>
              </a:rPr>
              <a:t> – vaizdo klipai, plakatai, internetinė svetainė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Arial"/>
              </a:rPr>
              <a:t>http://www.nkd.lt/index.php?id=0-53-27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330066"/>
                </a:solidFill>
                <a:latin typeface="Arial"/>
              </a:rPr>
              <a:t>PAMIRŠK, JEI PRADĖSI VARTOTI NARKOTIKU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533412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2006 ir 2007 metais </a:t>
            </a:r>
            <a:r>
              <a:rPr b="0" i="1" lang="lt-LT" sz="2200" spc="-1" strike="noStrike" u="sng">
                <a:solidFill>
                  <a:srgbClr val="000000"/>
                </a:solidFill>
                <a:uFillTx/>
                <a:latin typeface="Arial"/>
              </a:rPr>
              <a:t>Narkotikų kontrolės departamento prie Lietuvos Respublikos Vyriausybė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vykdyta socialinė rekla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7"/>
          <p:cNvGrpSpPr/>
          <p:nvPr/>
        </p:nvGrpSpPr>
        <p:grpSpPr>
          <a:xfrm>
            <a:off x="5715000" y="2085840"/>
            <a:ext cx="3048120" cy="505080"/>
            <a:chOff x="5715000" y="2085840"/>
            <a:chExt cx="3048120" cy="505080"/>
          </a:xfrm>
        </p:grpSpPr>
        <p:pic>
          <p:nvPicPr>
            <p:cNvPr id="195" name="Picture 5" descr=""/>
            <p:cNvPicPr/>
            <p:nvPr/>
          </p:nvPicPr>
          <p:blipFill>
            <a:blip r:embed="rId1"/>
            <a:stretch/>
          </p:blipFill>
          <p:spPr>
            <a:xfrm>
              <a:off x="5715000" y="2085840"/>
              <a:ext cx="50472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6" descr=""/>
            <p:cNvPicPr/>
            <p:nvPr/>
          </p:nvPicPr>
          <p:blipFill>
            <a:blip r:embed="rId2"/>
            <a:stretch/>
          </p:blipFill>
          <p:spPr>
            <a:xfrm>
              <a:off x="6286680" y="2238480"/>
              <a:ext cx="247644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Rectangle 8"/>
          <p:cNvSpPr/>
          <p:nvPr/>
        </p:nvSpPr>
        <p:spPr>
          <a:xfrm>
            <a:off x="533520" y="3395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teikiama jaunimui faktų, kodėl neverta pradėti vartoti narkotik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Rinkodaros pasiekimų konkurse kampanija „Password 2007“ PAMIRŠK buvo pripažinta efektyviausia socialine reklama, įgyvendinta Lietuvoje 2006 met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143000" y="666720"/>
            <a:ext cx="6858000" cy="2381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68580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2212920" y="0"/>
            <a:ext cx="491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2016000" y="0"/>
            <a:ext cx="491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2112840" y="0"/>
            <a:ext cx="491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2112840" y="0"/>
            <a:ext cx="491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2112840" y="0"/>
            <a:ext cx="491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2112840" y="0"/>
            <a:ext cx="491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mnitel</cp:lastModifiedBy>
  <dcterms:modified xsi:type="dcterms:W3CDTF">2011-01-26T20:20:10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