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810-2E17-42C7-8E13-4BC7152F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CAD-C377-4163-A196-5F04BD1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F43-B813-443B-9214-BDF1B432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789-D55C-40F1-82F7-19F8C6EA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B75-D363-44D9-B72C-15BE2E02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CB2-6E43-4F62-989B-033B84B9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502-B525-4818-96EA-7B00DA8A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4E8-ED9A-43DD-B3DA-AF4869F5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59A-4619-4DE0-86EC-8198D8B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9CD-BE0D-4538-A33C-13D94A4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373-8921-4A26-AEC5-3066A8D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C17B-6918-43C7-9B3F-25DA0761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425C-350C-4D14-9284-2C252704CCA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8991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0000"/>
                </a:solidFill>
                <a:latin typeface="Arial"/>
              </a:rPr>
              <a:t>V. Internetas ir nemokami komunikacijos įranki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2000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l. paštas modestas.g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r.su.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l. 8 600 53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400" spc="-1" strike="noStrike">
                <a:solidFill>
                  <a:srgbClr val="000000"/>
                </a:solidFill>
                <a:latin typeface="Arial"/>
              </a:rPr>
              <a:t>2011 m. sausio 27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Tinklapiai ir tinklaraščiai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kūrimas be programav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emokamos tinklapių kūrimo programo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lt-LT" sz="2800" spc="-1" strike="noStrike">
                <a:solidFill>
                  <a:srgbClr val="ff0000"/>
                </a:solidFill>
                <a:latin typeface="Arial"/>
              </a:rPr>
              <a:t>ordpres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http://wordpres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0000"/>
                </a:solidFill>
                <a:latin typeface="Arial"/>
              </a:rPr>
              <a:t>Jooml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ttp://www.jooml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Joomla!"/>
          <p:cNvPicPr/>
          <p:nvPr/>
        </p:nvPicPr>
        <p:blipFill>
          <a:blip r:embed="rId1"/>
          <a:stretch/>
        </p:blipFill>
        <p:spPr>
          <a:xfrm>
            <a:off x="3276720" y="5486400"/>
            <a:ext cx="3581280" cy="70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7391520" y="30481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Tinklapiai ir tinklaraščiai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kūrimas be programav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85800" y="1704960"/>
            <a:ext cx="8001000" cy="500076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Tinklapiai ir tinklaraščiai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kūrimas be programav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3520" y="1609560"/>
            <a:ext cx="8153280" cy="509616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Tinklapiai ir tinklaraščiai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kūrimas be programavi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33520" y="1609560"/>
            <a:ext cx="8153280" cy="509616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2060"/>
                </a:solidFill>
                <a:latin typeface="Arial"/>
              </a:rPr>
              <a:t>Interneto svetainės turi bū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Greito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– turi atsiversti ne ilgiau nei per 8 s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Funkcionalaus, proporcingo dizaino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– svarbiausią informaciją pateikti kairėje pusėje; naudotis turi būti papra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u pateikta </a:t>
            </a: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kontaktine infor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Nuolat atnaujin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Užregistruotos </a:t>
            </a: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paieškos sistem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Kaip į interneto svetaines pritraukti žurnali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Žurnalistai paprastai ieš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sV kontakt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inių faktų apie organizaci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Jūsų požiūrio į įvyk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inansinės informac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iustracijų straipsn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Kaip į interneto svetaines pritraukti žurnali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prastai žurnalistai daro ta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2060"/>
                </a:solidFill>
                <a:latin typeface="Arial"/>
              </a:rPr>
              <a:t>Susiranda Jūsų svetainę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užregistruokite ją Goo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2060"/>
                </a:solidFill>
                <a:latin typeface="Arial"/>
              </a:rPr>
              <a:t>Ieško naujienų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nuolat atnaujinkite informaciją, parenkite skyrelį „Žiniasklaidai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2060"/>
                </a:solidFill>
                <a:latin typeface="Arial"/>
              </a:rPr>
              <a:t>Ieško kontaktinės informacijo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būtina ją nurody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2060"/>
                </a:solidFill>
                <a:latin typeface="Arial"/>
              </a:rPr>
              <a:t>Tiria rastą informaciją, tikrina faktu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svarbu pateikti vertingą ir teisingą informacij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2060"/>
                </a:solidFill>
                <a:latin typeface="Arial"/>
              </a:rPr>
              <a:t>Atkreipia dėmesį į nuotraukas, iliustracij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nuotraukos turi būti malonios akiai, ne per da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ocialiniai tinkl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ocialiniai tinkl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utelkti pl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čiai išsiskleidusias bendruom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99"/>
                </a:solidFill>
                <a:latin typeface="Arial"/>
              </a:rPr>
              <a:t>Kurti grupes, kviesti į renginius, pranešti naujienas, apie kurias nepraneša žiniaskla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3430440" cy="129060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Nemokami komunikacijos įrankiai: </a:t>
            </a:r>
            <a:r>
              <a:rPr b="1" lang="lt-LT" sz="4000" spc="-1" strike="noStrike">
                <a:solidFill>
                  <a:srgbClr val="ff0000"/>
                </a:solidFill>
                <a:latin typeface="Arial"/>
              </a:rPr>
              <a:t>apibendrin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druomen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ės komunikacija gali nekainuoti nė vieno lito, reikia tik jūsų laiko, entuziazmo ir kūrybingu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3200" spc="-1" strike="noStrike">
                <a:solidFill>
                  <a:srgbClr val="333399"/>
                </a:solidFill>
                <a:latin typeface="Arial"/>
              </a:rPr>
              <a:t>Ačiū už dėmesį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0000"/>
                </a:solidFill>
                <a:latin typeface="Arial"/>
              </a:rPr>
              <a:t>Nemokami komunikacijos įranki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Bendruomenės ir </a:t>
            </a:r>
            <a:r>
              <a:rPr b="1" lang="lt-LT" sz="3200" spc="-1" strike="noStrike">
                <a:solidFill>
                  <a:srgbClr val="333399"/>
                </a:solidFill>
                <a:latin typeface="Arial"/>
              </a:rPr>
              <a:t>viešoji komunikacij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– sunkumai ir galimybė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Nemokami komunikacijos įrank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99"/>
                </a:solidFill>
                <a:latin typeface="Arial"/>
              </a:rPr>
              <a:t>Žiniasklaidos pagalb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Arial"/>
              </a:rPr>
              <a:t>Alternatyviosios žiniasklaidos</a:t>
            </a:r>
            <a:r>
              <a:rPr b="0" lang="lt-LT" sz="2800" spc="-1" strike="noStrike">
                <a:solidFill>
                  <a:srgbClr val="333399"/>
                </a:solidFill>
                <a:latin typeface="Arial"/>
              </a:rPr>
              <a:t> kūr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0000"/>
                </a:solidFill>
                <a:latin typeface="Arial"/>
              </a:rPr>
              <a:t>Nemokama komunikacija</a:t>
            </a: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panaudojant žiniasklaid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0000"/>
                </a:solidFill>
                <a:latin typeface="Arial"/>
              </a:rPr>
              <a:t>Nemokama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komunikacijos per žiniasklaidą instrumentas – </a:t>
            </a:r>
            <a:r>
              <a:rPr b="1" lang="lt-LT" sz="3200" spc="-1" strike="noStrike">
                <a:solidFill>
                  <a:srgbClr val="333399"/>
                </a:solidFill>
                <a:latin typeface="Arial"/>
              </a:rPr>
              <a:t>pranešimai spaud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Alternatyvioji žiniaskla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Arial"/>
              </a:rPr>
              <a:t>Alternatyvioji žiniasklaid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susikurti žiniasklaidą pati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0000"/>
                </a:solidFill>
                <a:latin typeface="Arial"/>
              </a:rPr>
              <a:t>Lietuvo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800" spc="-1" strike="noStrike">
                <a:solidFill>
                  <a:srgbClr val="333399"/>
                </a:solidFill>
                <a:latin typeface="Arial"/>
              </a:rPr>
              <a:t>pasaulio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patirt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99"/>
                </a:solidFill>
                <a:latin typeface="Arial"/>
              </a:rPr>
              <a:t>Alternatyvioji žiniasklaida ir </a:t>
            </a:r>
            <a:r>
              <a:rPr b="1" lang="lt-LT" sz="2800" spc="-1" strike="noStrike">
                <a:solidFill>
                  <a:srgbClr val="ff0000"/>
                </a:solidFill>
                <a:latin typeface="Arial"/>
              </a:rPr>
              <a:t>intern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333399"/>
                </a:solidFill>
                <a:latin typeface="Arial"/>
              </a:rPr>
              <a:t>Tinklapiai, tinklaraščiai, socialiniai tinklai, vaizdų dalijimosi svetainės, internetinė TV ar radijas ir t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Naujosios žiniasklaidos pranašumai ir trūkumai ryšiuose su visuom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3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1600200"/>
          <a:ext cx="7619760" cy="464832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4287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radicinė žiniaskla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aujoji žiniaskla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pribota geografiniu požiūr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priklausoma nuo atstumo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emos, poreikiai ar interesai skirti visam pasauli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Hierarchinė sistema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informacijos atrinkėjų ir redaktorių virtin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ygiavertė sistema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vienas daugeliui ir daugelis daugeli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Vienkryptė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teraktyvi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rįžtamasis ryšys, diskusijos, debata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rdvės ir laiko apribojimai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ribotas lapų skaičius ir eterio laik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ažiau erdvės ir laiko apribojimų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dideli, daugiasluoksniai informacijos sraut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ofesionalūs komunikacijos specialistai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ukšti profesiniai reikalavim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eprofesionali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ali dalyvauti bet kas, patirtis ar profesinės vertybės gali būti ribo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Aukštos kai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Mažos išlaidos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prieinamesnė, bet reikalauja didesnės kvalifikacij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Naujosios žiniasklaidos pranašumai ir trūkumai ryšiuose su visuom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752480"/>
          <a:ext cx="7924680" cy="440532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3812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radicinė žiniaskla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aujoji žiniaskla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77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endrieji interesai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delės auditorijos, plati aprėpt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itaikyta individualiam vartotojui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siauros nišos, informacija gali būti net individu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urinio linijiškumas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aujienų hierarch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rįžtamasis ryšys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greitas ir papras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Grįžtamasis ryšys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ėtas, reikalaujantis pastangų, ribo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centralizuota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paprastų žmonių pastan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ukreipta į reklamą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delės auditorijos ir paj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ankstus formatas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aiškus, bet nepastovus formatas, multimedij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Instituciniai ryšiai: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riklausomumas savinink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Nustatytasis formatas: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 iš anksto žinomas formatas, laikas ir vi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Internetinė TV Lietuvoje: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lt-LT" sz="4000" spc="-1" strike="noStrike">
                <a:solidFill>
                  <a:srgbClr val="ff0000"/>
                </a:solidFill>
                <a:latin typeface="Arial"/>
              </a:rPr>
              <a:t>geroji patir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33520" y="1609560"/>
            <a:ext cx="8153280" cy="5096160"/>
          </a:xfrm>
          <a:prstGeom prst="rect">
            <a:avLst/>
          </a:prstGeom>
          <a:ln w="0">
            <a:noFill/>
          </a:ln>
        </p:spPr>
      </p:pic>
      <p:sp>
        <p:nvSpPr>
          <p:cNvPr id="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Internetinė TV Lietuvoje: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lt-LT" sz="4000" spc="-1" strike="noStrike">
                <a:solidFill>
                  <a:srgbClr val="ff0000"/>
                </a:solidFill>
                <a:latin typeface="Arial"/>
              </a:rPr>
              <a:t>geroji patir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5191200"/>
          </a:xfrm>
          <a:prstGeom prst="rect">
            <a:avLst/>
          </a:prstGeom>
          <a:ln w="0">
            <a:noFill/>
          </a:ln>
        </p:spPr>
      </p:pic>
      <p:sp>
        <p:nvSpPr>
          <p:cNvPr id="6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333399"/>
                </a:solidFill>
                <a:latin typeface="Arial"/>
              </a:rPr>
              <a:t>Internetinė TV Lietuvoje: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lt-LT" sz="4000" spc="-1" strike="noStrike">
                <a:solidFill>
                  <a:srgbClr val="ff0000"/>
                </a:solidFill>
                <a:latin typeface="Arial"/>
              </a:rPr>
              <a:t>geroji patir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www.alternatyvitv.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www.internetinetv.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www.youtube.c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mnitel</cp:lastModifiedBy>
  <dcterms:modified xsi:type="dcterms:W3CDTF">2011-01-26T21:11:1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