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7862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291-5361-4572-95BA-7E19EED3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EA1-EEC4-4BAC-9C40-9E7A0684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904-68B4-433D-94D9-8A7727E6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6EC-08F0-4B0C-A8EC-3F6062FF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F0F-EAFA-4880-9D25-3FE5FED2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7D8-8CD7-4812-896E-6E2D2613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1C7-94CB-4CD3-A94D-D82539AE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4C2-F49C-470B-9037-892B89AF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FCE-FD2E-4BA5-9BE2-178AAC6C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D36-5CFA-4D98-B70B-0D393A27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0D5-2FAC-4729-AA79-4C6E5C69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CB7-51CC-4633-BD66-1BC53E3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0E6-D776-4407-AE83-29F3C1DD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Ų VALDYMAS </a:t>
            </a:r>
            <a:br>
              <a:rPr sz="40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Vilma Šablinskienė</a:t>
            </a:r>
            <a:br>
              <a:rPr sz="16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2010-11-17</a:t>
            </a:r>
            <a:br>
              <a:rPr sz="4000"/>
            </a:b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as 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(lot. </a:t>
            </a:r>
            <a:r>
              <a:rPr b="0" i="1" lang="lt-LT" sz="4000" spc="-1" strike="noStrike">
                <a:solidFill>
                  <a:srgbClr val="000000"/>
                </a:solidFill>
                <a:latin typeface="Arial"/>
              </a:rPr>
              <a:t>documentum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mokantis pavyzdys, liudijimas, įrodymas. Tai priemon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įvairiais būdais ant specialios medžiagos fiksuoti informaciją ap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aktus, įvykius, objektyvios tikrovės reiškinius ir žmogaus mąsty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eikl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u dokumento sąvoka susiję ir terminai: dokumentavim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okumentų apyvarta, dokumentų valdymas (nuo 2005 metų pakeit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ąvoką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raštvedyb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sižvelgiant į naujoves, kurios pradėtos taikyti pasaulyje darbo 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okumentais srityje, Tarptautinė standartų organizacija siūlo nauj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okumento sąvokos apibrėžim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Dokumentas – informacijos laikmena ir šioje laikmen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užfiksuoti pastovūs duomenys, kuriuos gali perskaityti žmo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arba mašina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spausd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ai spausdinami vienoje lapo pusėje, jei kiti teisė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ktai nenustato kita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ai, kuriems nustatytas ne ilgesnis nei 25 met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augojimo terminas, gali būti spausdinami abiejose lapo pusė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o, spausdinamo keliuose lapuose, numeruoja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ntras ir tolesni lapai, jei kiti teisės aktai nenustato kitaip. Lap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umeruojami viršutinės paraštės viduryje arabiškais skaitmenimis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aškų ir brūkšnelių. Dokumento lapai gali būti numeruojami nurod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lapo numerį ir bendrą dokumento lapų skaičių, pvz.: 1-5 (1 – la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umeris, 5 – bendras dokumento lapų skaičiu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Dokumentų vald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Įstaigų veikla, susijusi su valdymo veiklos dokumentavimu 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arbo su dokumentais organizavimu, vadinama įstaig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okumentų valdy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ų valdymas apima visus darbo su dokumentais proces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dokumentų rengimą ir įformin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spausdinimą ir daugin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korespondencijos priėmimą ir išsiunt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perdavimą įmonės vidu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vykdymo kontrol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sisteminim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parengimą saugojimui ir naudojimu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informacijos apie dokumentus operatyvų pateikim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Dokumentų vald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okumentų valdymas –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varbus valdym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lementas. Jis turi būti tvarkomas taip, kad padėtų organizuoti 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obulinti valdymą. Gerai tvarkoma dokumentacija, racionali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šnaudojami informacijos šaltiniai paspartina darbus, nesukeld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n, kur dokumentų valdymas apleistas, neišvengiam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siduriama su nenumatytomis kliūtimis, nes netvarkingi dokument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gaišina laiką ir trukdo operatyviai dirbti. Kiekvienais metais kanceliarini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arbų apimtis vidutiniškai padidėja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monėje turi būti nustatyta dokumentų sudarymo ir darbo 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jais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eninga tvarka,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uri gali būti patvirtinta dokumentų valdy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strukci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ų valdymo </a:t>
            </a:r>
            <a:br>
              <a:rPr sz="4000"/>
            </a:b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organizavimo tiksl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. Pačios įstaigos ir kitų asmenų poreikiams tenk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2. Apsaugoti nuo sugadinimo, prarad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3. Apsaugoti nuo neteisėto naudojimo, pakeitimo, naiki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R dokumentų ir archyvų įstatymo 10 straipsnio nuostata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“Valstybės ir savivaldybės institucijos, įstaigos ir įmonės veiklos dokumentai turi būti efektyviai valdomi ir prieinami jos pačios ir kitų asmenų poreikiams tenkinti, apsaugoti nuo sugadinimo, praradimo, neteisėto naudojimo, pakeitimo, naiki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Dokumentų valdymo organizav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kumentų tvarkymo ir apskaitos taisyklėse nustatomi šie įmonės dokumentų valdymo organizavimo tiksl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1. Laiku ir kokybiškai parengti dokumen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2. Tvarkyti ir valdyti dokumentus taip, kad būtų užtikrintas greitas priėjimas prie visų turimų dokument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3. Užtikrinti skaidrią, efektyvią veiklą, administravimo ir atsiskaitymo gebėji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4. Dokumentus išsaugoti reikiamą laiką, kad būtų užtikrinti įstaigos veiklos įrodymai ir su  įstaigos veikla susijusių fizinių bei juridinių asmenų teisė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ž įstaigos dokumentų valdymo organizavimą ir kontrolę y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tsakingas įstaigos vadova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r kitas teisės aktų suteiktus įgaliojim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urintis asm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unifikav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okumentų unifikavimas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(lot.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unif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enodinu) – tai jų vienodinimas pa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formacijos sudėtį ir dokumentų for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ifikavimo tiksl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yti dokumentus, reikaling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krečiai valdymo funkcij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ienodinti dokumentų for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ifikuoti dokumentų teks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rengimo taisyklė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grindinis norminis dokument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ustatantis bendruosius dokument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udarymo reikalavimus, yra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okument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rengimo taisyklė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skirst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1. Teisės aktais tvirtinami dokumentai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Jie nustato pagrindines valstybės institucijų, įstaig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rganizacijų ar bendrijų veiklos normas. Tai nuostatai, įstatai (statuta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strukcijos, taisyklės, nomenklatū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. Teisės akt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rodo įstaigos  valdymo veikl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ai nutarimai, sprendimai, potvarkiai, įsaky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3. Įstaigos rengiami dokument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kirti operatyviems reikalams tvarkyti, informaciją perduoti ar ja pasikeisti, faktams ar įvykiams fiksuoti, kai to negalima padaryti žodžiu. Aktai, apžvalgos, pažymos, pažymėjimai, protokolai, raštai, rekomendacijos (charakteristikos) ir t. 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Dokumentų spausd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ei kiti teisės aktai nenustato kitaip, naudojami š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ormatų popieriaus lap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4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210 x 297 mm)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5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(148 x 210 mm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5 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(210x148 mm), paliekant tokio pločio paraš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rioji – 30 mm, dešinioji – ne mažesnė kaip 10 m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iršutinė – ne mažesnė kaip 20 m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4 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(297 x 210 mm), paliekant tokio pločio paraš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rioji – ne mažesnė kaip 20 mm, dešinioji – 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žesnė kaip 10 mm, viršutinė – ne mažesnė kaip 30 m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atinė – ne mažesnė kaip 20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2:34:06Z</dcterms:created>
  <dc:creator>Živilė</dc:creator>
  <dc:description/>
  <dc:language>en-US</dc:language>
  <cp:lastModifiedBy>Vartotojas</cp:lastModifiedBy>
  <dcterms:modified xsi:type="dcterms:W3CDTF">2010-11-16T12:58:51Z</dcterms:modified>
  <cp:revision>38</cp:revision>
  <dc:subject/>
  <dc:title>Slide 1</dc:title>
</cp:coreProperties>
</file>