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C33-5113-4100-82D5-2BE4D55F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0A23-790D-430F-BD0A-94BE051F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6FA-9CA2-408B-8EDC-4455EAC6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E28-DB6A-4F9D-BF95-FF6D7E07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085-6D2C-40C1-8D5A-D6FA43C6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48A-1606-4325-937D-4F1DBB6F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41F-16F3-44B4-BED2-8A37A64F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0DC-1AAD-4F3E-8948-D1AC3B47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07F-B9AB-43A9-B23B-1F662BDD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43D-9B30-49AE-83A5-EC161BB1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B30-E2F1-423F-AD76-C3745E5A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25C-AFC5-4DF6-9E1B-54511C26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5CCF-A65A-419E-8D49-3B573131E95E}" type="datetime3">
              <a:rPr b="0" lang="lt-LT" sz="1400" spc="-1" strike="noStrike">
                <a:solidFill>
                  <a:srgbClr val="000000"/>
                </a:solidFill>
                <a:latin typeface="Arial"/>
              </a:rPr>
              <a:t>2026 metų liepos 30 d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6E0A-0C3F-460D-8D03-DF32529B3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06864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IEŠOSIOS KALBOS PARENGIMAS IR REALIZAVIMA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4840" y="54338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Parengė doc.dr. Artūras Blinstru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4200" y="13748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VIEŠAS KALBĖJIMAS IR PASITIKĖJIMAS SAVIMI BEI BENDRAVIMO ĮGŪDŽIŲ LAVINIMAS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B27-2C4F-432C-A5C0-1AA3FE4493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1):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ŽA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8785440" cy="3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S jūs toks? (prisistatymas kaip patyrimo ir išmanymo patvirtinim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ie KĄ ketinate kalbė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DA baig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DĖL aš turėčiau klausytis arba KAS man iš 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IP jūs ketinate sudominti šia 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27664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Esmė - atsakymas į auditorijai natūraliai kylančius klausim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E13-A9A6-46A5-9615-58E63E61FE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2):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DURINĖ D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3141360"/>
            <a:ext cx="878544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urinį apsprendžia kalbos rūšis: informavimo, įtikinimo, progin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sitelkti į du ar tris pagrindinius kalbos komponen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akyti ir parodyti bei pademonstruo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Laikytis aiškios struktūros. Naudoti perėji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lbėti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klausytoju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, o ne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skaitytoj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05000"/>
            <a:ext cx="82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Esmė - išdėstyti temą ir išlaikyti auditorijos dėmes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7C1-7FE7-4EBD-8D9A-484D1C8681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3):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BAIGA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3200"/>
            </a:b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Visa gerai, kas gerai baigiasi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2923920"/>
            <a:ext cx="864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rumpas, originalus pakartojimas-apibendrinimas to kas kalbėta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frazės-šablonai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baigiant, apibendrinant, reziumuojant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erspektyvos atvėrimas, paskatinimas veikti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atsakymas į auditorijai kirbantį klausimą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as man iš to?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lausimai-atsakym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ero galutinio įspūdžio palik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227664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Esmė - klausytojo psichologinio poreikio pabaigai patenkin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BC7-A3B6-4859-B7E3-5B0E4A6C8C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4):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ERĖJIMAI</a:t>
            </a:r>
            <a:br>
              <a:rPr sz="3200"/>
            </a:b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Perėjimai - tai “klijai” laikantys visas kalbos dal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87854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osekliai, rūpestingai vesti klausytojus nuo vienos idėjos ar dalies prie k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eziumuoti, pateikti tarpines išvadas, trumpus anon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ali būti panaudoti dėmesiui atkreipti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gali tarnauti ne tik kaip stimulai, skelbiantys auditorijai,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ur ji buvo ar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ur dabar yr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, bet ir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urlink eis toliau)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27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Perėjimų funkcij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FF8-E621-48F2-953A-98011F8A4E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9280" y="1628640"/>
            <a:ext cx="856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 AUDITORIJĄ ORIENTUOTAS PRANEŠĖJAS IR JO KALBOS STILIU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58920" y="4149720"/>
            <a:ext cx="67690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Į AUDITORIJĄ ORIENTUOTO PRANEŠĖJO ATRIBUTAI (dalyko išmanymas, baimės įveikimas, sugebėjimas pelnyti auditorijos pasitikėjimą, aprang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KALBOS STILIAUS ASPEKTAI (balsas, akių kontaktas, mimika, poza, gestai, manieros, humor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ED3-096E-4709-A2F3-2EF738F659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1)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64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lote gerai nusimanyti apie tai, ką kalb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lu išmanyti viešojo kalbėjimo pagrind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lu suprasti svarbiausius psichoedukacinius suaugusiųjų auditorijos ypatumus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2637000"/>
            <a:ext cx="619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1. Dalyko išmany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E64-28ED-4B63-9034-61D15CDB16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2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3349800"/>
            <a:ext cx="860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odėl bijome kalbėti...? Kas mums darosi kai nerimaujame...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Dalyko išmany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raktikavimasis ir repetavi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okymasis tinkamai kvėpuo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engti kofeino ir nikoti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Įžanga “be popieriaus”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2349360"/>
            <a:ext cx="8064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2. Nerimo ir auditorijos baimės valdymas.</a:t>
            </a:r>
            <a:r>
              <a:rPr b="1" lang="lt-L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Blogai yra ne nervai – blogai yra nesugebėti jų tramdy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D7B-B8A8-423A-9E4B-371192B655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3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2852280"/>
            <a:ext cx="86058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dėl pasitikėjimas neretai prilygsta įtikėjimu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sitikėjimas kyla ne iš kalbėtojo, o iš auditori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loginiai pasitikėjimo kalbėtoju aspekt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349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3. Sugebėjimas pelnyti auditorijos pasitikėjimą.</a:t>
            </a:r>
            <a:r>
              <a:rPr b="1" lang="lt-L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348-479D-41CC-9126-165CA15F14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4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2997000"/>
            <a:ext cx="8605800" cy="27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Esminiai veiksniai, lemiantys pasitikėjim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Charakteris (sąžiningumas, nuoširdumas, patikimum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many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amu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taigu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veikas ekstravertiškumas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2349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3. Sugebėjimas pelnyti auditorijos pasitikėjimą.</a:t>
            </a:r>
            <a:r>
              <a:rPr b="1" lang="lt-L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639F-F1C9-4FCF-9FEF-A72CDCDE7D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5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880" y="3429000"/>
            <a:ext cx="8947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Apranga – pranešimo dalis. Ji turi įsilieti į kalbą, o ne išsiskir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Dalykiškumas, konservatyvumas, patogumas, tvarkingu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engti dėmesį atitraukiančių papuošalų, daiktais “išpūstų” kišenių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49360"/>
            <a:ext cx="8280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4. Apranga.</a:t>
            </a:r>
            <a:r>
              <a:rPr b="1" lang="lt-LT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Žmonės daro visų rūšių sprendimus, žiūrėdami į aprangą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327-F7D3-4899-BF8B-D09893DF98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2708280"/>
            <a:ext cx="8640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augusiųjų auditorijos specif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irengimas pranešim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nešimo struktū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 auditoriją orientuotas pranešėjas ir jo kalbos stili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aizdinės priemonė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413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ASKAITOS DAL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305-B795-4793-B907-FF94A50F26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1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3141720"/>
            <a:ext cx="8605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reitis. Kalbėjimo tempo derinimas su balso ritmu ir stipru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arsumas ir jo kaitaliojimas. Monoton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rtikuliacija ir jos lavin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uzė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2421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1. Balsas.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4D3-75FB-476E-A13C-A1D8BD8B9E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2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3068280"/>
            <a:ext cx="84610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kaip esminis pasitikėjimo veiksn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kaip oficiali bendravimo pradž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kaip pagrindinė auditorijos būklės diagnostikos ir kalbos korekcijos priemon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ūk “paieškos prožektorius”, o ne “lazeri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ir skaity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2421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2. Akių kontaktas.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F9C-FD58-4098-8230-2B11CB76FC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3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3213000"/>
            <a:ext cx="8461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imikos reikšmė. Šypsena ir jos “dozavim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oza: stovėsena, sėdės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inkami ir netinkami gest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anieros. Klausytoją erzinantys įproči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verbalinis auditorijos elges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492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3. Kūno kalba: mimika, poza, gestai, manieros.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E60-DF7A-4D57-944E-F5C956E714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4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3284280"/>
            <a:ext cx="8461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lbos paįvairinimas sąmojais - labai subtilu, situatyvu ir individua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ijuokite iš savęs, o ne iš auditori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ngti etninio, rasinio, seksualinio, vulgaraus humoro, sarkaz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eniniai nutikimai – puiki medžiaga humor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492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4. Humoras.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71D-6CDB-4DFF-917B-81E1C395EA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773360"/>
            <a:ext cx="856944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5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AIZDINĖS PRIEMONĖ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Pati svarbiausia vaizdinė priemonė - JŪ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501336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IŠVAI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2. DEMONSTRAV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D45-5C2E-4B96-ACC6-C794767AB0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43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VAIZDINĖS PRIEMONĖ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ŠVAIZD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880" y="2924280"/>
            <a:ext cx="8947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Įžiūrim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nformatyv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prast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aizdų-žodžių santykio optimal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Optimalus teksto kiekis (nuo 4x4 iki... 7x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usiejimas su pranešimu. Skaidrės - ne skaitiniai. Jos turi atspindėti pagrindinį eskiz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34936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ompiuterinė grafika (skaidrės).</a:t>
            </a:r>
            <a:r>
              <a:rPr b="1" lang="lt-LT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3B0-BF02-4A98-9DB3-F2805E4EF0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43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VAIZDINĖS PRIEMONĖ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EMONSTRAVIMA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880" y="3141720"/>
            <a:ext cx="89470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ankstinis pasireng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kaidrių skaičiaus optimalu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ientavimasis į klausytoją, o ne į priemon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emonstravimo sklandu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234936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ompiuterinė grafika (skaidrės).</a:t>
            </a:r>
            <a:r>
              <a:rPr b="1" lang="lt-LT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46D-03A8-4B08-AF95-4B599FB1B7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1773360"/>
            <a:ext cx="8569440" cy="24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1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UAUGUSIŲJŲ AUDITORIJOS SPECIFIK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CB2-6498-4F8B-8188-0D5E8DF2D1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1. SUAUGUSIŲJŲ AUDITORIJOS SPECIFIKA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2565000"/>
            <a:ext cx="8785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uri aiškų tikslą (...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ko aš čia sėdžiu?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rangina savo laik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ientuoti į problemų sprendim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ėgsta patirti sėkmę, būti pastebėti, pripaži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uri patirtį, kuri padeda arba... trukd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retai yra skeptiški, ypač naujų žinių atžvilgi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ita... 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6E3-3790-475D-AEF9-4131A2E9EE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1. SUAUGUSIŲJŲ AUDITORIJOS SPECIFIKA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878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anešėjas įvertins ir sugebės pasinaudoti dalyvių sukaupta gyvenimo patirti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us sukurti ryšiai (sąveika) tarp dalyvių bei tarp pranešimo informacinio turinio ir dalyvių profesinės veiklos, interesų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teikiamą informaciją dalyviai galės įgyvendinti praktiko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alyviai turės galimybę įtakoti pranešimo eigą ar mokymosi proces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us sukurta saugumo, pagarbos ir komforto atmosfe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us sudarytos sąlygos dalyviams patirti sėkmę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22050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Pranešimas, mokymai suaugusiems bus sėkmingesni jei: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26B-AE8F-47BB-A5E2-B65D5AAFBF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2421000"/>
            <a:ext cx="85694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2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SIRENGIMAS KALB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0DF-E50F-4F57-99E4-80B5C14DF1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2. PASIRENGIMAS KALBAI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78544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s dalyvauj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ą jie nori išgir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dėl kalbėsiu ir ką noriu pasaky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iek laik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ur ir kokiomis sąlygom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kiomis priemonėm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20500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lausimai į kuriuos reikia atsaky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A79D-0F7C-45B7-AEAD-64496B5015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2. PASIRENGIMAS KALBAI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8785440" cy="3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formavimo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apie objektus, įvykius, procesus, sąvokas)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tikinimo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patriotinės, politinės, moralinės etinės, justicinės, komercinė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oginės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pristatymas, apdovanojimas, padėka, sveikinimas, tostas, pramoginė kalb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20500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albų rūš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060-9B63-4C9F-80B0-40A65163A6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1628640"/>
            <a:ext cx="85694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ALBOS STRUKTŪR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Jūs lakūnas, o Jūsų kalba – lėktuvo pilotavimas PAKYLANT..., SKRENDANT... ir NUSILEIDŽIANT..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4508640"/>
            <a:ext cx="43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ĮŽA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VIDURINĖ (PAGRINDINĖ) D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PABA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PERĖJIM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8D0-422F-44AD-9409-6BD5D07560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2:29:57Z</dcterms:created>
  <dc:creator>Audrius</dc:creator>
  <dc:description/>
  <dc:language>en-US</dc:language>
  <cp:lastModifiedBy>Destytojas</cp:lastModifiedBy>
  <dcterms:modified xsi:type="dcterms:W3CDTF">2012-01-23T13:50:02Z</dcterms:modified>
  <cp:revision>222</cp:revision>
  <dc:subject/>
  <dc:title>Slide 1</dc:title>
</cp:coreProperties>
</file>