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D979-8DCD-40B3-9A72-E4F3587D1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8949-91E5-4502-9CBD-D9EE0F54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A4B9-AE8C-431A-A0EE-F641300F3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8C1E-8C65-4AC3-94AB-B32917D92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B0DA-7BAF-4B07-860F-F0A8B892A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5F32-CB4C-4829-9E91-FD6EAEDA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33B5-1DEC-4246-AD5C-BAB747B1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C1CB-6C22-47F5-8B24-6F9ED7C6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0037-7D1D-4348-B0B7-76F61210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A072B-F96B-446C-BB53-4A7DEBDD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BE25-0845-44EB-A769-D6B3F9D9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842F-ECE6-406B-81D7-997AB837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F753-867F-4FF4-BE23-C7D9BB32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35736-A07F-4013-AD66-8F475C66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7A7F-CCDF-41C1-AA54-D1388C5F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D2FC-D6B4-4B3E-9355-0E55C6200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3C3E2-8775-4124-8B2D-0EBFF9EE1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7A066-DBA4-422F-97A5-B6D6662DA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F63C5-373C-4140-8BE6-CDF17692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F4BF4-C1A9-4782-8A4E-7060A834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EC754-EDCF-4049-A9A5-5D9F7C64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D2EA0-8C9E-43F4-B4AE-2CA384B3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9DD3-1CD0-4B9E-B769-1A874D38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22945-381A-4B2F-BF6F-A1F403EA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BE491-67D9-4105-BA13-75734E2B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9C29F-FB39-4EB9-8089-B5E85A05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80448-2225-43A5-A855-D394255C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4355F-D11F-46AF-AC5E-F2F7D2B2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38CA1-7573-45CC-ABF3-F202B8A1A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8247F-8852-4EF0-B9AB-7F3F6357C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206BF-905A-4C16-ADF7-9813A1652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CBC1D-00AE-4D91-8421-235851F5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08D87-DE0C-4B8A-9C01-3A43CC56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8ECE-9AFF-49D1-930D-069ADDF9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F298E-5B15-4758-B91A-19AB2C41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DF3C6-5DB8-449B-B3E5-1819E8A0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69F6C-62D2-4F45-855C-86372A83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5EB22-2911-4B91-8EC4-EF2EBC37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EC191-5C10-4DEA-BFC2-25C6EA1A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A50A1-06DC-488B-8A50-4A8C234B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EAE02-F748-408A-8218-A81E65B4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4EA77-6265-4B7B-9F3F-5ACF72B29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DA7AE-1162-4C64-ADBE-F25052AD5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DBBE-FFFC-497E-B06B-DE3DFFFD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D94D-DA9F-4599-8C91-D924BEA0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B050-F1E3-4D00-8D1A-52E567C8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9DC5-3EB3-48F4-B21E-6BAEA63F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DCC2-1F5A-48FF-8259-11C022AD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aisva forma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Laisva forma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C484-E1FA-4D34-80A4-4D9B4489626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upė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Laisva form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Laisva form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Laisva forma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Laisva form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Laisva forma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Laisva forma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upė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Laisva form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Laisva form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Laisva forma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Laisva form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1A8D-A372-402E-BDD6-0D11E84AD17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Laisva forma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Laisva forma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upė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Laisva form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Laisva form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Laisva forma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Laisva form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19A5-24B2-4555-8CC7-3CD3D589155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Kvadratas su vienu įkirptu ir užapvalintu kampu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Statusis trikampis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Laisva forma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Laisva forma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AFB1-514A-4DC8-AC6F-A0F06B1C5D0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Antraštė 1" descr=""/>
          <p:cNvPicPr/>
          <p:nvPr/>
        </p:nvPicPr>
        <p:blipFill>
          <a:blip r:embed="rId2"/>
          <a:stretch/>
        </p:blipFill>
        <p:spPr>
          <a:xfrm>
            <a:off x="304920" y="1365120"/>
            <a:ext cx="8442360" cy="31338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9640" y="6092640"/>
            <a:ext cx="7855200" cy="6015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Constantia"/>
              </a:rPr>
              <a:t>psichologė Laima Milkintaitė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500" spc="-1" strike="noStrike">
                <a:solidFill>
                  <a:srgbClr val="04617b"/>
                </a:solidFill>
                <a:latin typeface="Calibri"/>
              </a:rPr>
              <a:t>Motyvacija bus efektyvi, jei bus įvertinto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Individualios darbuotojų savybės: poreikiai, pažiūros, vertybės, interesa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Darbo/veiklos ypatybės: skirtingų įgūdžių būtinybė, užduočių įvairovė ir jų svarba, savarankiškumo laipsnis ir tobulėjimo būtinybė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Organizacijos ypatybės: taisyklės, skatinimo sistema, nuostat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000" spc="-1" strike="noStrike">
                <a:solidFill>
                  <a:srgbClr val="04617b"/>
                </a:solidFill>
                <a:latin typeface="Calibri"/>
              </a:rPr>
              <a:t>Motyvacijos rūšy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nstantia"/>
              </a:rPr>
              <a:t>Išorinė – kai kas nors kitas priverčia (arba skatina) asmenį veikti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nstantia"/>
              </a:rPr>
              <a:t>Vidinė – kai pats asmuo nori tai atlikti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nstantia"/>
              </a:rPr>
              <a:t>Neigiama - kai norima išvengti veiksmo (orientuota į vengimą)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nstantia"/>
              </a:rPr>
              <a:t>Teigiama – kai norima ką nors gauti, pasiekti tikslą (orientuota į tikslą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000" spc="-1" strike="noStrike">
                <a:solidFill>
                  <a:srgbClr val="04617b"/>
                </a:solidFill>
                <a:latin typeface="Calibri"/>
              </a:rPr>
              <a:t>Motyvacijos stok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Constantia"/>
              </a:rPr>
              <a:t>Pasitikėjimo savimi stoka</a:t>
            </a: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: jei netikima, kad galima sulaukti sėkmės, kokia prasmė bandyti ką nors daryti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Constantia"/>
              </a:rPr>
              <a:t>Aiškumo stoka</a:t>
            </a: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: jei nežinoma, ko norima, reikia paklausti, ar iš tikrųjų ko nors norima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600" spc="-1" strike="noStrike">
                <a:solidFill>
                  <a:srgbClr val="000000"/>
                </a:solidFill>
                <a:latin typeface="Constantia"/>
              </a:rPr>
              <a:t>Kryptingumo stoka</a:t>
            </a: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: jei nežinoma, ką norima veikti, kaip galima būti motyvuotam tai atlikti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000" spc="-1" strike="noStrike">
                <a:solidFill>
                  <a:srgbClr val="04617b"/>
                </a:solidFill>
                <a:latin typeface="Calibri"/>
              </a:rPr>
              <a:t>Vidinės motyvacijos stiprinim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5000"/>
            <a:ext cx="822960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Iššūkis – svarbu mesti sau iššūkį ir atlikti naujas užduoti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Kontrolė – galimybė pasirinkti, ką norite veikt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Bendradarbiavimas – galimybė dirbti bei padėti kitiem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Pripažinimas – sulaukti pripažinimo už atliktus darbus, pajusti, kad veikla prasming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Laimės pojūtis – žmonės, kuriems patinka jų darbas ir darbovietė, dažniau turi vidinę motyvacij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Pasitikėjimas kitais ir savimi – pasitikima, lengviau atrasti vidinę motyvacij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000" spc="-1" strike="noStrike">
                <a:solidFill>
                  <a:srgbClr val="04617b"/>
                </a:solidFill>
                <a:latin typeface="Calibri"/>
              </a:rPr>
              <a:t>Savęs motyvavim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nstantia"/>
              </a:rPr>
              <a:t>Neigiamas emocijas pakeisti teigiamomi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nstantia"/>
              </a:rPr>
              <a:t>Suprasti, kad įsivaizduojamos problemos iš tiesų nėra tokios didelės, nelaikyti jų giliai širdyj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nstantia"/>
              </a:rPr>
              <a:t>Problemas spręsti iš karto, neatidėlioti ir nuolat apie jas negalvoti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nstantia"/>
              </a:rPr>
              <a:t>Reikalingas vidinis nusiteikimas, kuris skatina atlikti veiklą/darbą kokybiškai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nstantia"/>
              </a:rPr>
              <a:t>Išugdyti savyje </a:t>
            </a:r>
            <a:r>
              <a:rPr b="1" lang="lt-LT" sz="2400" spc="-1" strike="noStrike">
                <a:solidFill>
                  <a:srgbClr val="000000"/>
                </a:solidFill>
                <a:latin typeface="Constantia"/>
              </a:rPr>
              <a:t>pareigos ir atsakomybės prieš patį save </a:t>
            </a:r>
            <a:r>
              <a:rPr b="0" lang="lt-LT" sz="2400" spc="-1" strike="noStrike">
                <a:solidFill>
                  <a:srgbClr val="000000"/>
                </a:solidFill>
                <a:latin typeface="Constantia"/>
              </a:rPr>
              <a:t>jausm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nstantia"/>
              </a:rPr>
              <a:t>Matyti galutinį rezultatą ir sąmoningai trokšti, kuo greičiau jį pasiekti. Būtina įsivaizduoti, ką norite pasiekti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000" spc="-1" strike="noStrike">
                <a:solidFill>
                  <a:srgbClr val="04617b"/>
                </a:solidFill>
                <a:latin typeface="Calibri"/>
              </a:rPr>
              <a:t>Gebėjimas save motyvuot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Ugdo charakterio savybes, kurios padeda siekti sėkmė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Didina asmenines ir darbines galimybe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Įveikiamos abejonės ir neryžtinguma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Įveikiamas neigiamas vidinis nusitatymas (pvz., konservatyvumas, permainų/pokyčių baimė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Sumažinamas nuolat persekiojantis stres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000" spc="-1" strike="noStrike">
                <a:solidFill>
                  <a:srgbClr val="04617b"/>
                </a:solidFill>
                <a:latin typeface="Calibri"/>
              </a:rPr>
              <a:t>Motyvaciją palaik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Rezultatas arba tiksl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Vizualizavimas (įsivaizdavimas tai, ko noriu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Sėkminga praeiti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Optimizm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Aplink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Teigiamas savęs vertinim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Bendraminčia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Sėkmės istorij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Naujų dalykų mokymasi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Nusiteikim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000" spc="-1" strike="noStrike">
                <a:solidFill>
                  <a:srgbClr val="04617b"/>
                </a:solidFill>
                <a:latin typeface="Calibri"/>
              </a:rPr>
              <a:t>Septynios motyvacijos taisyklė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88520" indent="-48852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Užsibrėžkite pagrindinį tikslą, bet jo siekite palaipsniu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-48852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Baikite tai, ką pradėjot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-48852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Bendraukite su žmonėmis, kurie turi panašių interesų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-48852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Mokykitės mokyti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-48852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Derinkite talentą su polinkiais, kurie motyvuoja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-48852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Įgykite tų dalykų žinių, kurie jus domina ir įkvepi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88520" indent="-48852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Priimkite iššūkį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Motyvacija  - tai vidinė ugnis. Jei kas nors bandys ją uždegti jumyse, tikėtina, kad ši ugnis degs labai trumpa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nstantia"/>
              </a:rPr>
              <a:t>Stephen R. Cove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Constantia"/>
              </a:rPr>
              <a:t>Vadovų centro įkūrėjas, eksperta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Antraštė 1" descr=""/>
          <p:cNvPicPr/>
          <p:nvPr/>
        </p:nvPicPr>
        <p:blipFill>
          <a:blip r:embed="rId2"/>
          <a:stretch/>
        </p:blipFill>
        <p:spPr>
          <a:xfrm>
            <a:off x="304920" y="1365120"/>
            <a:ext cx="8442360" cy="31338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539640" y="6092640"/>
            <a:ext cx="7855200" cy="6015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ffffff"/>
                </a:solidFill>
                <a:latin typeface="Constantia"/>
              </a:rPr>
              <a:t>psichologė Laima Milkintaitė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000" spc="-1" strike="noStrike">
                <a:solidFill>
                  <a:srgbClr val="04617b"/>
                </a:solidFill>
                <a:latin typeface="Calibri"/>
              </a:rPr>
              <a:t>Motyvacij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Tam tikrų veiksmų seka, kurie skatina asmenybę siekti tiksl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Vidinė jėga, skatinanti atlikti tam tikrus veiksmus, susijusi su norais ir siekiai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Noras pasiekti tikslą, entuziazmas tinkamai veikti, kad tikslas būtų įgyvendint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Suteikia energijos ir asmenį nukreipi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000" spc="-1" strike="noStrike">
                <a:solidFill>
                  <a:srgbClr val="04617b"/>
                </a:solidFill>
                <a:latin typeface="Calibri"/>
              </a:rPr>
              <a:t>Motyvuotas elgesy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Savanoriškas pasirinkimas, kurį asmenybė gali kontroliuoti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Paskatos/stimulo, kuris yra verta dėmesio, radima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Būti motyvuotam – aiškiai žinoti, ko norima iš gyvenimo/veikl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5000" spc="-1" strike="noStrike">
                <a:solidFill>
                  <a:srgbClr val="04617b"/>
                </a:solidFill>
                <a:latin typeface="Calibri"/>
              </a:rPr>
              <a:t>Motyvacijos atsiradim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2204640"/>
            <a:ext cx="822960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Konkretus poreikis (reikmė, ko nors būtinumas)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Poreikis gali būti bet kas, ko asmeniui reikia, ko trokšta, kas jam yra nauding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Noras yra sąmoningas poreikio pripažinim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000" y="836640"/>
            <a:ext cx="849636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lt-LT" sz="4400" spc="-1" strike="noStrike">
                <a:solidFill>
                  <a:srgbClr val="04617b"/>
                </a:solidFill>
                <a:latin typeface="Calibri"/>
              </a:rPr>
              <a:t>Motyvacijos teorijos. </a:t>
            </a:r>
            <a:br>
              <a:rPr sz="4400"/>
            </a:br>
            <a:r>
              <a:rPr b="0" lang="lt-LT" sz="4400" spc="-1" strike="noStrike">
                <a:solidFill>
                  <a:srgbClr val="04617b"/>
                </a:solidFill>
                <a:latin typeface="Calibri"/>
              </a:rPr>
              <a:t>Maslow poreikių teorija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Fiziologiniai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Saugumo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Meilės ir priklausomybės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Pagarbos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Saviraiška (savirealizacija, saviaktualizacija)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4617b"/>
                </a:solidFill>
                <a:latin typeface="Calibri"/>
              </a:rPr>
              <a:t>Poreikiai, kurie gali būti realizuojami darbe/veikloje. S.B. Kaverino klasifikacij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5000"/>
            <a:ext cx="822960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nstantia"/>
              </a:rPr>
              <a:t>Pagarba ir pripažinima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nstantia"/>
              </a:rPr>
              <a:t>Materialių poreikių patenkinimas (darbo užmokestis, apdovanojimai, premijos ir kt.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nstantia"/>
              </a:rPr>
              <a:t>Bendravimas, draugiški santykiai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nstantia"/>
              </a:rPr>
              <a:t>Pažinimas, naujų dalykų mokymasi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Constantia"/>
              </a:rPr>
              <a:t>Savęs pažinima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nstantia"/>
              </a:rPr>
              <a:t>Saviraiška ir savigarb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nstantia"/>
              </a:rPr>
              <a:t>Dalyvavimas bendroje veikloje (pasiekimai: įmonės, miesto, socialinės grupės, valstybė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nstantia"/>
              </a:rPr>
              <a:t>Pasitenkinimas savimi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nstantia"/>
              </a:rPr>
              <a:t>Savirealizacija, pasitenkinimas gyvenimu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nstantia"/>
              </a:rPr>
              <a:t>Rezultatų siekimas, kliūčių įveikimas (atsiranda siekiant karjero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500" spc="-1" strike="noStrike">
                <a:solidFill>
                  <a:srgbClr val="04617b"/>
                </a:solidFill>
                <a:latin typeface="Calibri"/>
              </a:rPr>
              <a:t>Motyvacijos teorijos. </a:t>
            </a:r>
            <a:br>
              <a:rPr sz="4500"/>
            </a:br>
            <a:r>
              <a:rPr b="0" lang="lt-LT" sz="4500" spc="-1" strike="noStrike">
                <a:solidFill>
                  <a:srgbClr val="04617b"/>
                </a:solidFill>
                <a:latin typeface="Calibri"/>
              </a:rPr>
              <a:t>F. Hercbergo motyvacijos teorijo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Higieniniai veiksniai – tie, kurie gali pašalinti nepasitenkinimą darbu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lt-LT" sz="2000" spc="-1" strike="noStrike">
                <a:solidFill>
                  <a:srgbClr val="000000"/>
                </a:solidFill>
                <a:latin typeface="Constantia"/>
              </a:rPr>
              <a:t>Darbo aplinkos veiksniai: organizacijos politika, saugumas, statusas, gamybiniai santykiai, darbo užmokestis, darbo sąlygos, kontrolė, administracijos elgesy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Motyvaciniai veiksniai – turintys įtakos pasitenkinimui: saviraiška, pažanga, atsakomybė, pripažinimas, sėkmė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500" spc="-1" strike="noStrike">
                <a:solidFill>
                  <a:srgbClr val="04617b"/>
                </a:solidFill>
                <a:latin typeface="Calibri"/>
              </a:rPr>
              <a:t>Motyvacijos teorijos.</a:t>
            </a:r>
            <a:br>
              <a:rPr sz="4500"/>
            </a:br>
            <a:r>
              <a:rPr b="0" lang="lt-LT" sz="4500" spc="-1" strike="noStrike">
                <a:solidFill>
                  <a:srgbClr val="04617b"/>
                </a:solidFill>
                <a:latin typeface="Calibri"/>
              </a:rPr>
              <a:t>Lūkesčių teorij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Lūkesčiai – tai pageidaujamų būsimų įvykių ar faktų, rezultatų apibūdinima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Pabrėžiama tarpusavyje susijusių ryšių svarb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 Darbo s</a:t>
            </a: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ąnaudos – rezultat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Rezultatai – atlygi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</a:t>
            </a:r>
            <a:r>
              <a:rPr b="0" lang="lt-LT" sz="2600" spc="-1" strike="noStrike">
                <a:solidFill>
                  <a:srgbClr val="000000"/>
                </a:solidFill>
                <a:latin typeface="Constantia"/>
              </a:rPr>
              <a:t> Atlygis – atlygio valentingum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500" spc="-1" strike="noStrike">
                <a:solidFill>
                  <a:srgbClr val="04617b"/>
                </a:solidFill>
                <a:latin typeface="Calibri"/>
              </a:rPr>
              <a:t>Motyvacijos teorijos.</a:t>
            </a:r>
            <a:br>
              <a:rPr sz="4500"/>
            </a:br>
            <a:r>
              <a:rPr b="0" lang="lt-LT" sz="4500" spc="-1" strike="noStrike">
                <a:solidFill>
                  <a:srgbClr val="04617b"/>
                </a:solidFill>
                <a:latin typeface="Calibri"/>
              </a:rPr>
              <a:t>Teisingumo teorij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nstantia"/>
              </a:rPr>
              <a:t>Žmonės subjektyviai nustato santykį tarp įdėtų pastangų ir atlygio, po to jį sugretina su kitų žmonių atlygiu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nstantia"/>
              </a:rPr>
              <a:t>Kol darbuotojai nebus tikri, jog darbas yra atlyginamas teisingai, tol jie stengsis sumažinti darbo produktyvumą/efektyvumą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Constantia"/>
              </a:rPr>
              <a:t>Teisingumo suvokimas yra subjektyvus: žmogus lygina save su kitais organizacijos nariais arba kitų organizacijų darbuotojais, vykdančiais analogiškas funkcijas. Išeitis: privalu paaiškinti, kodėl skiriasi atlyginimai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8T08:45:19Z</dcterms:created>
  <dc:creator>home</dc:creator>
  <dc:description/>
  <dc:language>en-US</dc:language>
  <cp:lastModifiedBy>SRPA</cp:lastModifiedBy>
  <dcterms:modified xsi:type="dcterms:W3CDTF">2011-08-08T12:06:28Z</dcterms:modified>
  <cp:revision>27</cp:revision>
  <dc:subject/>
  <dc:title>Veiklos motyvacija:  praktiniai būdai motyvacijos lygiui padidinti</dc:title>
</cp:coreProperties>
</file>