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54390-9D59-41A0-B727-ED12A4A6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60EE0-A423-4179-8219-386A07A9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329E7-666A-48C4-B91E-0A82DFD35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F08EF-17D3-490A-980B-B2EAA7591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0A37-C8D1-4E0C-B79E-572C4BD5B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0033-ABF8-4B60-90BC-1E8466D0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7AF3-F0C6-475A-BF8A-5437CB88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6813-98A7-4504-A3E1-21A8DE76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34FE-CD52-4836-BF83-A6869420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22AA-6704-4DD3-BA46-1C7754E0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8F14-31D1-4ED8-AE4B-1406B36F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C12C-27D6-4C78-AD65-6DAB77DB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2045-CA3E-4DD1-AA93-40E8FB038C7C}"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s intelektas ir jo įtaka efektyviam vadovavimui</a:t>
            </a:r>
            <a:endParaRPr b="0" lang="en-US" sz="4400" spc="-1" strike="noStrike">
              <a:solidFill>
                <a:srgbClr val="000000"/>
              </a:solidFill>
              <a:latin typeface="Arial"/>
            </a:endParaRPr>
          </a:p>
        </p:txBody>
      </p:sp>
      <p:sp>
        <p:nvSpPr>
          <p:cNvPr id="42" name="PlaceHolder 2"/>
          <p:cNvSpPr>
            <a:spLocks noGrp="1"/>
          </p:cNvSpPr>
          <p:nvPr>
            <p:ph type="subTitle"/>
          </p:nvPr>
        </p:nvSpPr>
        <p:spPr>
          <a:xfrm>
            <a:off x="2340000" y="393336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ktorė: Agnė Kazlauskaitė</a:t>
            </a:r>
            <a:endParaRPr b="0" lang="en-US" sz="3200" spc="-1" strike="noStrike">
              <a:solidFill>
                <a:srgbClr val="000000"/>
              </a:solidFill>
              <a:latin typeface="Arial"/>
            </a:endParaRPr>
          </a:p>
        </p:txBody>
      </p:sp>
      <p:pic>
        <p:nvPicPr>
          <p:cNvPr id="43" name="" descr=""/>
          <p:cNvPicPr/>
          <p:nvPr/>
        </p:nvPicPr>
        <p:blipFill>
          <a:blip r:embed="rId1"/>
          <a:stretch/>
        </p:blipFill>
        <p:spPr>
          <a:xfrm>
            <a:off x="1042920" y="549360"/>
            <a:ext cx="2095560" cy="796680"/>
          </a:xfrm>
          <a:prstGeom prst="rect">
            <a:avLst/>
          </a:prstGeom>
          <a:ln w="0">
            <a:noFill/>
          </a:ln>
        </p:spPr>
      </p:pic>
      <p:pic>
        <p:nvPicPr>
          <p:cNvPr id="44" name="" descr=""/>
          <p:cNvPicPr/>
          <p:nvPr/>
        </p:nvPicPr>
        <p:blipFill>
          <a:blip r:embed="rId2"/>
          <a:stretch/>
        </p:blipFill>
        <p:spPr>
          <a:xfrm>
            <a:off x="3564000" y="549360"/>
            <a:ext cx="797040" cy="796680"/>
          </a:xfrm>
          <a:prstGeom prst="rect">
            <a:avLst/>
          </a:prstGeom>
          <a:ln w="0">
            <a:noFill/>
          </a:ln>
        </p:spPr>
      </p:pic>
      <p:pic>
        <p:nvPicPr>
          <p:cNvPr id="45" name="" descr=""/>
          <p:cNvPicPr/>
          <p:nvPr/>
        </p:nvPicPr>
        <p:blipFill>
          <a:blip r:embed="rId3"/>
          <a:stretch/>
        </p:blipFill>
        <p:spPr>
          <a:xfrm>
            <a:off x="4859280" y="549360"/>
            <a:ext cx="658800" cy="882720"/>
          </a:xfrm>
          <a:prstGeom prst="rect">
            <a:avLst/>
          </a:prstGeom>
          <a:ln w="0">
            <a:noFill/>
          </a:ln>
        </p:spPr>
      </p:pic>
      <p:pic>
        <p:nvPicPr>
          <p:cNvPr id="46" name="" descr=""/>
          <p:cNvPicPr/>
          <p:nvPr/>
        </p:nvPicPr>
        <p:blipFill>
          <a:blip r:embed="rId4"/>
          <a:stretch/>
        </p:blipFill>
        <p:spPr>
          <a:xfrm>
            <a:off x="6012000" y="476280"/>
            <a:ext cx="1244520" cy="934920"/>
          </a:xfrm>
          <a:prstGeom prst="rect">
            <a:avLst/>
          </a:prstGeom>
          <a:ln w="0">
            <a:noFill/>
          </a:ln>
        </p:spPr>
      </p:pic>
      <p:pic>
        <p:nvPicPr>
          <p:cNvPr id="47" name="" descr=""/>
          <p:cNvPicPr/>
          <p:nvPr/>
        </p:nvPicPr>
        <p:blipFill>
          <a:blip r:embed="rId5"/>
          <a:stretch/>
        </p:blipFill>
        <p:spPr>
          <a:xfrm>
            <a:off x="7020000" y="4954680"/>
            <a:ext cx="1368360" cy="850680"/>
          </a:xfrm>
          <a:prstGeom prst="rect">
            <a:avLst/>
          </a:prstGeom>
          <a:ln w="0">
            <a:noFill/>
          </a:ln>
        </p:spPr>
      </p:pic>
      <p:sp>
        <p:nvSpPr>
          <p:cNvPr id="48" name=""/>
          <p:cNvSpPr/>
          <p:nvPr/>
        </p:nvSpPr>
        <p:spPr>
          <a:xfrm>
            <a:off x="2987640" y="5734080"/>
            <a:ext cx="32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11-06-0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D6487B-13F8-48D2-84D4-E0024C729B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ti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is niekada neatsiranda be priežasties, tačiau retai toji priežastis yra g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ktį suvaldyti sunkiau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Įsiplieskiantis pyktis – provokacijų grandinė, kurios kiekvienoje grandyje kyla sunkiai nutraukiama sužaidinimo reakcij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DA8A0C-E9E7-40C4-A33D-F635FE231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kčio valdyma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ivus įtūžį sukėlusių minčių pasvėrimas, nes pyktį, nes pyktį kursto pirminis jį įžiebusių veiksmų įvertinimas ir pakartotinis tų veiksmų apmąsty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ioje aplinkoje, kurioje nėra papildomų pykčio dirgiklių, reikia palaukti, kol “atvės” smegenys ir nuslūgs adrenalino bang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eslopink jo, bet ir nieko nedaryk jo vedama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5DAAA6-0205-4208-A0D3-94F771EEF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ūdesys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ūdesys padeda laikinai pamiršti buities rūpesčius ir skirti dėmesio apmąstym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iausios liūdesio įveikimo priemonės yra tos, kurios gali paveikti nuotaiką: įtemptos sporto rungtynės, linksmas filmas, nuotaikinga knyg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iksmingas sielvarto įveikimo būdas – pagalba jos reikalingiems žmonėm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417F8B-9D8F-4DAC-985D-6AA2FF97C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jauri nuotaika. Sujauktas mąstymas</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kenkia intelekt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imas trukdo mok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 emocijas sugebantys pažaboti žmonės gali pasinaudoti savo jauduliu kaip stimulu geriau pasirengt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 nuotaika stiprina gebėjimą lanksčiau mąstyti ir padeda lengviau surasti problemų sprendimo būd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183A23-15F4-47E3-9C2E-E63D05259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igiamo mąstymo privaluma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škai nusiteikę žmonės geba save įkvėpti, jaučiasi pajėgūs įgyvendinti savo tikslus, tiki, kad iš sunkios padėties pavyks rasti išeitį, yra ganėtinai lankstūs ir gali savo tikslų siekti įvairiais būdais arba prireikus vienus tikslus pakeisti kitais, supranta, kad sunkiai įveikiamas uždavinį galima suskaidyti į smulkesnes, lengvai įveikiamas užduot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imizmas stumia žmones į neviltį, o optimizmas įžiebia viltį.</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714A91-D3B4-4B3C-8646-5354D6AEC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ų supratimas</a:t>
            </a:r>
            <a:br>
              <a:rPr sz="4000"/>
            </a:br>
            <a:r>
              <a:rPr b="0" i="1" lang="en-US" sz="3200" spc="-1" strike="noStrike">
                <a:solidFill>
                  <a:srgbClr val="000000"/>
                </a:solidFill>
                <a:latin typeface="Arial"/>
              </a:rPr>
              <a:t>Kitų žmonių požiūrių jutimas ir aktyvus domėjimasis jų rūpesčiais</a:t>
            </a:r>
            <a:endParaRPr b="0" lang="en-US" sz="3200" spc="-1" strike="noStrike">
              <a:solidFill>
                <a:srgbClr val="000000"/>
              </a:solidFill>
              <a:latin typeface="Arial"/>
            </a:endParaRPr>
          </a:p>
        </p:txBody>
      </p:sp>
      <p:sp>
        <p:nvSpPr>
          <p:cNvPr id="82" name="PlaceHolder 2"/>
          <p:cNvSpPr>
            <a:spLocks noGrp="1"/>
          </p:cNvSpPr>
          <p:nvPr>
            <p:ph/>
          </p:nvPr>
        </p:nvSpPr>
        <p:spPr>
          <a:xfrm>
            <a:off x="395280" y="2133720"/>
            <a:ext cx="8229600" cy="430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dėmesingi emociniams ženklams ir moka klausy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odo jautrumą ir supranta kitų požiūr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deda, suprasdami kitų žmonių poerius ir jausm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CD06B8-5700-4F84-98A5-191CA24B1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mpatijos pamatai</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Empatija – įsijautimas į kito žmogaus būsena – pamatas yra savivoka. Kuo labiau atsiveriame savo jausmams, tuo geriau išmokstame juos pažint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egebėjimas suvokti kito asmens jausmų yra esminis emocinio intelekto trūkum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usmai ne visada išsakomi žodžiais, daug dažniau jie reiškiami kitais būdais, todėl svarbu gebėti suprasti nežodinius ženklus: intonaciją, gestus, veido išraišk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A56F4A-3B1C-4413-8B27-30941DCB84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s klausytis</a:t>
            </a:r>
            <a:endParaRPr b="0" lang="en-US" sz="3200" spc="-1" strike="noStrike">
              <a:solidFill>
                <a:srgbClr val="000000"/>
              </a:solidFill>
              <a:latin typeface="Arial"/>
            </a:endParaRPr>
          </a:p>
        </p:txBody>
      </p:sp>
      <p:sp>
        <p:nvSpPr>
          <p:cNvPr id="86" name=""/>
          <p:cNvSpPr/>
          <p:nvPr/>
        </p:nvSpPr>
        <p:spPr>
          <a:xfrm>
            <a:off x="3276720" y="3213000"/>
            <a:ext cx="2663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YVAUS KLAUSYMOSI METU </a:t>
            </a:r>
            <a:endParaRPr b="0" lang="en-US" sz="2000" spc="-1" strike="noStrike">
              <a:solidFill>
                <a:srgbClr val="000000"/>
              </a:solidFill>
              <a:latin typeface="Arial"/>
            </a:endParaRPr>
          </a:p>
        </p:txBody>
      </p:sp>
      <p:sp>
        <p:nvSpPr>
          <p:cNvPr id="87" name=""/>
          <p:cNvSpPr/>
          <p:nvPr/>
        </p:nvSpPr>
        <p:spPr>
          <a:xfrm>
            <a:off x="2916360" y="1197000"/>
            <a:ext cx="316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Įsijauskite, pabandykite atsidurti kito vietoje, kad suprastumėte faktus ir jausmus</a:t>
            </a:r>
            <a:endParaRPr b="0" lang="en-US" sz="1800" spc="-1" strike="noStrike">
              <a:solidFill>
                <a:srgbClr val="000000"/>
              </a:solidFill>
              <a:latin typeface="Arial"/>
            </a:endParaRPr>
          </a:p>
        </p:txBody>
      </p:sp>
      <p:sp>
        <p:nvSpPr>
          <p:cNvPr id="88" name=""/>
          <p:cNvSpPr/>
          <p:nvPr/>
        </p:nvSpPr>
        <p:spPr>
          <a:xfrm>
            <a:off x="6443640" y="1197000"/>
            <a:ext cx="21589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artokite ir perfrazuokite pagrindinius faktus ir jausmus </a:t>
            </a:r>
            <a:endParaRPr b="0" lang="en-US" sz="1800" spc="-1" strike="noStrike">
              <a:solidFill>
                <a:srgbClr val="000000"/>
              </a:solidFill>
              <a:latin typeface="Arial"/>
            </a:endParaRPr>
          </a:p>
        </p:txBody>
      </p:sp>
      <p:sp>
        <p:nvSpPr>
          <p:cNvPr id="89" name=""/>
          <p:cNvSpPr/>
          <p:nvPr/>
        </p:nvSpPr>
        <p:spPr>
          <a:xfrm>
            <a:off x="755640" y="1484280"/>
            <a:ext cx="14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84360" y="1413000"/>
            <a:ext cx="1942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odykite savo supratimą kūno kalba</a:t>
            </a:r>
            <a:endParaRPr b="0" lang="en-US" sz="1800" spc="-1" strike="noStrike">
              <a:solidFill>
                <a:srgbClr val="000000"/>
              </a:solidFill>
              <a:latin typeface="Arial"/>
            </a:endParaRPr>
          </a:p>
        </p:txBody>
      </p:sp>
      <p:sp>
        <p:nvSpPr>
          <p:cNvPr id="91" name=""/>
          <p:cNvSpPr/>
          <p:nvPr/>
        </p:nvSpPr>
        <p:spPr>
          <a:xfrm>
            <a:off x="539640" y="2852640"/>
            <a:ext cx="2159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žduokite klausimus, kurie padėtų geriau suprasti</a:t>
            </a:r>
            <a:endParaRPr b="0" lang="en-US" sz="1800" spc="-1" strike="noStrike">
              <a:solidFill>
                <a:srgbClr val="000000"/>
              </a:solidFill>
              <a:latin typeface="Arial"/>
            </a:endParaRPr>
          </a:p>
        </p:txBody>
      </p:sp>
      <p:sp>
        <p:nvSpPr>
          <p:cNvPr id="92" name=""/>
          <p:cNvSpPr/>
          <p:nvPr/>
        </p:nvSpPr>
        <p:spPr>
          <a:xfrm>
            <a:off x="755640" y="4797360"/>
            <a:ext cx="201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kalbėkite apie savo jausmus ir problemas </a:t>
            </a:r>
            <a:endParaRPr b="0" lang="en-US" sz="1800" spc="-1" strike="noStrike">
              <a:solidFill>
                <a:srgbClr val="000000"/>
              </a:solidFill>
              <a:latin typeface="Arial"/>
            </a:endParaRPr>
          </a:p>
        </p:txBody>
      </p:sp>
      <p:sp>
        <p:nvSpPr>
          <p:cNvPr id="93" name=""/>
          <p:cNvSpPr/>
          <p:nvPr/>
        </p:nvSpPr>
        <p:spPr>
          <a:xfrm>
            <a:off x="3419640" y="4653000"/>
            <a:ext cx="244944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ertraukinėkit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659640" y="4653000"/>
            <a:ext cx="1800000" cy="105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atarinėki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659640" y="2852640"/>
            <a:ext cx="1800000" cy="132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taktuokite akimi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627280" y="2349360"/>
            <a:ext cx="6494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0720" y="2421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940360" y="2349360"/>
            <a:ext cx="5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700360" y="35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940360" y="350028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771280" y="3933720"/>
            <a:ext cx="505080" cy="86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500720" y="3933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40360" y="3933720"/>
            <a:ext cx="71928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295709-0369-4C7E-9FEF-4B4B3D54F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AIP SAKYTI KONSTRUKTYVIĄ KRITIKĄ</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Įvardinkite gerąsias savybes ar aspek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Kritikuokite poelgius, o ne charakter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usakykite savo jausm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Klausykitės kit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prašykite konkretaus pokyč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Jei reikia, šnekėkite apie galimas pasek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EDD15C-CD03-42BB-8CE7-82F0F03F5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Įtakos mena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cijos yra užkrečiam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 esame priklausomi nuo tarpusavio emocinių išgyvenimų, gerų ar blogų. Nuolat pripildome kitų emocines būsenas, kaip ir jie mūsų. Todėl labai svarbu neatskleisti nežabotų, nuodijančių aplinką jausm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Įtikinėjimą sušvelnina ryšio ar bendrumo aptiki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ros nuomonės kūrima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979EB6-DE20-4163-B282-6ECB93CFC5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 mūsų prota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onalus protas – suvokimo būdas, kurį paprastai gerai juntame: jis reiškiasi, kai mes esame budrūs, mąstome, svarst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cinis protas – impulsyvi ir galinga žinojimo sistema, kuri kartais gali būti nelogišk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64A0A1-8F60-4DF6-9CE9-00CD3641C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Konfliktų sprendimo strategijos:</a:t>
            </a:r>
            <a:endParaRPr b="0" lang="en-US" sz="4000" spc="-1" strike="noStrike">
              <a:solidFill>
                <a:srgbClr val="000000"/>
              </a:solidFill>
              <a:latin typeface="Arial"/>
            </a:endParaRPr>
          </a:p>
        </p:txBody>
      </p:sp>
      <p:sp>
        <p:nvSpPr>
          <p:cNvPr id="109"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Rungtyniavimas </a:t>
            </a:r>
            <a:r>
              <a:rPr b="0" lang="lt-LT" sz="3200" spc="-1" strike="noStrike">
                <a:solidFill>
                  <a:srgbClr val="000000"/>
                </a:solidFill>
                <a:latin typeface="Arial"/>
              </a:rPr>
              <a:t>(arba konkurencij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Prisitaikymas </a:t>
            </a:r>
            <a:r>
              <a:rPr b="0" lang="lt-LT" sz="3200" spc="-1" strike="noStrike">
                <a:solidFill>
                  <a:srgbClr val="000000"/>
                </a:solidFill>
                <a:latin typeface="Arial"/>
              </a:rPr>
              <a:t>(arba konformizmas, nuolaida, nuslop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Vengimas </a:t>
            </a:r>
            <a:r>
              <a:rPr b="0" lang="lt-LT" sz="3200" spc="-1" strike="noStrike">
                <a:solidFill>
                  <a:srgbClr val="000000"/>
                </a:solidFill>
                <a:latin typeface="Arial"/>
              </a:rPr>
              <a:t>(pasitraukimas, neveiklu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Kompromisas.</a:t>
            </a:r>
            <a:r>
              <a:rPr b="0" lang="lt-LT" sz="3200" spc="-1" strike="noStrike">
                <a:solidFill>
                  <a:srgbClr val="000000"/>
                </a:solidFill>
                <a:latin typeface="Arial"/>
              </a:rPr>
              <a:t> Tai abipusės nuolai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Bendradarbiavimas </a:t>
            </a:r>
            <a:r>
              <a:rPr b="0" lang="lt-LT" sz="3200" spc="-1" strike="noStrike">
                <a:solidFill>
                  <a:srgbClr val="000000"/>
                </a:solidFill>
                <a:latin typeface="Arial"/>
              </a:rPr>
              <a:t>(laimėti – laimėti). Tai yra sėkmingiausia strategij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752DE3C-7ACB-44D1-ACF1-F1A28484D5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1"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kuruojantis</a:t>
            </a:r>
            <a:r>
              <a:rPr b="0" lang="en-US" sz="1800" spc="-1" strike="noStrike">
                <a:solidFill>
                  <a:srgbClr val="000000"/>
                </a:solidFill>
                <a:latin typeface="Arial"/>
              </a:rPr>
              <a:t> </a:t>
            </a:r>
            <a:r>
              <a:rPr b="0" lang="en-US" sz="2400" spc="-1" strike="noStrike">
                <a:solidFill>
                  <a:srgbClr val="000000"/>
                </a:solidFill>
                <a:latin typeface="Arial"/>
              </a:rPr>
              <a:t>asmuo siekia savo tikslo neatsižvelgdamas į kito jausmus, interesus ir elges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kurenciją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ndimą būtina priimti labai greitai, ir jūs tam turite pakankamai valdž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ms asmeniškai labai svarbi situacijos baigtis ir jūsų siūlomo sprendimo įgyven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turite pakankamą autoritetą sprendimui priimti, ir jums akivaizdu, kad jūsų siūlomas sprendimas geriaus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e kritinėje situacijoje, į kurią reikia reaguoti iš karto; jūs turite kontroliuoti situaciją, kad apsaugotumėte kitus žmones nuo galimų neigiamų padarinių.</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BB2737-8441-4752-8A77-71275CCB1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3"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engiantis</a:t>
            </a:r>
            <a:r>
              <a:rPr b="0" lang="en-US" sz="2000" spc="-1" strike="noStrike">
                <a:solidFill>
                  <a:srgbClr val="000000"/>
                </a:solidFill>
                <a:latin typeface="Arial"/>
              </a:rPr>
              <a:t> asmuo pasyvus ir neinformuoja kito apie konflikt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ir situacijos baigtis nėra jums labai svarbūs, todėl neverta eikvoti jėgų sprendimo paiešk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ėtis atrodo beviltiška, ir nėra rimto pagrindo toliau bendrauti su oponentu;</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ūs neturite pakankamai galios išspręsti problemą sau palankia linkm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yti spręsti problemą pavojinga, nes atviras konflikto svarstymas tik pablogins padėtį;</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įtampa yra labai didelė, ir jūs jaučiate poreikį ją sumaži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ite laimėti laiko papildomai informacijai surinkti ar rasti jus palaikančių šalininkų;</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s tiesiogiai neliečia jūsų interesų, ir jūsų dalyvavimas negali turėti įtakos tolimesniems įvykia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6735E9B-AF8D-40F4-BA80-C86DDFC8D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sitaikantis </a:t>
            </a:r>
            <a:r>
              <a:rPr b="0" lang="en-US" sz="2400" spc="-1" strike="noStrike">
                <a:solidFill>
                  <a:srgbClr val="000000"/>
                </a:solidFill>
                <a:latin typeface="Arial"/>
              </a:rPr>
              <a:t>asmuo kilus konfliktui nusileidžia kitam, užslopina savo interesus, kad patenkintų ki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itaikym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jums asmeniškai nėra labai svarb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situacija daug reikšmingesnė kitam žmogui nei 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ite išsaugoti ramybę ir gerus tarpusavio santykius su kitu žmogum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šsaugoti gerus tarpusavio santykius jums svarbiau, nei ginti savo inter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kita pusė teis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te per mažai valdžios ir galimybių laimė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5D2961-8DA9-43FD-85C6-3CF5C6C87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7"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ekiantis kompromiso</a:t>
            </a:r>
            <a:r>
              <a:rPr b="0" lang="en-US" sz="2400" spc="-1" strike="noStrike">
                <a:solidFill>
                  <a:srgbClr val="000000"/>
                </a:solidFill>
                <a:latin typeface="Arial"/>
              </a:rPr>
              <a:t> asmuo derasi, kad surastų bendrą sprendimą, kuris iš dalies tenkintų abi pu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promis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lyginti paprasta ir aišk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ejų pusių interesai sutampa, bet jų negalima patenkinti vienu met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liktui spręsti neturite daug laiko arba norite jį išspręsti kuo greičia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ite greitai pasiekti laikiną susitarimą, o vėliau grįžti prie problemos ir išanalizuoti gilumines jos priežasti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ir jos sprendimas nėra labai reikšmingi abiem pusėms, jos gali keisti pirminius savo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labiau norite gauti bent ką nors, nei viską praras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7072A89-32E4-41DE-AEB9-D4B12F0BE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9"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dradarbiaujantis</a:t>
            </a:r>
            <a:r>
              <a:rPr b="0" lang="en-US" sz="2000" spc="-1" strike="noStrike">
                <a:solidFill>
                  <a:srgbClr val="000000"/>
                </a:solidFill>
                <a:latin typeface="Arial"/>
              </a:rPr>
              <a:t> asmuo stengiasi rasti sprendimą, kuris patenkintų visus abiejų pusių poreiki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dradarbiav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os sprendimas labai reikšmingas abiem pusė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nčo objektas sudėtingas, reikalauja išsamaus aptar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pasirengusios skirti pakankamai laiko, kad iš esmės išsiaiškintų giluminius poreikius ir interes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em pusėms jų interesai yra labai svarbūs ir joms kompromisas nepriimt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geranoriškai nusiteikusios viena kitos atžvilgiu, pasiruošusios išklausyti viena kitą ir gerbti kitokią nuomonę;</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nori pasiekti ne laikiną, o ilgalaikį susitarimą ir nenori to atidėlio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turi lygiavertę valdžią ar sutinka ignoruoti jos skirtumą, kad sprendimo ieškotų iš lygiaverčių pozi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6C70D53-18DF-49E0-8B9B-8AEE32A7E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Lyderiavimas</a:t>
            </a:r>
            <a:br>
              <a:rPr sz="4000"/>
            </a:br>
            <a:r>
              <a:rPr b="0" i="1" lang="lt-LT" sz="3200" spc="-1" strike="noStrike">
                <a:solidFill>
                  <a:srgbClr val="000000"/>
                </a:solidFill>
                <a:latin typeface="Arial"/>
              </a:rPr>
              <a:t>Žmonių ir grupių įkvėpimas darbui ir vadovavimas jiems</a:t>
            </a:r>
            <a:endParaRPr b="0" lang="en-US" sz="3200" spc="-1" strike="noStrike">
              <a:solidFill>
                <a:srgbClr val="000000"/>
              </a:solidFill>
              <a:latin typeface="Arial"/>
            </a:endParaRPr>
          </a:p>
        </p:txBody>
      </p:sp>
      <p:sp>
        <p:nvSpPr>
          <p:cNvPr id="12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odo entuziazmą bendram planui ir uždaviniui įgyvendin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i reikia, imasi vadovavimo, nepaisydami savo pareigybė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dovauja kitų veiklai, tačiau atsakomybę priskiria jie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da į priekį savo pavyzdži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FE8B1E-868F-4CE6-BAE2-F1137D0136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iekvienas gali supykti – tai paprasta. Tačiau susipykti su tinkamu žmogumi, neperžengti tinkamos ribos, tinkamu metu, dėl tinkamos priežasties, tinkamu būdu – visai nėra papra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Aristoteli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5609664-E2D2-476A-BAB2-D6970229FC1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s jis – emocinis intelekt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i sugebėjimas susitvardyti, įkvėpti žmones (motyvacija), įsijausti į kito žmogaus jausmus (empatija), įsisamoninti savo jausmus bei rasti savo gilumines emocijų priežastis, iššaukti teigiamas emocines būsenas kituose. Jausmų pažabojimo bei atsipindėjimo - sugebėjimas atkartoti greta esančio žmogaus laikyseną, balso skambesį, veido išraišką, nuotaiką, mąstyseną- išlavintas įgūdi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E2AFE5-04B0-44CC-B325-A77331D433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dėl svarbus EQ</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dneris: “Daug žmonių, kurių intelekto koeficientas įvertintas šimtu šešiasdešimt taškų, dirba tiems, kurių intelekto koeficientas tesiekia šimtą taškų, kadangi pirmųjų bendravimo gebėjimai yra menki, o antrųjų – puikūs. Kasdieniniame gyvenime visų svarbiausi ir yra bendravimo gebėjimai. Jų stokodami, suklysite spręsdami, su kuo tuoktis, kokio darbo imtis ir taip tolia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BEBF06-D4A4-4372-8C6F-2C4A73F68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cinių gebėjimų struktūra</a:t>
            </a:r>
            <a:endParaRPr b="0" lang="en-US" sz="4400" spc="-1" strike="noStrike">
              <a:solidFill>
                <a:srgbClr val="000000"/>
              </a:solidFill>
              <a:latin typeface="Arial"/>
            </a:endParaRPr>
          </a:p>
        </p:txBody>
      </p:sp>
      <p:sp>
        <p:nvSpPr>
          <p:cNvPr id="56" name=""/>
          <p:cNvSpPr/>
          <p:nvPr/>
        </p:nvSpPr>
        <p:spPr>
          <a:xfrm>
            <a:off x="395280" y="1268280"/>
            <a:ext cx="8497800" cy="518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43280" y="1268280"/>
            <a:ext cx="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95280" y="198900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42920" y="141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meniniai gebėjimai</a:t>
            </a:r>
            <a:endParaRPr b="0" lang="en-US" sz="2000" spc="-1" strike="noStrike">
              <a:solidFill>
                <a:srgbClr val="000000"/>
              </a:solidFill>
              <a:latin typeface="Arial"/>
            </a:endParaRPr>
          </a:p>
        </p:txBody>
      </p:sp>
      <p:sp>
        <p:nvSpPr>
          <p:cNvPr id="60" name=""/>
          <p:cNvSpPr/>
          <p:nvPr/>
        </p:nvSpPr>
        <p:spPr>
          <a:xfrm>
            <a:off x="5435640" y="1413000"/>
            <a:ext cx="28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iniai gebėjimai</a:t>
            </a:r>
            <a:endParaRPr b="0" lang="en-US" sz="2000" spc="-1" strike="noStrike">
              <a:solidFill>
                <a:srgbClr val="000000"/>
              </a:solidFill>
              <a:latin typeface="Arial"/>
            </a:endParaRPr>
          </a:p>
        </p:txBody>
      </p:sp>
      <p:sp>
        <p:nvSpPr>
          <p:cNvPr id="61" name=""/>
          <p:cNvSpPr/>
          <p:nvPr/>
        </p:nvSpPr>
        <p:spPr>
          <a:xfrm>
            <a:off x="684360" y="2060640"/>
            <a:ext cx="3671640" cy="428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vo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cinis suvok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kslus savęs ver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itikėjimas savim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avireguli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kontrolė</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kim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aking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bėjimas prisitaiky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atoriškuma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tyvac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kata siekt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sid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tyvu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mas </a:t>
            </a:r>
            <a:endParaRPr b="0" lang="en-US" sz="1800" spc="-1" strike="noStrike">
              <a:solidFill>
                <a:srgbClr val="000000"/>
              </a:solidFill>
              <a:latin typeface="Arial"/>
            </a:endParaRPr>
          </a:p>
        </p:txBody>
      </p:sp>
      <p:sp>
        <p:nvSpPr>
          <p:cNvPr id="62" name=""/>
          <p:cNvSpPr/>
          <p:nvPr/>
        </p:nvSpPr>
        <p:spPr>
          <a:xfrm>
            <a:off x="4932360" y="1916280"/>
            <a:ext cx="3887640" cy="4968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Empatij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suprat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ų ug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Orientavimasis į aptarnavimą</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kirtybių naudoj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litinė nuovok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u="sng">
                <a:solidFill>
                  <a:srgbClr val="000000"/>
                </a:solidFill>
                <a:uFillTx/>
                <a:latin typeface="Arial"/>
              </a:rPr>
              <a:t>Socialiniai įgūdži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Įtaka</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munik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onfliktų valdy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Lyderiav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kyčių greitin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yšių užmez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endradarbiavimas ir susijungimas</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Grupiniai gebėjimai</a:t>
            </a:r>
            <a:endParaRPr b="0" lang="en-US" sz="18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41D8EB-A9B3-4AAB-9D35-D4B5F914B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ocinis suvokimas</a:t>
            </a:r>
            <a:br>
              <a:rPr sz="4000"/>
            </a:br>
            <a:r>
              <a:rPr b="0" i="1" lang="en-US" sz="3600" spc="-1" strike="noStrike">
                <a:solidFill>
                  <a:srgbClr val="000000"/>
                </a:solidFill>
                <a:latin typeface="Arial"/>
              </a:rPr>
              <a:t>Savo emocijų ir jų poveikio atpažinimas</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ino, ką ir kodėl jie jauč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ryšius tarp savo jausmų ir to, ką jie galvoja, daro ar sa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kokią įtaką jausmai daro jų veikla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ižymi kryptingu savo vertybių bei tikslų suvokimu.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1B200B-84AB-40CC-9E47-4D4FB18A2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kslus savęs vertinimas</a:t>
            </a:r>
            <a:br>
              <a:rPr sz="3600"/>
            </a:br>
            <a:r>
              <a:rPr b="0" i="1" lang="en-US" sz="3200" spc="-1" strike="noStrike">
                <a:solidFill>
                  <a:srgbClr val="000000"/>
                </a:solidFill>
                <a:latin typeface="Arial"/>
              </a:rPr>
              <a:t>Savo vidinių išteklių, gebėjimų bei ribotumų suvokim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vokia savo stiprybes ir silpny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ę apmąstyti, mokytis iš prae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viri tiesiam grįžtamajam ryšiui, naujoms perspektyvoms, nuolatiniam mokymuisi ir savęs ugdym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 humoro jausmą r gali į save pažvelgti iš šali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6C7227-3B85-45CA-A881-3CDC643AE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itikėjimas savimi</a:t>
            </a:r>
            <a:br>
              <a:rPr sz="4000"/>
            </a:br>
            <a:r>
              <a:rPr b="0" i="1" lang="en-US" sz="3200" spc="-1" strike="noStrike">
                <a:solidFill>
                  <a:srgbClr val="000000"/>
                </a:solidFill>
                <a:latin typeface="Arial"/>
              </a:rPr>
              <a:t>Stiprus savo vertės ir gebėjimų jausmas</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odo pasitikintys, jų buvimas jauč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i išsakyti nepopuliarias bei rizikuoti dėl teisyb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ra ryžtingi, gali priimti sveikus sprendimus, nepaisydami netikrumo ir spaudim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AC17F6-45B1-41C3-B57E-1A8A24977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vikontrolė</a:t>
            </a:r>
            <a:br>
              <a:rPr sz="4000"/>
            </a:br>
            <a:r>
              <a:rPr b="0" i="1" lang="en-US" sz="3200" spc="-1" strike="noStrike">
                <a:solidFill>
                  <a:srgbClr val="000000"/>
                </a:solidFill>
                <a:latin typeface="Arial"/>
              </a:rPr>
              <a:t>Žlugdančių emocijų ir impulsų valdyma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urintys šį gebėjimą žmonė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ai valdo savo impulsyvius jausmus ir slogias emoci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ūna susikaupę, teigiamai nusiteikę ir nepasimeta net išmėginimų akimirkom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udžiami aiškiai mąsto ir lieka susitelkę.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8553B0-90EC-4069-887D-E33D0C481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9T12:02:46Z</dcterms:created>
  <dc:creator>Agne</dc:creator>
  <dc:description/>
  <dc:language>en-US</dc:language>
  <cp:lastModifiedBy>Vartotojas</cp:lastModifiedBy>
  <dcterms:modified xsi:type="dcterms:W3CDTF">2011-05-30T05:23:47Z</dcterms:modified>
  <cp:revision>3</cp:revision>
  <dc:subject/>
  <dc:title>Emocinis intelektas ir jo įtaka efektyviam vadovavimui</dc:title>
</cp:coreProperties>
</file>